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929-6327-466D-9A04-119B74D3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E2C-F004-432B-AA21-E7F3EAFB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600-124A-4C7D-AFC3-6BAEDAE1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749-8503-43DC-ACFD-3A94A972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0025-6205-47C5-80CB-37A829BA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4728-658D-4866-970E-88E5DCCA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A140-79AE-46BF-8C5C-5B5A59E3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D22A-5972-40BE-8470-B85B335E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31CC-914D-4977-AEAA-52C58018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724A-4A51-423D-BBC7-E5414F89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49D6-49CE-49DE-A15D-579074CC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6D6-44F2-41AA-9907-81A8B51A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1BF8-21D2-4775-8275-9FD5AB6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A686-B65B-452A-82AE-40456C70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3CE5-23C6-4B36-A341-3851501D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94C4-F60B-491A-8DE8-1685445F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68CC-3386-4863-854E-99E2C4ED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F4BB-D6B8-47E0-9C7A-622B023D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90675-EE09-4179-9168-7F00798D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03A69-A422-4FD6-A621-362D634D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30E8-A7FE-4D26-9DFE-6022C6DC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B0CCF-4169-4C15-801C-C1771E2B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E30-1263-48E8-A628-645BE550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04F9-48D7-483C-8ECB-47C562A9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34291-D834-4E7D-917A-942C190D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5957-8EAC-4BC6-AEB7-C837FA69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D3B92-2C97-4666-A12E-D2F08046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021A6-5138-45BA-8B56-68296A82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BC516-B5CA-408F-AF87-C5F27D75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8EEDD-C697-4F3A-A4CA-399C93A0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289D-4469-444F-B813-5955C19F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D41CC-0677-4596-8692-27FB776C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2542-4097-402B-AD6A-4E89FB7F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38A-E9A4-4486-969B-3A62901C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7B7BC-E04D-4F89-A552-57A35733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AD0E8-6388-46EB-8F2C-C52C1095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20B1D-B4AC-464B-8D30-F05213A7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9A53E-B428-4CD7-A5C2-1455B605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62ED-2A42-4AB4-A132-49C7D414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D1871-A4C8-4136-B54D-D240023D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E7FA4-8D4B-45C5-AED1-6049D99C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6E3C5-FC55-4DC5-B3F5-8DEAE315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5027-96A2-47FF-BF40-61687BF7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3AAEC-1E2D-43AB-B45A-1CC9ECC25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B44-F8CD-4926-8C6C-CB239339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12188-C208-4EDB-94E9-29668A3F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A02B4-B839-40D3-B3AC-7E50FAC2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232E3-04DA-47C0-B656-0585B46B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AEE96-C0A3-43E5-A93C-098C8020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107DA-ADF1-455E-9055-1F23EEB5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35424-824C-4DB1-84B1-F8D42AED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ECFC-D14C-4661-8BBD-70DD56EE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FA0A7-366F-48E6-B129-8A192F03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5EBAD-9040-4165-AFE7-22697EE6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E7321-EF9F-401B-835E-1D3DE384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ABF-7129-4E5C-A5F0-62F4DAED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8387C-44F5-4A3A-9ABC-47048646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693D-FF08-494C-B83F-54CF7BD6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AEE0C-CA36-47F1-AD3A-3D149CA0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192A7-F630-41D5-9E0E-03F8A17C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5F253-3BDE-4675-8103-D88F873E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FCBF1-96D3-44D2-9869-B6F6C8FB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7D716-4487-45ED-9E9C-E8FFA497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A446D-5A36-458F-816C-270F5272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0257D-91A9-4618-A159-7D21033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E4A3A-A8AF-4AE6-8C80-09B5C138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8C5-2D0E-4299-8AAA-08045983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3ADC8-C6FC-4B77-AB99-82426043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B85FC-957B-4AC9-85C6-AD83253C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4D831-B634-4744-B944-7ADE7B24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930E0-5975-425A-89F5-51BC877F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B2658-88B5-479F-BF16-5216042C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5AB02-4D58-4355-997C-A5B4D2CD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18969-B3DA-47DA-A96C-D7C3F9DA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9EE63-2911-4ABA-8CFF-6213C58F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99FBF-5E59-409B-81E5-9A6FE300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DEA2C-AD75-4C79-9A11-78496303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B98-A520-4C98-B2E9-11A3DD8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FE536-7C4F-4BA1-A892-172BD9F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7CAAE-6A9A-475B-9DC3-81973D44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E8444-FE91-4CD1-B99C-4AE41366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49766-9634-4D96-BC69-771977CA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3D247-F9FC-4B5E-9CC4-F5F91ACF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65886-A740-470C-B5D3-203AF018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BC1ED-F067-4958-BCCD-2FBE7EB3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35F8F-6ADA-481A-8E63-9AA25B75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ECA36-E810-4340-A972-73086729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D7A07-39E2-4BD2-B06D-A85B909B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B86-8A39-427E-A46F-608B9438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707A3-FC5D-4C8E-A983-DEFE06FC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E734-2425-4571-9A43-DDBA7A83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4DA60-02FA-492F-A0AB-0EBA2B6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B23B4-D5AE-4A17-A931-DA72C27D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7C6B4-1317-4128-A543-823B8B7A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0DE33-9988-4A10-A0D9-F7B00621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8CC5A-C0AC-4F89-92F1-184610D5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5E8F-5E54-4785-A518-37072A1CB33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CAA6-BECB-471B-B9DD-8B803A229DE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BE9-0CFC-4291-9EF8-345C026DA53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1A7D-7174-4449-B52D-FA9B4512195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08C1-DDDD-407E-A51E-41F728BD7AF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222C-1303-4E8F-A068-8C3A97EDD17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A5A2-51EA-4313-A340-9EC58DBF607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78F2-DF2B-4B92-89DA-F6139D09A55E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Consumeren met en zonder gel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api.ning.com/files/ZHWSihFB0iaaEh*TmU-m-bqiVlpVvERMW4*gwP4iL4XU0Is-qNuDMNMJGfdW0aNpE-Sd1qkvdvWaYcnV1ahRqAO0HfSP4oAw/IMG_0235.jpg"/>
          <p:cNvPicPr/>
          <p:nvPr/>
        </p:nvPicPr>
        <p:blipFill>
          <a:blip r:embed="rId2"/>
          <a:stretch/>
        </p:blipFill>
        <p:spPr>
          <a:xfrm>
            <a:off x="4932360" y="3149640"/>
            <a:ext cx="2497320" cy="1874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://www.ed.nl/polopoly_fs/1.2152199.1350572418%21/image/image.jpg_gen/derivatives/landscape_800_600/image-2152199.jpg"/>
          <p:cNvPicPr/>
          <p:nvPr/>
        </p:nvPicPr>
        <p:blipFill>
          <a:blip r:embed="rId3"/>
          <a:stretch/>
        </p:blipFill>
        <p:spPr>
          <a:xfrm>
            <a:off x="1908000" y="3149640"/>
            <a:ext cx="2617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behoeften bevredig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je behoeften voorzi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iets te kopen bij een bedrijf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zelfvoorziening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zelf (</a:t>
            </a:r>
            <a:r>
              <a:rPr b="0" lang="en-US" sz="3500" spc="-1" strike="noStrike" u="sng">
                <a:solidFill>
                  <a:srgbClr val="105766"/>
                </a:solidFill>
                <a:uFillTx/>
                <a:latin typeface="Lucida Sans Unicode"/>
              </a:rPr>
              <a:t>dus gratis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) een gerecht bereide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de natuur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genieten van de zo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gebruik te maken van collectieve voorzieningen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fietsen op een fietspad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213.206.66.232/gfx/page/visual/86ht0622.jpg"/>
          <p:cNvPicPr/>
          <p:nvPr/>
        </p:nvPicPr>
        <p:blipFill>
          <a:blip r:embed="rId2"/>
          <a:stretch/>
        </p:blipFill>
        <p:spPr>
          <a:xfrm>
            <a:off x="7566120" y="4508640"/>
            <a:ext cx="157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collectieve voorziening is een voorziening die geheel of grotendeels is betaald van belasting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het gebruik ervan vraagt de overhe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oms een eigen bijdra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Denk bijvoorbeel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 openbaar vervoer en onderw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Thomson Memorial Park.JPG"/>
          <p:cNvPicPr/>
          <p:nvPr/>
        </p:nvPicPr>
        <p:blipFill>
          <a:blip r:embed="rId1"/>
          <a:stretch/>
        </p:blipFill>
        <p:spPr>
          <a:xfrm>
            <a:off x="684360" y="2205000"/>
            <a:ext cx="1730160" cy="129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https://upload.wikimedia.org/wikipedia/commons/thumb/b/bb/Straat_in_woonwijk_Delft.jpg/250px-Straat_in_woonwijk_Delft.jpg"/>
          <p:cNvPicPr/>
          <p:nvPr/>
        </p:nvPicPr>
        <p:blipFill>
          <a:blip r:embed="rId2"/>
          <a:stretch/>
        </p:blipFill>
        <p:spPr>
          <a:xfrm>
            <a:off x="2446200" y="2235240"/>
            <a:ext cx="1730520" cy="1299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http://www.hilversumbeterbereikbaar.nl/files/Impressie%20Fietspad%20Langs%20de%20Lijn%20640px.jpg"/>
          <p:cNvPicPr/>
          <p:nvPr/>
        </p:nvPicPr>
        <p:blipFill>
          <a:blip r:embed="rId3"/>
          <a:stretch/>
        </p:blipFill>
        <p:spPr>
          <a:xfrm>
            <a:off x="4184640" y="2235240"/>
            <a:ext cx="1749600" cy="131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https://upload.wikimedia.org/wikipedia/commons/1/1a/Logo_Portaal_Openbaar_Vervoer_2.jpg"/>
          <p:cNvPicPr/>
          <p:nvPr/>
        </p:nvPicPr>
        <p:blipFill>
          <a:blip r:embed="rId4"/>
          <a:stretch/>
        </p:blipFill>
        <p:spPr>
          <a:xfrm>
            <a:off x="2405160" y="3535200"/>
            <a:ext cx="3529080" cy="1130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7" descr="http://www.leusden.nl/624/onderwijsinspectie/files/onderwijs.jpg"/>
          <p:cNvPicPr/>
          <p:nvPr/>
        </p:nvPicPr>
        <p:blipFill>
          <a:blip r:embed="rId5"/>
          <a:stretch/>
        </p:blipFill>
        <p:spPr>
          <a:xfrm>
            <a:off x="5929200" y="2195640"/>
            <a:ext cx="20844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rmule i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nieuw – oud) : oud x 100 = ……%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1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0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5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€ 35.000 - € 30.000) : € 30.000 x 100 = 16,67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78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8-27T07:10:59Z</dcterms:modified>
  <cp:revision>11</cp:revision>
  <dc:subject/>
  <dc:title> </dc:title>
</cp:coreProperties>
</file>