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F1B-67F6-4228-AEAA-125595B5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C44-B1C0-4BF8-BFDB-15100100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057-5C87-44AF-8314-85F3D1A6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923-DA4C-4950-A601-CB7D05AD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402C-695E-4286-A613-13149741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29B5-FC70-42D0-BF7C-9F2BB893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EDA9-A240-4E14-9D10-B8E2ABC2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6E6A-8555-47D0-AC4E-D5D3F157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ED83-7CEA-4F42-8279-F95DC984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27A6-054C-4E68-A524-059B74B9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FC6C-CE74-4740-8A1F-4C0146D2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BC9-03B7-49DF-8C0F-EA54D6B5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F00A-044A-413C-BBB4-1EDD28CB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8BEF-2253-4833-80DE-A72D5D5D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2411-03B1-42DE-9597-6533077C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7029-2636-4998-836A-B2E6CC55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E22F-42D9-481B-A0CB-B3B312D0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2DA3-6DAB-43B1-8936-D790E1DF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9D621-5E55-4946-A823-F0DA2250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307C6-AFDD-4A29-A1E6-D7B28823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67427-1FB1-4A8C-ABEF-9BA17A88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05969-B61F-4729-BA82-A0AD8A90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6BA-41C9-4038-B6A0-6B90C41D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0506-D48B-4061-88D0-B49F173F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C73E5-D5A0-4ADD-8674-4289E0B7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DABE-082F-44C2-82FD-B766DC9B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0BFE-2B0E-45E9-BBE1-27D1161E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EE5A-CEC0-4772-8785-0537DCD0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B57F-72F8-4D63-AE02-126AD6F2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837EE-D7E1-462A-BD2A-2AE2AE65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4276-0058-4292-A850-5139FE9D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1796F-1EEC-4D8C-915C-D72FB221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88F1C-7A65-4DFD-B9A9-E9757202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105-ECE8-4138-B3F2-26A070E8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AE367-5138-49D6-8FB8-258C3FED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923B2-9E3D-4B58-BF88-AD815730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831E9-938C-42CF-BC54-57061D3D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83EC5-4891-429E-9FC6-3D2EAACA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BC9C-1CE9-48DA-9373-82603256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94CC5-79EA-44E3-99A9-5BB4E057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04CCA-E628-40C0-BE75-1028804E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8955A-7E9B-436C-B272-0101A077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9E003-2642-4782-86A8-A9787CBF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AB2B6-E00B-4AB5-BB87-F9440210B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373-A89F-42E4-B4ED-37DB0DFD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CB038-9BFF-4A9E-82B3-1B598AC4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33928-9BB0-4E8D-8AEC-3BAA50D0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25F16-4E77-4ED2-9CE5-2A4DC80E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C657-3FBF-469F-A63A-C8DB449F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71BA1-8B2A-4223-B885-B62DA078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DF024-5567-4120-AFED-01BCDEFF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1CE48-9A68-4434-873E-E3948B69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99C3-0A6D-4909-A2A4-0B3E07D8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C6E16-0605-40DF-9FEC-F11DF8AA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01CB-6B1C-4341-AFA1-90A6A361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9C9-3BD7-430B-B323-0ADA3973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26D85-420E-4943-A596-547F8DBF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FE934-3559-426D-83BC-03CB0743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B315-CB17-4475-8437-D1C35764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1AABA-0FC6-43FD-952C-86C7C2DA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4D52D-006F-4032-B7D3-AE51797F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F5675-30FC-465B-B0D6-E840DA51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BB464-8BA3-4925-A7D3-A68FCC40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2E877-55FD-42F1-9BD6-8D58E2A4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B7BA1-5CE9-44BF-98CF-5FF03E5C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7A09E-EA0F-4128-8C1C-CD993A50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78B-FB26-46F2-AD2B-1499C749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03C14-C5E7-4A23-9B80-B675B4CF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7647D-77D8-4DAA-B9B7-FCF48F32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E07DA-591C-4816-BA7E-79A88260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F921F-60A0-4DE4-9580-AB674E03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418C5-9342-44DA-BA36-2F9B9F84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9B7CF-407D-45EB-957C-50BBB25B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0F442-18AD-4225-91B7-E48156D3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20BDA-9F7C-406A-8065-B6107051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FE3FF-E08E-423B-98E3-61B2D50E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6BE19-4BCB-4F04-8C89-911A8A67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03F-3CCA-45EA-9168-E20311F6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C42FC-EEBD-44DD-916F-33CBB5BD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9E797-8606-4347-8A56-A592C768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0748B-3E4C-4239-8E5F-8FAD2C17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96A8-A4A7-40B1-9AC0-55A78942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A19AD-F913-4171-8D45-021BA89B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323FF-94AA-4608-9A5F-75E94989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EAC5B-07DA-453D-B749-E66DCBF7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A34EA-D775-4D6D-B04D-996414EC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82D53-EBC8-4345-98CA-5A9D691B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7A7EB-929D-48CB-8ACA-D9C95F4A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7AE-2DB8-49E0-8FAB-F5E3E23F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7E7F3-4889-4CA7-9AAD-E723599E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8821A-31C1-4B09-9F2E-3E5921E5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5FF1C-B020-4A33-887E-F78655A7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F5A3D-D5D0-440B-A6B7-1F2746E1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A4D21-E6FA-47B1-9C48-385F4A16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736C7-544A-46B3-AAD4-3CC082D2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398DF-EDD4-4E05-8995-3FFC2E06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1859-7AD0-404F-8D98-352CFAEF75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0784-CECB-4233-A904-1569B018882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73F1-74DF-41FC-97A1-F1FBFEBE823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3A30-7E73-441D-934F-DD517A59C26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305D-6327-4377-B29C-B3054A8768E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A2CA-7002-4AB8-BE02-384F59FEFB5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2EF2-418D-475F-8185-1775F009960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29FB-3FD6-4372-B59E-AA78B051138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ijt achtera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onnenprinten.nl/images/algemene-voorwaarden.jpg"/>
          <p:cNvPicPr/>
          <p:nvPr/>
        </p:nvPicPr>
        <p:blipFill>
          <a:blip r:embed="rId2"/>
          <a:stretch/>
        </p:blipFill>
        <p:spPr>
          <a:xfrm>
            <a:off x="0" y="0"/>
            <a:ext cx="2997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r en verkoper sluiten een koopovereenkomst af. Dit kan zowel schriftelijk als mondeling. Een koopovereenkomst kan niet zomaar worden opgezeg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overeenkomst = overeenstemming over de aankoop van een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 de koopovereenkomst vloeien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recht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icht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t voor zowel de koper als de verkoper (= algemene voorwaar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levering van een deugdelijk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ugdelijk product = product dat bij norma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bruikt voldoet aan de verwacht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li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het op tijd betalen van het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ondeugdelijk product heeft de koper recht op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l in deze volgorde!!!)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parati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der exemplaar (= vervanging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geld terug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4" descr="http://ww2.autoscout24.nl/advies/koopcontract/173967/148486/as24.ratgeber.sell.handling.contract.png"/>
          <p:cNvPicPr/>
          <p:nvPr/>
        </p:nvPicPr>
        <p:blipFill>
          <a:blip r:embed="rId1"/>
          <a:stretch/>
        </p:blipFill>
        <p:spPr>
          <a:xfrm>
            <a:off x="4586400" y="5273640"/>
            <a:ext cx="4572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portagew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schermt de consument tegen aankopen aan de deur of tijdens houseparty’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koper moet een schriftelijk contract opgeven bij de Kamer van Koophan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enktijd om de koop op te zeggen is 14 dagen, tenzij het bedrag € 50 of minder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psfm.nl/wp-content/uploads/2012/08/KPN-g.jpg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5280" y="76500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t koop op afsta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ze wet beschermt de consument voor aankopen via internet, telefoon of pos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óór de koop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ldoende informatie over zichzelf en het product ge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het product binnen 30 dagen leve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koper heeft bedenktijd om de koop op te zeggen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i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 v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goedere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stell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ienst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4" descr="http://tilburgers.nl/wp-content/uploads/2014/06/jongeren-vaker-slachtoffer-online-winkelfraude-300x168.jpg"/>
          <p:cNvPicPr/>
          <p:nvPr/>
        </p:nvPicPr>
        <p:blipFill>
          <a:blip r:embed="rId1"/>
          <a:stretch/>
        </p:blipFill>
        <p:spPr>
          <a:xfrm>
            <a:off x="6910560" y="17640"/>
            <a:ext cx="223344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meningsverschil tussen koper en verkoper kan de kop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aan een geschillencommissie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een rechter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 hulp en advies vragen aan een consumentenorganisatie (zoals de Consumentenbond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overeenkomst kan door de rechter ongeldig worden als er sprake 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minderjarige koper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dit is alleen het geval als de verkoper kan weten dat de ouders het niet eens zijn met de koop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koper die onder curatele is gestel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bijv. iemand met een zware verslaving of verstandelijke beperking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dreiging, bedro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met kwade opzet iemand oplichten),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walin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verkeerde voorstelling van iets wat je gekocht hebt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Afbeeldingsresultaat voor rechter"/>
          <p:cNvPicPr/>
          <p:nvPr/>
        </p:nvPicPr>
        <p:blipFill>
          <a:blip r:embed="rId1"/>
          <a:stretch/>
        </p:blipFill>
        <p:spPr>
          <a:xfrm>
            <a:off x="7218360" y="5611680"/>
            <a:ext cx="18702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0T09:32:51Z</dcterms:modified>
  <cp:revision>26</cp:revision>
  <dc:subject/>
  <dc:title> </dc:title>
</cp:coreProperties>
</file>