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18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4CB5-DF9A-4AA5-96C1-5F092A4B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8244-8E12-4DA6-A575-8F187956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7D79-AB10-4A6B-9D9D-BC6D09D5E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A6C7-5CE5-4081-A7BE-7866ABC3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E840-325C-4D53-AA95-85DF3B14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FA3A-2D2E-42F4-B41D-820F888C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036C-D84E-4175-8FB6-7CCD453B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FD78-ADFA-4E53-B932-014E0E97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8FBE-1E22-4119-A50B-60C2F804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EAA6-90EA-4BF8-A0BB-C454D2D2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1AA2-4213-4E02-9BB7-8D8FE365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65C0-2D77-48A2-B812-6057DF64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DA33-1545-4385-B912-0DAACF90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A152-B79D-4D65-9197-C32934D7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A319-F08E-475A-9DDB-2E0D409C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8E2C-1139-446C-BBEC-79906242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8514-5C5D-4E65-B463-9BB08699A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A7FC6-F116-410C-83BD-366363079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561C7-4D79-440E-BCA4-49996E66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FA0AC-15BC-44E2-981C-C9EF3CF1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4C2A9-521E-445A-82A9-7F99C136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2295C-675A-40FD-BD36-37336F33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AC56-9106-4D64-9517-5F17505D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8CCE4-043E-4042-800B-1FF9C5E0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09086-1F6A-45EB-9937-4533EF6C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C87B8-66C8-41C8-95B1-9A52F5FB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BF668-FEC2-44EA-931D-C9482CDD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1BC02-1AE6-4DE1-A5C6-8701AF6F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9B593-88CB-4365-B5EB-4E558431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9BBA6-B4AB-48DE-A7A8-135186E7F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DF3E5-68C0-491F-89FE-B2DDD099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A93FC-1B07-46BF-8421-06D05DD5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097CA-64E7-4D07-A346-42F2452A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9389-5F1D-471A-890D-A9F0AA30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AAD93-5A08-47DE-AAAB-8A4AEBAE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8787F-5EAB-46BB-9F89-558F676F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58366-CB8A-442B-8379-CB2D44D7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8C6E3-E71C-4A29-8520-1F562FE6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7519C-338B-46CD-BD58-6DFDFC0F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24391-1957-4950-85F7-DD046DE4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E536F-C1D9-4C9D-B162-9936F951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F763B-06F5-4D04-BFC2-03316312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B0D7C-153E-4DE0-9D86-EAF46C9D6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8BEEE-8705-487C-9CA5-2A0CB44A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AE2E-DDA1-4A0B-9B0F-02155045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796D6-8E93-452C-BDC4-6737543A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D398C-1DC9-4CDE-A9A6-CF49008C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BC7FA-5C15-40CF-A38F-5914BC5F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15CBD-0004-4614-A5AE-ED90B54B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6EE39-8F39-4AA0-92FB-11FC13EB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40A2B-851A-4215-BE7E-D51CE809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FFF08-B96A-42D2-809F-602FE9CA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3305E-5915-4072-B21C-0039D67D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633AE-ACF0-448D-BEEB-A53DB01D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48D0B-229F-4B6D-80D5-18850436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9C77-FFEC-41A3-BE06-672A6C2C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27B85-456A-4A7D-841D-9CFEA1D30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91675-507C-421F-94F7-336D72A1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5458D-6099-4969-9E33-60B82685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5DF3A-D35F-4EE6-A8A6-250AFCFD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9E3C3-8A17-4F38-8E98-AC22A962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84AD7-851E-481F-9168-E11F8871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1EE63-5558-45F1-80B5-6E35E451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95F18-0F05-406B-8D06-4D7DD17A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52293-4650-441A-9BCB-BC2892B7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F6AF7-06FE-47BF-ADFF-3B086F2F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3136-25C2-4079-92DA-C3C96194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D89DC-4CC9-46F6-8070-72D59A19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669B9-22CE-4C56-B581-4B981991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E082B-9A05-41C1-9681-0A4FFF2D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45EC0-0020-4E0D-A0FA-1E08176A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F3E3C-7350-4868-A318-88B655C4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05666-7C2A-4344-81E6-6978042C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413A6-6E50-448E-8F1D-A3487434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043CF-5E6C-4E26-BE7F-B9E6596A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7A5DF-D15B-45FC-98FE-57CFDA82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6C210-3024-4070-B189-945CD335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840D-2491-4074-8688-3CDF0B5E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46611-DF20-447A-A3C3-5AE963FD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D688F-8F54-4D58-847B-05A23A5E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771E2-DEFC-4EC8-9302-85853F5E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0E443-EFA5-4D15-8EA8-B48DAF131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E34EE-26B4-4A82-B95D-34523C850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7882A-8991-4334-B0D5-ACF10481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5C31B-B8BC-4F65-AB2A-52EDDDEC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231E1-89C1-4A23-96E9-D3B98A61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566F4-2EDC-4C28-9F70-79E7DB28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4C31C-D5B8-4E1F-B70E-EB31B1AC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3558-A16C-49A2-9703-A7CC461D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2EFC9-3728-4FC9-AEFF-EB580951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46A37-F647-4128-B4EE-C961C652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53390-0C72-4133-A685-D78CA769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2AF81-EE37-4FB7-B6FE-215E3501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14175-C678-43AB-B01B-E9C73CF4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EF874-4A70-49C0-8BE8-48CB9B16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B618C-DA12-4A5E-B5E0-203F095B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2295-3027-4D43-A006-B5170ED14C8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CC83-4F82-4C71-BF40-2D0BC8E2E93C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F2C3-A4B5-43DA-969F-24B9B04056E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8611-9955-4038-BF25-B120112B80B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AF9F-E536-4FFF-B146-03EE0E6C7E3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1365-5632-499C-B9B9-498531D29DC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5620-D1E9-40DB-ABF6-8FB444FC695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6C93-7E04-4BB9-8165-A228063250D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emistvoornmt.nl/a.aspx/1337189400/1" TargetMode="Externa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Kopen een kuns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samuraihorloge.nl/files/3486/editor/images/lewinklewagen.png"/>
          <p:cNvPicPr/>
          <p:nvPr/>
        </p:nvPicPr>
        <p:blipFill>
          <a:blip r:embed="rId2"/>
          <a:stretch/>
        </p:blipFill>
        <p:spPr>
          <a:xfrm>
            <a:off x="0" y="0"/>
            <a:ext cx="22050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ilie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8" name="Picture 6" descr="http://www.seniorennet.be/Images/Magazine/7/original/spaarlamp1.jpg"/>
          <p:cNvPicPr/>
          <p:nvPr/>
        </p:nvPicPr>
        <p:blipFill>
          <a:blip r:embed="rId1"/>
          <a:stretch/>
        </p:blipFill>
        <p:spPr>
          <a:xfrm>
            <a:off x="895320" y="2008080"/>
            <a:ext cx="3384720" cy="25131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8" descr="http://www.wageningenur.nl/upload_mm/6/f/4/b421c075-dd8d-48d3-a079-eaf72f9e7d4d_Bio%2B%20Appelstroop_490x330.jpg"/>
          <p:cNvPicPr/>
          <p:nvPr/>
        </p:nvPicPr>
        <p:blipFill>
          <a:blip r:embed="rId2"/>
          <a:stretch/>
        </p:blipFill>
        <p:spPr>
          <a:xfrm>
            <a:off x="3276720" y="4568760"/>
            <a:ext cx="2849400" cy="19195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0" descr="http://www.want.nl/wp-content/uploads/2015/04/AUTODOCK-WANT.jpg"/>
          <p:cNvPicPr/>
          <p:nvPr/>
        </p:nvPicPr>
        <p:blipFill>
          <a:blip r:embed="rId3"/>
          <a:stretch/>
        </p:blipFill>
        <p:spPr>
          <a:xfrm>
            <a:off x="4307040" y="2008080"/>
            <a:ext cx="43192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e hoger het inkomen, hoe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meer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uxe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producten zijn die een consument ka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68360" y="765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uden vergelijkende warenonderzoeken (= tests van verschillende merken en typen van hetzelfde product;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info over prijs en kwalitei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ven voorlich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arschuwen tegen misleidende recla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lpen bij klacht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jzen op de risico’s van e-commerce (= de koop en verkoop van producten via het interne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gemistvoornmt.nl/a.aspx/1337189400/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el 2" descr=""/>
          <p:cNvPicPr/>
          <p:nvPr/>
        </p:nvPicPr>
        <p:blipFill>
          <a:blip r:embed="rId2"/>
          <a:stretch/>
        </p:blipFill>
        <p:spPr>
          <a:xfrm>
            <a:off x="237960" y="189000"/>
            <a:ext cx="84488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06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http://images0.tcdn.nl/incoming/article21277273.ece/BINARY/u/consumentenbond3.jpg"/>
          <p:cNvPicPr/>
          <p:nvPr/>
        </p:nvPicPr>
        <p:blipFill>
          <a:blip r:embed="rId3"/>
          <a:stretch/>
        </p:blipFill>
        <p:spPr>
          <a:xfrm>
            <a:off x="395280" y="1341360"/>
            <a:ext cx="3495600" cy="23288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http://www.bandenserviceflakkee.nl/content/news_messages/32/lightbox/Anwb.jpg"/>
          <p:cNvPicPr/>
          <p:nvPr/>
        </p:nvPicPr>
        <p:blipFill>
          <a:blip r:embed="rId4"/>
          <a:stretch/>
        </p:blipFill>
        <p:spPr>
          <a:xfrm>
            <a:off x="611280" y="3987720"/>
            <a:ext cx="2881080" cy="20574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6" descr="logo-old"/>
          <p:cNvPicPr/>
          <p:nvPr/>
        </p:nvPicPr>
        <p:blipFill>
          <a:blip r:embed="rId5"/>
          <a:stretch/>
        </p:blipFill>
        <p:spPr>
          <a:xfrm>
            <a:off x="4572000" y="1427040"/>
            <a:ext cx="3870360" cy="21560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https://www.eigenhuis.nl/static/images/content/logo.gif"/>
          <p:cNvPicPr/>
          <p:nvPr/>
        </p:nvPicPr>
        <p:blipFill>
          <a:blip r:embed="rId6"/>
          <a:stretch/>
        </p:blipFill>
        <p:spPr>
          <a:xfrm>
            <a:off x="4716360" y="4149720"/>
            <a:ext cx="395928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40464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 het consumeren kan een consument beïnvloed worden door verschillende zak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e mening van vrienden, kennissen en famili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Picture 3" descr=""/>
          <p:cNvPicPr/>
          <p:nvPr/>
        </p:nvPicPr>
        <p:blipFill>
          <a:blip r:embed="rId1"/>
          <a:stretch/>
        </p:blipFill>
        <p:spPr>
          <a:xfrm>
            <a:off x="2268360" y="2421000"/>
            <a:ext cx="518652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clame (veelal merkreclam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7" name="Picture 2" descr="http://oudwww.bonhoeffer.nl/economie/reclame01.JPG"/>
          <p:cNvPicPr/>
          <p:nvPr/>
        </p:nvPicPr>
        <p:blipFill>
          <a:blip r:embed="rId1"/>
          <a:stretch/>
        </p:blipFill>
        <p:spPr>
          <a:xfrm>
            <a:off x="2700360" y="1989000"/>
            <a:ext cx="446400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ennis van producten en dienst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0" name="Picture 2" descr="http://static.apparata.nl/images/2014/cat-b15q-telefoon.jpg"/>
          <p:cNvPicPr/>
          <p:nvPr/>
        </p:nvPicPr>
        <p:blipFill>
          <a:blip r:embed="rId1"/>
          <a:stretch/>
        </p:blipFill>
        <p:spPr>
          <a:xfrm>
            <a:off x="1547640" y="2492280"/>
            <a:ext cx="604872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eigen smaak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3" name="Picture 2" descr="http://i1195.photobucket.com/albums/aa383/Kaiotje/ASSEM/Smaakbanner.jpg"/>
          <p:cNvPicPr/>
          <p:nvPr/>
        </p:nvPicPr>
        <p:blipFill>
          <a:blip r:embed="rId1"/>
          <a:stretch/>
        </p:blipFill>
        <p:spPr>
          <a:xfrm>
            <a:off x="1258920" y="2421000"/>
            <a:ext cx="69912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leeftij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1619280" y="2421000"/>
            <a:ext cx="587520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amenstelling van het gez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ld (=financiële mogelijkhed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1619280" y="2637000"/>
            <a:ext cx="6070680" cy="35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chnische ontwikke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646776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ilighei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71832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5-09-01T11:44:13Z</dcterms:modified>
  <cp:revision>24</cp:revision>
  <dc:subject/>
  <dc:title> </dc:title>
</cp:coreProperties>
</file>