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FDC-1B6C-4AEC-8906-F4D362E1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C13-3E10-40AE-AAAF-D5087B92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91E-4049-4441-82E9-8E7AA7F5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26A-AAD1-44F3-A702-E02C1589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303A-A577-4DCD-9948-24513686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8102-A740-449C-9209-EE0406E8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8686-A7B3-48B0-A82D-8CC196E4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3066-F11E-4D7B-A48C-029E1C12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310C-3E73-4134-AE20-3EDABD25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AB0B-F0E2-4766-9747-32F4B088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82DD-EE67-46CE-AD93-46CC0DD1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81A-CA45-4C03-95E3-C9C137FD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4C66-567E-4BC1-894C-EF62B67E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2A30-3BA5-4BB4-AD14-F06B9243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E780-7608-4DCF-8985-57544080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43AE-2BF2-457A-8108-E15B81E1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1F9E-D45D-4842-BC10-CEA6AD05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06762-20AC-4728-A7E4-1BB1005C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40F43-768A-4902-90CF-D52EE73A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45BE2-7B5C-49FE-82E3-C76EA0B1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1496-B79A-46BA-8961-BF458FD8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1A406-E942-443A-A5FE-6EE1FF98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E20-3645-4ADE-AE3B-60801424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2DD3-1180-4233-8D68-7942413B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2802-36F3-479E-A8EC-C44C9FBB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2429-2FDD-40D7-BE03-F4D18B23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5E847-20D0-4235-8E59-26D4E9C9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93A6-60DD-4EAF-9061-CB5C284C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59EE-3D69-46EE-BD32-311F83B6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F97F0-CD7C-4ACF-B280-5D206107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1C412-8864-4FEB-A9A5-F90734F1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BD81F-4F8E-4891-BECD-B3A7861F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6DFCD-863E-4F1D-A06A-B5516ECA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388-495D-4024-B5A5-B1DD2720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B881D-4B92-47C4-BF56-4A13796C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FEE89-3285-4DDB-AA5F-A0001F23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9A308-FEA7-4551-B6F2-9119B57C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D094F-352E-4249-8343-D72A1CE5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1454-3E29-4761-86BB-B0667334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099CF-87E0-4233-83A1-89579771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4B18-96A7-4565-B7E1-BA8BEC4C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BA278-84AD-471C-93CE-2B125E0E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764C7-66CE-433C-BA4E-9FADF50D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53B9-E12E-45E3-8EC2-87FA7C1A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CF0-D996-4D51-9265-E8C8757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45617-EAB7-45BB-8FBB-C649EDC0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994B3-FDDB-41A1-9E25-B708AF33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943A4-B986-43CD-AEF3-683333EB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0E8A-DC92-48B9-B2C9-C686332D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3E329-EA5E-48E9-981B-8C6C680A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A8072-9552-4560-93CF-46E9A7B3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5E372-031A-48D2-BA52-075B8EFC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BA311-B0B3-4DA5-B8F6-418BF10C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E0FF4-C624-4190-854F-6CAEFFA4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53C64-BACF-4D69-9F04-F5390760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0A5-3F4D-45D2-B285-D8A80B7A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552B1-433A-4528-8206-ED126D46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4D2C1-01CA-4B48-84A6-8BFCA0EE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91002-4073-4CFC-9498-111D2A4B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92CAB-8BD6-4BAF-9E94-9A0D50FB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2C3E1-93AF-45CC-8373-99DA5E1A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DF060-891C-4349-AD91-29B7F2A8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D216B-94E5-4368-A941-229AC250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32DE9-1196-4A2B-B004-092B145A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DB309-220E-4F66-B6E2-C90060AF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D5FE8-12C4-43CA-AD82-F5CD0CA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780-5AB7-4917-8C15-AF5FA8E7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7B176-208B-46AC-9BC3-FDC78A56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541D0-AD34-40E1-BB12-B733B785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5254D-F0EB-4D97-A18E-C3690843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0FACF-957B-4D04-8F22-B91E1A2B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EEFC7-2134-4F54-8BDB-693FE375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2E04-37BD-44CF-B285-7DB7A6A2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620F2-4EEA-414D-8A3B-D147FB0E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A25FA-A81F-4CA7-A475-BF454E0A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BB4B-C730-44EB-BD1B-BB923ECD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17DA0-A6E1-4133-A267-A00BCB24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D33-3920-4E80-9552-4E5F1D68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9D420-399C-4570-A5A0-5E6ABAD5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4B7B0-C9EB-468B-97EB-B17E2A76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ECF19-D0F2-47E8-BEA0-B1E1DFCC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D7F7A-6D15-4FFE-95BF-921ACEAF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D0E91-8438-48C2-BCD2-E7690A57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C8447-C727-4D89-A70F-65F244CB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8951A-3BAF-4185-BD6B-2B9BA9D7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E9D5-91E9-48A0-8FCF-AC61FDCB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721E9-E2F2-4CA3-A123-27724AFE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2A513-817A-4540-8BE1-D558FD64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49C-980D-4845-AA71-A3A178F1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3ED85-CA54-445D-8A3C-810257FB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3B6F7-DDEF-45A5-80F0-BE92E16F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32663-FC58-44FD-AC5C-C6B48AF1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479AE-FF43-419B-86D6-6C5983E6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B1E74-D6A8-4199-9CAF-B1A45234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DF5E0-E7EC-4009-BAB0-B8BA83B5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BB9A7-33AD-469B-B618-C960B231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7F18-42E9-468D-8B32-5E9848ED0CA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608F-DED0-41CC-AF98-B62BF0E2906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F4CB-8FA6-411D-955A-98975F2E90E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9C38-EEDC-4C5F-9344-318D01B0082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2ECB-138C-4B0A-AFA5-F24A79DB503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68A0-2662-4814-90AF-A3F38E47167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A556-62B7-433A-938F-982AF1CC5E1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FEC9-9F0F-4E89-875A-16257B4B70B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64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is kiez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www.autismeplein.nl/wp-content/uploads/2013/01/keuzes.png"/>
          <p:cNvPicPr/>
          <p:nvPr/>
        </p:nvPicPr>
        <p:blipFill>
          <a:blip r:embed="rId2"/>
          <a:stretch/>
        </p:blipFill>
        <p:spPr>
          <a:xfrm>
            <a:off x="2627280" y="3110040"/>
            <a:ext cx="3673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oeften = alles wat je nodig hebt of graag wilt hebb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asis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xe (overige) 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ttp://www.beleefoostpoort.nl/uploaded_files/inlineitem/Genieten_eten_drinken.png"/>
          <p:cNvPicPr/>
          <p:nvPr/>
        </p:nvPicPr>
        <p:blipFill>
          <a:blip r:embed="rId2"/>
          <a:stretch/>
        </p:blipFill>
        <p:spPr>
          <a:xfrm>
            <a:off x="1403280" y="2637000"/>
            <a:ext cx="1944720" cy="1409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http://www.houseofoutdoor.com/wp-content/uploads/2014/07/kleding-2013.jpg"/>
          <p:cNvPicPr/>
          <p:nvPr/>
        </p:nvPicPr>
        <p:blipFill>
          <a:blip r:embed="rId3"/>
          <a:stretch/>
        </p:blipFill>
        <p:spPr>
          <a:xfrm>
            <a:off x="3851280" y="263700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5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7" descr="Gerelateerde afbeelding"/>
          <p:cNvPicPr/>
          <p:nvPr/>
        </p:nvPicPr>
        <p:blipFill>
          <a:blip r:embed="rId4"/>
          <a:stretch/>
        </p:blipFill>
        <p:spPr>
          <a:xfrm>
            <a:off x="6161040" y="2637000"/>
            <a:ext cx="1971720" cy="147636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9"/>
          <p:cNvSpPr/>
          <p:nvPr/>
        </p:nvSpPr>
        <p:spPr>
          <a:xfrm>
            <a:off x="155520" y="-2239920"/>
            <a:ext cx="69915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1" descr="Gerelateerde afbeelding"/>
          <p:cNvPicPr/>
          <p:nvPr/>
        </p:nvPicPr>
        <p:blipFill>
          <a:blip r:embed="rId5"/>
          <a:stretch/>
        </p:blipFill>
        <p:spPr>
          <a:xfrm>
            <a:off x="1979640" y="4680000"/>
            <a:ext cx="2448000" cy="1628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3" descr="http://www.anwb.nl/bestanden/content/gallery/anwb/portal/vakantie/etalagebeelden/reisorganisaties.jpg"/>
          <p:cNvPicPr/>
          <p:nvPr/>
        </p:nvPicPr>
        <p:blipFill>
          <a:blip r:embed="rId6"/>
          <a:stretch/>
        </p:blipFill>
        <p:spPr>
          <a:xfrm>
            <a:off x="5148360" y="4749840"/>
            <a:ext cx="3095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"/>
          <p:cNvPicPr/>
          <p:nvPr/>
        </p:nvPicPr>
        <p:blipFill>
          <a:blip r:embed="rId2"/>
          <a:stretch/>
        </p:blipFill>
        <p:spPr>
          <a:xfrm>
            <a:off x="455760" y="324000"/>
            <a:ext cx="8156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oederen zijn producten die tastbaar zijn; je kan ze dus aanr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ensten zijn producten die niet tastbaar zijn; je kan ze dus niet aanraken. De een doet iets voor de and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http://www.gortzen.eu/werkenindelogistiek/kiem/handel1e/taxi.jpg"/>
          <p:cNvPicPr/>
          <p:nvPr/>
        </p:nvPicPr>
        <p:blipFill>
          <a:blip r:embed="rId2"/>
          <a:stretch/>
        </p:blipFill>
        <p:spPr>
          <a:xfrm>
            <a:off x="1979640" y="46544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http://www.karizmabyhakan.nl/wp-content/uploads/dames-heren-kapper-hakan.jpg"/>
          <p:cNvPicPr/>
          <p:nvPr/>
        </p:nvPicPr>
        <p:blipFill>
          <a:blip r:embed="rId3"/>
          <a:stretch/>
        </p:blipFill>
        <p:spPr>
          <a:xfrm>
            <a:off x="4211640" y="4654440"/>
            <a:ext cx="2076480" cy="138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https://encrypted-tbn3.gstatic.com/images?q=tbn:ANd9GcS-8Wd4SlTLQsZXZ8Dwu1d-hxOw7BKtqB9Tj3ZSYqViYXBNrIR1NQ"/>
          <p:cNvPicPr/>
          <p:nvPr/>
        </p:nvPicPr>
        <p:blipFill>
          <a:blip r:embed="rId4"/>
          <a:stretch/>
        </p:blipFill>
        <p:spPr>
          <a:xfrm>
            <a:off x="6732720" y="4654440"/>
            <a:ext cx="2016000" cy="13431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http://www.centrameubel.nl/media1/store%20eettafel.jpg"/>
          <p:cNvPicPr/>
          <p:nvPr/>
        </p:nvPicPr>
        <p:blipFill>
          <a:blip r:embed="rId5"/>
          <a:stretch/>
        </p:blipFill>
        <p:spPr>
          <a:xfrm>
            <a:off x="6288120" y="2039760"/>
            <a:ext cx="2435040" cy="115272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13"/>
          <p:cNvSpPr/>
          <p:nvPr/>
        </p:nvSpPr>
        <p:spPr>
          <a:xfrm>
            <a:off x="63360" y="-136440"/>
            <a:ext cx="69915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Gerelateerde afbeelding"/>
          <p:cNvPicPr/>
          <p:nvPr/>
        </p:nvPicPr>
        <p:blipFill>
          <a:blip r:embed="rId6"/>
          <a:stretch/>
        </p:blipFill>
        <p:spPr>
          <a:xfrm>
            <a:off x="4373640" y="2023920"/>
            <a:ext cx="175428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geldt het volgen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e rijker de mensen, hoe meer producten zij als noodzakelijk erva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reenert.lu/files/sauna_wohl.jpg"/>
          <p:cNvPicPr/>
          <p:nvPr/>
        </p:nvPicPr>
        <p:blipFill>
          <a:blip r:embed="rId2"/>
          <a:stretch/>
        </p:blipFill>
        <p:spPr>
          <a:xfrm>
            <a:off x="455760" y="2863800"/>
            <a:ext cx="2689200" cy="15130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http://3.bp.blogspot.com/-uxNZMCsCUjI/U9Iz5ve3ojI/AAAAAAAASxg/SQDPwMnxjto/s1600/Samsung-Smart-Tv.jpg"/>
          <p:cNvPicPr/>
          <p:nvPr/>
        </p:nvPicPr>
        <p:blipFill>
          <a:blip r:embed="rId3"/>
          <a:stretch/>
        </p:blipFill>
        <p:spPr>
          <a:xfrm>
            <a:off x="3276720" y="3556080"/>
            <a:ext cx="2606400" cy="175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http://i.ytimg.com/vi/-QwVwFqiRGU/maxresdefault.jpg"/>
          <p:cNvPicPr/>
          <p:nvPr/>
        </p:nvPicPr>
        <p:blipFill>
          <a:blip r:embed="rId4"/>
          <a:stretch/>
        </p:blipFill>
        <p:spPr>
          <a:xfrm>
            <a:off x="6084720" y="5157720"/>
            <a:ext cx="2880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en moeten kiezen uit hun behoeften, omdat er schaarste is aan geld en tij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1 (schaarste aan geld): iemand kan met 50 euro geen nieuwe fiets én telefoon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2 (schaarste aan tijd): iemand kan niet tegelijkertijd slapen en spor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9-11T11:01:20Z</dcterms:modified>
  <cp:revision>14</cp:revision>
  <dc:subject/>
  <dc:title> </dc:title>
</cp:coreProperties>
</file>