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9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B7A5-DAE6-4EA6-9001-3D9FDD4E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4EE-124F-444D-8B3F-CB157E55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21D-AEEB-4E3E-8603-18454E35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453-E520-40EE-88BA-691E661C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7CDA-99EF-47E3-80EF-0950C7E6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6414-FD79-4BA1-BD12-1A5A7FC2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BCFD-CC6B-4CCB-ADCF-1272B19A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FE3B-D69D-4009-8380-AB582524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759C-C209-42D4-8A00-74EC6F01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2EB8-7EB1-424D-BE12-26408513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C113-0758-4443-B70E-A88F2FFE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2CE-D0ED-4707-999A-14E97153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309A-B395-4DA1-9130-2C10706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7C49-B118-415E-88E0-BE47E494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4C91-8C5E-496B-B200-118CEC0C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4BE8-9531-4DBC-9AA3-0306AB9F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DD39-A489-4CE3-B51A-EB03C6D7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BFFD-5625-4F77-8259-207DEFDF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A9CF4-F6DC-46BC-951A-7F99E453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92F2E-E4CA-4DE0-8D93-A0386148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8DE0-E787-408E-9F88-63F0B64F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70D5-ADFB-447A-9452-98759B5B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BC0-3BEB-4FB8-8FDB-13B039B5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8242-D20B-4286-BDF8-9D497DC2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2412-1DB7-42E6-83EE-D67362F5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FA400-D92E-4AA0-A15A-F8F92CFD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7D07-116A-4B93-AB01-F4C316FF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38C2B-2696-4208-8CB1-F05195C3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FF69B-C26B-4F25-8719-30716A63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A5052-CD73-481C-81B4-F286DA00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50C48-401E-47F0-8D67-397A46E7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BC0E0-BDF1-4778-B533-86023C9C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DD2AC-AB1F-4398-B5F5-B764ED3D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F23-7F3D-467A-9EB2-7A1630DF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CABC7-4A27-4826-851B-D00FD03E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CE332-0418-4724-9427-D3C85B9C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4A419-4B6D-4ED5-8D52-A8D27A38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C7AF8-4714-4253-B659-2E0B309B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EF8E6-B754-484B-BA54-D53C9A8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4A5C2-96BD-4897-8FD0-E73C2157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E3B48-D0B3-4DDB-B42C-2371A607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498F-0F48-460B-8E11-0C13F540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11493-72A6-4647-9716-841B957C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D312C-E4EC-4B1B-9760-33A8A8FD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FCC-AED0-4040-9A6E-57B9FA36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F2373-4A4F-4413-B64D-2FEC25B2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F9386-9AFE-4A3C-A365-3B8358D8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27356-AE51-4A45-9B76-7CD2E4BA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C0E94-EE54-4731-8F60-4CBA2F32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91614-AA48-404B-9409-BD2A189E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575F5-4B05-4C9A-8B3D-A65DCB77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C3441-5E8F-4380-AB08-1435DC24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232A8-11FF-4D6C-BB87-6BDE55A7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8577B-71CF-4A09-9B0A-E560464B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73166-ADFA-47E1-AE5B-9AAFDAF4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600-5A73-449E-9375-1DB86E46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B6255-8EB8-431F-BA5D-B1D255DE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74E19-5951-45D3-96CE-61A96E2C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6BADA-4ED0-495A-A96E-013C4DCC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78B17-16D9-45F3-AFF4-B05ED818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586FB-A292-4751-B9FC-C218C98D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04028-7608-495A-9FD7-F1CBFAF8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89A9A-9E78-4974-B84A-0C50EA01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A4C56-63B6-4CC2-B1C6-98C8BE6F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45C83-9663-49F5-A003-510B5B46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2B884-BE5A-4DA3-A8D9-EF344319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9F3-A66C-4E9E-B6BD-045E178F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9CB7A-9AD8-48ED-98F2-8177A887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68736-66DA-4F74-9A30-586116F1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651EE-8D8D-40D7-845E-BCE1473E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DC49D-6F0C-4A3F-B7A6-5F10527A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9763C-EC0B-4115-90F5-DCE1A994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72D9F-35D9-4F71-9608-60C22CDA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5725A-2B1F-48C7-AFA2-60B71525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45AFE-8B84-4154-891E-A7B73067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D4B0F-AFF4-4A21-BF84-D04D36E5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FA8F7-FA32-4251-8917-BEAEA0B3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7C8-760D-4E56-B467-E3A1E347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F5DBC-18D5-4E56-9D4E-6F0C8F45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C5FBA-D15D-4AC9-9185-BB86D561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D20ED-1741-4808-978E-F455E961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B576F-FADE-4156-82ED-00072899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ECF73-0DC1-4D5E-99EE-953D547C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68856-7F56-444A-94BC-550E371E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7A450-498D-475C-A872-4F0F9C80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8FBFF-57A1-4251-AA54-DAAD6D70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44386-538E-435E-9C1A-4C70995C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D0519-9882-4785-989B-618BC67C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883-D1F1-4DA5-ABB7-70545D5C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5CA74-DCC4-40ED-AD66-57759861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A0158-82DB-4900-886B-5E94466B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80C0E-A6B0-4625-8F02-F8539EC7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56B25-B126-4E9A-A5F2-4ABCD87E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B7D4B-2544-46C7-886D-575CBE01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F4CB3-1E76-4775-AE99-454AE84C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85D2F-6C43-4DD6-A337-020CA953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2C7F-7018-419F-BE62-88E596A0D6D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918A-47DA-498D-85DF-6F6A55DE08D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876B-DB36-4EE3-9362-8CE5D16369D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9B85-6E4D-44CA-9208-2CE550FEA8E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8F89-BF30-4778-AED9-20FB554B1E3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F156-42FE-4CC3-AE28-AB718F421D5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B504-ABE2-4EFD-8DB1-C9773C89C4F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34F8-8976-47A9-9FCD-9E85905B2A2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11280" y="19188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Afbeeldingsresultaat voor 4 p's"/>
          <p:cNvPicPr/>
          <p:nvPr/>
        </p:nvPicPr>
        <p:blipFill>
          <a:blip r:embed="rId2"/>
          <a:stretch/>
        </p:blipFill>
        <p:spPr>
          <a:xfrm>
            <a:off x="3132000" y="3284640"/>
            <a:ext cx="30704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en belangrijke doelstelling van bedrijven i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hogen van de verkoopopbrengs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e kunnen ze dit bereik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o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o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gebruik te maken van de marketingmix (ook wel 6 p’s genoemd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ductbeleid (bijv. alleen A-merk produc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et productbeleid moet goed aansluiten op de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ehoeften van d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doelgroep!!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ijsbeleid (bijv. verleidelijke aanbieding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motiebeleid (bijv. advertenties in kranten en tijdschrif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laatsbeleid (bijv. verkoop via het interne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entatiebeleid (overzichtelijke indeling van de winke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ersoneelsbeleid (deskundig en herkenba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8" name="Picture 2" descr="Gerelateerde afbeelding"/>
          <p:cNvPicPr/>
          <p:nvPr/>
        </p:nvPicPr>
        <p:blipFill>
          <a:blip r:embed="rId2"/>
          <a:stretch/>
        </p:blipFill>
        <p:spPr>
          <a:xfrm rot="2490000">
            <a:off x="5519520" y="1076400"/>
            <a:ext cx="3085920" cy="2222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http://www.fiftytoo.be/nl/local/cache-vignettes/L250xH212/arton1000-826f5.jpg"/>
          <p:cNvPicPr/>
          <p:nvPr/>
        </p:nvPicPr>
        <p:blipFill>
          <a:blip r:embed="rId3"/>
          <a:stretch/>
        </p:blipFill>
        <p:spPr>
          <a:xfrm rot="19334400">
            <a:off x="824040" y="658800"/>
            <a:ext cx="3028680" cy="256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thumbs.dreamstime.com/z/psychologische-prijs-die-de-prijs-vaststelt-van-21693187.jpg"/>
          <p:cNvPicPr/>
          <p:nvPr/>
        </p:nvPicPr>
        <p:blipFill>
          <a:blip r:embed="rId4"/>
          <a:stretch/>
        </p:blipFill>
        <p:spPr>
          <a:xfrm rot="2278800">
            <a:off x="5108400" y="3778200"/>
            <a:ext cx="3405240" cy="1852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http://reclamewereld.blog.nl/files/2010/03/McD-Wifi.png"/>
          <p:cNvPicPr/>
          <p:nvPr/>
        </p:nvPicPr>
        <p:blipFill>
          <a:blip r:embed="rId5"/>
          <a:stretch/>
        </p:blipFill>
        <p:spPr>
          <a:xfrm rot="19510200">
            <a:off x="1195560" y="3663720"/>
            <a:ext cx="33447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 een ondernemer gaat het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rom het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duct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op d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laat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tegen de juis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ij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met de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motie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erkop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merci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gericht is op het verhogen van de verkoop, dus doel is om meer winst te make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de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een idee wil verspreiden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drag wil veranderen zonder het doel 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mee te verdien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http://reclamewereld.blog.nl/files/2009/03/kitkat-benchvertising.jpg"/>
          <p:cNvPicPr/>
          <p:nvPr/>
        </p:nvPicPr>
        <p:blipFill>
          <a:blip r:embed="rId2"/>
          <a:stretch/>
        </p:blipFill>
        <p:spPr>
          <a:xfrm>
            <a:off x="6168960" y="3240"/>
            <a:ext cx="2951280" cy="1960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http://members.ziggo.nl/gvdommel/weekblad0506/small43501052-banner-sire.jpg"/>
          <p:cNvPicPr/>
          <p:nvPr/>
        </p:nvPicPr>
        <p:blipFill>
          <a:blip r:embed="rId3"/>
          <a:stretch/>
        </p:blipFill>
        <p:spPr>
          <a:xfrm>
            <a:off x="3348000" y="5840280"/>
            <a:ext cx="5796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is heel belangrijk voor ondernemers o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olgende red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samen veel geld te beste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invloed op de aankopen th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zijn vaak trouwe klan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http://cjgbarendrecht.nl/wp-content/uploads/2013/12/Jongeren11.jpg"/>
          <p:cNvPicPr/>
          <p:nvPr/>
        </p:nvPicPr>
        <p:blipFill>
          <a:blip r:embed="rId2"/>
          <a:stretch/>
        </p:blipFill>
        <p:spPr>
          <a:xfrm>
            <a:off x="5724360" y="4562640"/>
            <a:ext cx="3419640" cy="22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15T10:30:01Z</dcterms:modified>
  <cp:revision>15</cp:revision>
  <dc:subject/>
  <dc:title> </dc:title>
</cp:coreProperties>
</file>