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E4B4-A93D-4A4D-BFBC-B270B548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14B-55D4-4158-BD7D-EA6C6C32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AC74-F8E7-4A68-8FB7-696D45CC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E75-692E-4749-945F-89FA5183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0E40-A092-461F-8040-6E85C629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FC12-E5C4-4929-9E7A-295535DC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007F-D481-4613-8A89-6EE2F414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50EF-96FB-4375-BB5A-E94A677C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CE64-1C7B-4D90-83FB-23B87B50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B75F-D8EC-4717-BE6F-33A5209B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91CD-91E4-4154-A2C0-6F83DB05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D35-9C72-4D38-9465-B16C542A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CCA2-ECB5-4472-8CF0-F75E009E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2E92-5DF8-43E9-8B2A-DD64B27F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0985-D449-43D1-BE72-1AFEEF6B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413A-7574-485F-A2B5-AFCE5667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D3B5-2299-41D3-8012-1BA4D757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83561-B8A6-4627-A0CC-CF45EB52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EA90B-0318-4B37-B785-5F5DDE61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6A188-0677-42A6-AF3E-0C3C1494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56672-AEC7-4A15-81C2-5CF8540F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2A371-746A-4677-8506-650F70E3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8A4-74A7-4974-A7B4-D50E140F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F909-76B7-4105-A777-C56A53E8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A639C-E43F-4D6B-8E42-F9A8804E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100C6-ABC6-4C75-BC29-78E0AFF5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8C031-3545-426A-A9A2-31CF89D4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14588-D691-4A43-A485-49A84073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C613F-8049-4569-98A0-F93E2B50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4B2EC-0A8A-4E8A-95DF-6412C72A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C2048-1A4F-43F0-A4D3-388030F4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4A8B4-7413-443B-A73D-029725BE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FBC7C-9C04-45EC-B3AE-63E02B92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855-23AB-4E01-8149-E7484F55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78FA1-483B-44F6-8D3C-DA3A6380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FC20D-2E7C-4AC4-957A-5B2001C7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27CA5-418E-43A1-A1E0-CB506E88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916A4-D825-47E9-95D5-1DD81DEA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901C1-24F1-42DD-8493-9BFC5F78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DE8A8-E7FF-4014-88A9-373C7616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ED22F-360F-4F68-850E-23059E48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2271F-6C1A-4D98-88B5-14A58ED9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4253A-52CF-4D86-AE6E-17950A52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CD371-5169-4AA4-A056-A268EC7A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8C1-D392-441C-BC9C-50FB4226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4E413-727A-462D-B14C-E01644B2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6D620-EC71-4A16-9BEE-F1E6EA51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55E24-DC60-40F8-B603-583550AF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2C40B-E152-4696-8D60-1BBA8B3A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FCE75-A202-477E-B4CB-79AB19DA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11058-BE29-4854-A3AE-1F667A72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AE6FD-83B4-4CC6-8852-C407F68E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830C8-DF61-4E05-AC43-1B76AF7D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85061-8A31-4E98-BF9E-252BDB3D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CE73C-1964-473E-83AB-B63C19C1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0784-704F-4FB2-A80E-BB0FBCF4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525A3-DD36-4949-B0FC-27CC3D60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74B0D-6620-4776-A706-8E2A53C3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68748-A418-4EA9-B573-606F93DD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BAD16-DA11-41DD-A78C-8CA57B4E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7ED2A-3DA7-4B1C-944B-1C9E5EF7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DE22F-251B-466E-9711-3418190C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C3E52-7043-4654-8147-AA699358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11013-5482-488F-8220-CA63C196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95E89-235B-4F44-8D98-DC61257C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B4B69-EDAB-435A-8525-40FA9D9E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738-05DA-4D98-A6FF-712CD891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A5084-ADE6-4649-B2F0-31B8E535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07357-9947-4E9E-BC79-1E7F06C4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39E9D-D72C-4D54-B9ED-CD81D2E6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FE15A-F0F7-4F4F-9BDF-D5DA7910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A6D25-0744-4F58-B0E6-395A3D00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0DDF5-0C0E-4A68-8341-AC0040AB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D1971-EF5F-4511-B234-4976B6B7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3A9BD-75B1-4876-A3D0-6DFB699B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9DF3F-B637-4659-88C8-6553F3BC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8220F-6B55-492D-805D-F05103BE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D42-13DA-4216-A7F9-A8A3C326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86809-0C8F-41B2-93CA-F2F90AF4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B545D-558C-4A35-9E43-A55D6AC9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4249F-322B-402C-BBC4-5E6C29BE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BAD99-54A7-40CC-B6EC-5D4D5C0E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FB985-F88D-43D8-BCEB-FFC07C46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CE915-A0BB-4170-AECE-6012BE7C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730DE-1FE8-4CBE-8982-C4014353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BAEA8-C7B1-465C-B95A-DDABA515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87184-58C5-42DE-9D57-9D7D8116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BA913-4DED-43C5-97D2-35A500B7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920-56AF-4CBE-A9F5-5C009F1B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38042-D6B5-4AC8-B2DD-90FB3004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EEBA2-A909-4B6C-9D8F-ABD2EE77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10F54-7CEB-43AA-BA9F-4910D4F4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5B064-C85D-42EB-9BD0-B4D1D598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B970F-8CA6-41AF-969D-1FEA6708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0E22C-4382-4E32-8C18-0540BBF0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06FDD-72B2-4FB7-A897-5CC9282B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CAA2-1C8A-43D9-9AD4-90A35198468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746A-B220-4185-9E7F-588D7944D23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A6DE-F944-41D1-A7D0-1B5CCCA4AF3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8866-9F58-402F-A8BB-1D5B2A12D93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A521-4CB6-4B5F-905E-3A9E82D65AB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F267-52A7-43EB-8009-FFA568DEB37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34CF-10A4-4155-8CC7-0462E051455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5BCB-AF4D-402C-BA34-6A1F18EE65F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4360" y="26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Consumeren met en zonder gel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http://api.ning.com/files/ZHWSihFB0iaaEh*TmU-m-bqiVlpVvERMW4*gwP4iL4XU0Is-qNuDMNMJGfdW0aNpE-Sd1qkvdvWaYcnV1ahRqAO0HfSP4oAw/IMG_0235.jpg"/>
          <p:cNvPicPr/>
          <p:nvPr/>
        </p:nvPicPr>
        <p:blipFill>
          <a:blip r:embed="rId2"/>
          <a:stretch/>
        </p:blipFill>
        <p:spPr>
          <a:xfrm>
            <a:off x="4932360" y="3149640"/>
            <a:ext cx="2497320" cy="1874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http://www.ed.nl/polopoly_fs/1.2152199.1350572418%21/image/image.jpg_gen/derivatives/landscape_800_600/image-2152199.jpg"/>
          <p:cNvPicPr/>
          <p:nvPr/>
        </p:nvPicPr>
        <p:blipFill>
          <a:blip r:embed="rId3"/>
          <a:stretch/>
        </p:blipFill>
        <p:spPr>
          <a:xfrm>
            <a:off x="1908000" y="3149640"/>
            <a:ext cx="26179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behoeften bevredig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je behoeften voorzi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iets te kopen bij een bedrijf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zelfvoorziening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zelf (</a:t>
            </a:r>
            <a:r>
              <a:rPr b="0" lang="en-US" sz="3500" spc="-1" strike="noStrike" u="sng">
                <a:solidFill>
                  <a:srgbClr val="105766"/>
                </a:solidFill>
                <a:uFillTx/>
                <a:latin typeface="Lucida Sans Unicode"/>
              </a:rPr>
              <a:t>dus gratis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) een gerecht bereiden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de natuur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genieten van de zon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gebruik te maken van collectieve voorzieningen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fietsen op een fietspad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74680" y="219240"/>
            <a:ext cx="8412120" cy="14014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213.206.66.232/gfx/page/visual/86ht0622.jpg"/>
          <p:cNvPicPr/>
          <p:nvPr/>
        </p:nvPicPr>
        <p:blipFill>
          <a:blip r:embed="rId2"/>
          <a:stretch/>
        </p:blipFill>
        <p:spPr>
          <a:xfrm>
            <a:off x="7566120" y="4508640"/>
            <a:ext cx="15778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collectieve voorziening is een voorziening die geheel of grotendeels is betaald van belasting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 het gebruik ervan vraagt de overhei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oms een eigen bijdrag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Denk bijvoorbeel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 openbaar vervoer en onderwij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9" descr="Thomson Memorial Park.JPG"/>
          <p:cNvPicPr/>
          <p:nvPr/>
        </p:nvPicPr>
        <p:blipFill>
          <a:blip r:embed="rId1"/>
          <a:stretch/>
        </p:blipFill>
        <p:spPr>
          <a:xfrm>
            <a:off x="684360" y="2205000"/>
            <a:ext cx="1730160" cy="1295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" descr="https://upload.wikimedia.org/wikipedia/commons/thumb/b/bb/Straat_in_woonwijk_Delft.jpg/250px-Straat_in_woonwijk_Delft.jpg"/>
          <p:cNvPicPr/>
          <p:nvPr/>
        </p:nvPicPr>
        <p:blipFill>
          <a:blip r:embed="rId2"/>
          <a:stretch/>
        </p:blipFill>
        <p:spPr>
          <a:xfrm>
            <a:off x="2446200" y="2235240"/>
            <a:ext cx="1730520" cy="1299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3" descr="http://www.hilversumbeterbereikbaar.nl/files/Impressie%20Fietspad%20Langs%20de%20Lijn%20640px.jpg"/>
          <p:cNvPicPr/>
          <p:nvPr/>
        </p:nvPicPr>
        <p:blipFill>
          <a:blip r:embed="rId3"/>
          <a:stretch/>
        </p:blipFill>
        <p:spPr>
          <a:xfrm>
            <a:off x="4184640" y="2235240"/>
            <a:ext cx="1749600" cy="1312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https://upload.wikimedia.org/wikipedia/commons/1/1a/Logo_Portaal_Openbaar_Vervoer_2.jpg"/>
          <p:cNvPicPr/>
          <p:nvPr/>
        </p:nvPicPr>
        <p:blipFill>
          <a:blip r:embed="rId4"/>
          <a:stretch/>
        </p:blipFill>
        <p:spPr>
          <a:xfrm>
            <a:off x="2405160" y="3535200"/>
            <a:ext cx="3529080" cy="1130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7" descr="http://www.leusden.nl/624/onderwijsinspectie/files/onderwijs.jpg"/>
          <p:cNvPicPr/>
          <p:nvPr/>
        </p:nvPicPr>
        <p:blipFill>
          <a:blip r:embed="rId5"/>
          <a:stretch/>
        </p:blipFill>
        <p:spPr>
          <a:xfrm>
            <a:off x="5929200" y="2195640"/>
            <a:ext cx="20844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ormule i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(nieuw – oud) : oud x 100 = ……%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oorbeeld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inst 2011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30.00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inst 2012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35.00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€ 35.000 - € 30.000) : € 30.000 x 100 = 16,67%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78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8-27T07:10:59Z</dcterms:modified>
  <cp:revision>11</cp:revision>
  <dc:subject/>
  <dc:title> </dc:title>
</cp:coreProperties>
</file>