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139-34A8-499C-9B60-A169B414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5AF-2440-4D98-A400-15A1F57B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F93-76AD-4D3E-B824-308844E4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A43-C236-4330-9728-8611AC65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DA1A-4763-4794-BF0F-34DC000F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F4D6-3617-4164-9AF1-B61EFBAD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E7C0-C24E-41AA-9B6B-7F669926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1582-A23A-4DF3-A216-9206F9FF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2B74-A931-4027-A995-3B8C14B9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A812-1E82-4186-AFF8-F2E592B6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A327-915B-4C8B-96A3-ED641C97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8D6-C376-4EA8-BE8C-C948D716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B451-A58E-46DE-84A7-F0161D86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09E4-A623-43AC-B713-F57FD347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069A-5B05-4D90-A7C1-7C2392CC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6B5A-DA10-4DAC-92B9-DD2E86D9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AFB6-6621-4371-90E7-15590DA2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2CC82-F4D3-4065-889D-14B582D2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CA86-90DA-4DB5-A00D-80EBE26A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35ED-E3AE-4CAD-A7D0-5FCC4834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3213-A746-4A4B-883A-897E23D2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238A-DD0D-4E66-849A-E90AA142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6B5-A17E-43B2-BF96-0F76297C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1A5B-AF4F-49FC-AA7D-9FDC65A0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822E9-0F85-4AEE-9229-1F8B6A8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199D-A6A0-4A72-8CE6-881B5835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25622-D64F-4627-89C9-E97977A8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CBF8-6B34-4202-B129-3EC91B73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BFAA-4EC7-443F-9472-97790739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71A7-FE50-46BC-A897-8EB7097A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AD764-EAFD-448A-AB30-9B0A287A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64A0E-53FD-4E11-A410-A62E5AED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5048-9A8E-4099-8049-CD4B9C13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DCB-B96E-4EC7-843F-33A23D98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D88C-D95E-469D-9E0C-C0E05D59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E4E3-5F90-4F11-A5EC-81BF9F5A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2BE3E-F344-49B7-869B-37ECA893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CDC4-0BE3-4B6F-85EB-8E5ACE8E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9049A-746A-441E-B3ED-7A9942FA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008B1-45B3-46F0-A7D6-DADEF22F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A562C-13B8-4DA1-B82C-13C6D0D1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8944-ADB1-42F8-A7C0-DDA3E9B1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6D666-EBE3-4B73-B169-257E42C7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48E4D-E189-4535-8672-19CA48A0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0C6-9986-4B9A-B898-7E6C27D9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BE705-D300-4685-8A9F-791A8BB1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BC92-8D9A-4A8C-935D-ED977888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8E15D-3CAD-40A9-9947-69654A5A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D971D-363C-44D3-9704-24FD5E8E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1C779-382F-41F6-8736-7B8AF5F2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59147-0E8B-4253-9B9C-C824BFBC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DBD7D-33D4-49E2-ACFE-C438C8B3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644CA-0CE8-428F-88EB-07F420B2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3050D-C6AA-4617-98B7-4D2552D2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1FFE-D9E5-405A-975E-75602470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98A-D303-47EF-8A59-6762A22B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2D6C2-D719-4BAB-82B2-3E9BDDCC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B31DB-6DF5-4655-8751-EC17F28A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64234-991C-4B32-8830-DABB4CD3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36B02-5FF5-4930-824A-5641C47C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E9028-2793-4593-A52A-4BCC5676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42FE6-C85E-413D-860A-D58C1FAF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01288-6E27-49E4-A5DC-2921D664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54F28-B03B-4EEE-A482-D601CD95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57623-5FE8-4C1F-A85F-8C7F9290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C43F8-D754-4DF7-9CD8-52C7C86C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99E-DAB1-4E58-A9AB-40A875A8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C1828-4AB7-4678-A3FD-421F6D6C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CCD6-B13A-49D0-AA8F-54540E59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8EBA-F93E-419E-AAE5-C83600C2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D15DC-BAD5-483F-A7FD-AF424F5E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0D2D9-DF1B-4CAE-9BE6-2B288714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D9D00-60F0-40CF-AA7A-520776B0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7D7F8-A201-435D-966C-4B2FCA53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6524-2B6A-45C6-B9F1-48118F72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21CA0-22D3-4144-A724-7F3B2CEF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8046C-CC95-434F-986E-61EB863F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80A-D8E7-436D-AF38-FD4069D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F11B3-F34D-47C0-8441-EC1607CE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1E9E3-19DA-4BBF-89DA-B56417EF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87213-5165-4F30-A651-9B8B5042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234C9-46CA-4FBD-8EFE-EFE042A0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613FE-3F89-4974-BAA5-FCE94EBF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F2E52-2692-42D5-9EE5-C9CE32A5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F06B0-087D-4BC3-B549-7259804E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1CBF3-13C6-4C5D-B529-D0FE9EC3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0F641-6E30-4655-8631-771B3D53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E822C-64CD-499A-BFA3-A5C0ACBB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648-B1E1-4E15-BD0E-FC313879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5DA6C-7ED9-4A02-BB63-36986306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ADA36-EDA5-4E21-ABA7-9ACBAC4A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A1B1B-BD71-4850-A73B-FDC04EE1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6519F-5439-42F1-954B-9DE1FC8D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2DEAF-842E-4A65-8864-31C71EFA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EE287-0C89-4588-BF6D-520B342E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FD3F1-C01A-408E-B881-411D8BA7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6511-A023-4E83-B61F-C4FA245B935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DC5F-6D8B-4C15-9ABC-BD983DF13C4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76EF-C7CC-4628-8E50-076DA1886D8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E08F-BB52-4F7F-8286-8D67BFE37FC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CA4B-36BC-449F-8741-C61AD338C09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3CCD-AFEE-418B-BA28-94EB556084C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18BC-50DE-47A7-B57E-E4F77FD2DA0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0AF2-BC8E-4AA0-955B-C25E1211570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met gevoel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bluenotion.nl/File/milieukeur.jpg"/>
          <p:cNvPicPr/>
          <p:nvPr/>
        </p:nvPicPr>
        <p:blipFill>
          <a:blip r:embed="rId2"/>
          <a:stretch/>
        </p:blipFill>
        <p:spPr>
          <a:xfrm>
            <a:off x="0" y="0"/>
            <a:ext cx="24112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8864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nten letten bij hun aankopen op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rij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ruikbaar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walitei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ilieuvriendelijk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inderarbeid in ontwikkelingsland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moede in ontwikkelingslanden (met name de boer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URm_AeNan5Q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ieu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product is op milieuvriendelijke manier geproduceer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dwea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aan dit product hebben geen kinderen gewerkt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x Havelaar 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eerlijke prijs voor de grondstoffen betaal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bi3ieBeZGw8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zondheids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www.missethoreca.nl/Resizes/mainarticleimage/PageFiles/69/20/42069/001_food-image-HOR008115I01.jpg"/>
          <p:cNvPicPr/>
          <p:nvPr/>
        </p:nvPicPr>
        <p:blipFill>
          <a:blip r:embed="rId2"/>
          <a:stretch/>
        </p:blipFill>
        <p:spPr>
          <a:xfrm>
            <a:off x="4716360" y="5445000"/>
            <a:ext cx="1828800" cy="1211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www.debeterewereld.nl/images/UserFiles/Image/hoofd_3_fairtrade-maxhavelaar.jpg"/>
          <p:cNvPicPr/>
          <p:nvPr/>
        </p:nvPicPr>
        <p:blipFill>
          <a:blip r:embed="rId3"/>
          <a:stretch/>
        </p:blipFill>
        <p:spPr>
          <a:xfrm>
            <a:off x="7870680" y="5342040"/>
            <a:ext cx="1008360" cy="1417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://upload.wikimedia.org/wikipedia/en/f/fc/GoodWeave_logo.jpg"/>
          <p:cNvPicPr/>
          <p:nvPr/>
        </p:nvPicPr>
        <p:blipFill>
          <a:blip r:embed="rId4"/>
          <a:stretch/>
        </p:blipFill>
        <p:spPr>
          <a:xfrm>
            <a:off x="7624800" y="3057480"/>
            <a:ext cx="1211400" cy="130824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http://www.bluenotion.nl/File/milieukeur.jpg"/>
          <p:cNvPicPr/>
          <p:nvPr/>
        </p:nvPicPr>
        <p:blipFill>
          <a:blip r:embed="rId5"/>
          <a:stretch/>
        </p:blipFill>
        <p:spPr>
          <a:xfrm>
            <a:off x="8101080" y="692280"/>
            <a:ext cx="792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producten met bepaalde keurmerken zijn duurder dan de normale product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eer consumenten voor een bepaald product kiezen, hoe me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inder consumenten voor een bepaald product kiezen, hoe mind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MVO (maatschappelijk verantwoord ondernemen)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tijdens het ondernemen rekening houden met het milieu, dierenwelzijn en arme land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63360" y="-136440"/>
            <a:ext cx="73152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Nic. Oud MVO in direct mail en e-fulfilment"/>
          <p:cNvPicPr/>
          <p:nvPr/>
        </p:nvPicPr>
        <p:blipFill>
          <a:blip r:embed="rId1"/>
          <a:stretch/>
        </p:blipFill>
        <p:spPr>
          <a:xfrm>
            <a:off x="7203960" y="5805360"/>
            <a:ext cx="191772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2T15:32:07Z</dcterms:modified>
  <cp:revision>28</cp:revision>
  <dc:subject/>
  <dc:title> </dc:title>
</cp:coreProperties>
</file>