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7E123-01CF-438D-8A69-4673860E1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A5A30-DF55-42D6-B681-E1F099D13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C34EE-E2FA-4B0F-BAAA-CBF772307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AADFC-124C-40F0-A51C-9CE848FB7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76E5A-F498-4603-9D8B-42D89CE3F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51CA1-37CA-4373-9A47-E7818DFD9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33022-A7C7-48B8-BFFE-1F9E37903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DEDDE-EE52-41F3-A95D-EA52EE61AA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26163-E51E-4F0A-B48E-B64B9F12C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8E04C-CDA3-4146-985A-7473E8EA9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E8059-6DDE-40CC-9E62-0E1335F8F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CE3B8-2D73-482B-91FD-3A16BB5A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D4353-4E27-4A7D-B3AD-76B5743C9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504B1-FC2C-473A-8C91-B831AA879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E2C6A-625E-40DF-9819-B156FF4A4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FD0D0-068C-4F7D-A539-35C06E32B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7797A-4D2A-42CB-A1B4-495CD536F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CCE467-D9A9-44BD-8D18-F82D481349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8E2CFA-76E1-4AB6-8D62-4A03B11BC7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8DF7A3-2E00-483D-9A37-94E3D9D60B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12337-DC81-44CD-94FD-B9C621CA6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0704F-FD46-4E69-82A9-32DD4968F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204A-7EA9-4D31-9E9F-D561D19FC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7D75C4-A83F-4366-8787-E071C9E9D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EBDA8-EF8B-4CF7-BE6E-5D570A60E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F2F42-FD50-4F5D-AC75-BDA6DB441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66578-EFB7-4E23-AA78-3051B0BC1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DC9D5-C2FC-4C45-A1C4-4EEC34194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C5B2E2-46E2-4870-A0C0-4EDF7EA7CD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467BD-A9F7-41CF-9812-3161C29C5C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CE4216-4DC3-4BB6-8D9A-365353D9C0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61FF9-00B4-4664-BE27-944E63B23B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C7839-4C7A-4828-A107-4E092B8E4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A786E-644B-4A21-8531-E7B3BE044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88F17-CD90-4C9D-AB1F-EABD82FDB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E55DE8-5AE7-4C51-92F7-BD2F36B23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51325-2078-4846-B3F1-1BD9D00BE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2E16E-FD5D-4BAB-AB71-FD0341FCA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BA154-CD7A-4A41-A5B1-5D11A7F19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0080B-6EE1-43B2-A891-CEA92F9B5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4ED951-E8B5-4164-ABA3-55BAF6402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7710A0-11FB-404F-9DBE-A2D2AAE862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E94E37-5AFC-4E2E-820A-1800F8211B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EC8050-27A3-4214-85AB-A28B98E09B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15FAC-6EC0-4410-BAAC-0FAD9B03F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21C442-70F9-4149-83DF-850A42CA9E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03BF58-BE50-4D71-A5E7-FEEADA62A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AE1ABA-B20D-4298-B635-2297C61A77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689CFA-9892-4B5F-91C6-DE4D94356C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20A6E4-DD5B-45CB-B5EF-6FD34E636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EC58B-C402-4F40-A206-B45A28926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0244F-8206-4FB0-A38D-EF7EBA731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1CED0-AE4B-4F56-99CD-155861B33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299C5F-80F7-4CE7-B1AA-6092914ECF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E07EA9-757F-4777-B9A7-10BF9A3288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D5F00-8F24-4845-87D2-B19B6F517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98817-6D11-4FAA-BA60-01193BECE6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8D903D-8BBD-4070-AA1B-1EAF37B9AD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0CA138-DF9D-4AD2-B310-486BA86D84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78D4A7-58C5-432B-8F0E-21C0566308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4138FB-2F11-4601-A5DB-7511DA37BE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594750-7AC6-4447-ADC7-10061E2CB8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97F813-3822-45BF-B2D8-3EFA8EED75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32B4D-0C71-4109-A5F4-0428EE68E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3567D5-6F37-4804-AF7D-C293713E1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DD5DA-8CAC-42A9-AD33-2B54FC798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B65E0-FB70-4A16-B6EF-C9A07B09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A86DA3-2F9D-4EA0-BABF-A7BFE09CF6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A12CC0-C4B6-4D15-BA73-4BD1D16D36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0757CD-0712-4E0F-90F7-885E7F17C4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81535B-0B14-44E1-9038-E11D7EDD5B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0AD4C3-0B3F-4B71-9019-95ACA00652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0024A6-3C72-4304-8EAF-6CD400C634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29663E-45C7-45CF-92F5-9AD496430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0C832C-B74A-4AE9-BEDE-8DE5F9EA95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919FD2-36F6-4966-9ECF-1D37B5A6B6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E1315-69FD-4249-B236-24C8BC945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39819-4C4B-4F4D-8577-51773A38D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9A475-C7B5-4EF1-8A75-B1DEF708B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50DE3-FAB5-4059-BC0B-EDF4821636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DC8C2B-EAA9-43DB-904C-16DBE5EE4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C63235-9C30-414C-896A-A0538E2AA2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2DA0EC-D818-4A79-A601-FF1CDF7213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95BE2D-3CFC-4AD4-A0EE-489C6A1973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92D209-4B57-491E-853B-4192D54522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C9408E-A667-4AF4-AC45-D15ACE9A6C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09C4F8-6048-4CDC-A147-690E38BC10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560E7-02A4-4971-B6A1-CD23B6A6D5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0F4DC-61C4-4709-8544-6EB9E99F2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9FACAF-2460-48C9-8263-0556060B38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59D8FA-1A88-4A08-8C3D-084DC4CBB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E5A0C6-E57E-48DB-8A8B-877348B46D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736F4-D6C9-4BC6-84A5-D7B21676D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E59739-AA01-4CE9-BEF2-0184B96B72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3117EC-86D2-4D5C-BEE1-8506301533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1F23D6-9D08-402E-904B-68E7521D0F5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hoekige driehoek 13"/>
          <p:cNvGrpSpPr/>
          <p:nvPr/>
        </p:nvGrpSpPr>
        <p:grpSpPr>
          <a:xfrm>
            <a:off x="-6480" y="5791320"/>
            <a:ext cx="3402000" cy="1079280"/>
            <a:chOff x="-6480" y="5791320"/>
            <a:chExt cx="3402000" cy="1079280"/>
          </a:xfrm>
        </p:grpSpPr>
        <p:pic>
          <p:nvPicPr>
            <p:cNvPr id="3" name="Rechthoekige driehoe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Rechte verbindingslijn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E034-2821-42F3-8990-E354D95480EB}"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ep 15"/>
          <p:cNvGrpSpPr/>
          <p:nvPr/>
        </p:nvGrpSpPr>
        <p:grpSpPr>
          <a:xfrm>
            <a:off x="-3240" y="4952880"/>
            <a:ext cx="9147240" cy="1911600"/>
            <a:chOff x="-3240" y="4952880"/>
            <a:chExt cx="9147240" cy="1911600"/>
          </a:xfrm>
        </p:grpSpPr>
        <p:sp>
          <p:nvSpPr>
            <p:cNvPr id="49" name="Vrije v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Vrije v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Vrije vorm 19"/>
            <p:cNvGrpSpPr/>
            <p:nvPr/>
          </p:nvGrpSpPr>
          <p:grpSpPr>
            <a:xfrm>
              <a:off x="8640" y="4998600"/>
              <a:ext cx="9135360" cy="1865880"/>
              <a:chOff x="8640" y="4998600"/>
              <a:chExt cx="9135360" cy="1865880"/>
            </a:xfrm>
          </p:grpSpPr>
          <p:pic>
            <p:nvPicPr>
              <p:cNvPr id="52" name="Vrije v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Rechte verbindingslijn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92E8-46FD-42DA-B118-0EA2F42C172B}"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hoekige driehoek 13"/>
          <p:cNvGrpSpPr/>
          <p:nvPr/>
        </p:nvGrpSpPr>
        <p:grpSpPr>
          <a:xfrm>
            <a:off x="-6480" y="5791320"/>
            <a:ext cx="3402000" cy="1079280"/>
            <a:chOff x="-6480" y="5791320"/>
            <a:chExt cx="3402000" cy="1079280"/>
          </a:xfrm>
        </p:grpSpPr>
        <p:pic>
          <p:nvPicPr>
            <p:cNvPr id="99" name="Rechthoekige driehoe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Rechte verbindingslijn 14" descr=""/>
          <p:cNvPicPr/>
          <p:nvPr/>
        </p:nvPicPr>
        <p:blipFill>
          <a:blip r:embed="rId4"/>
          <a:stretch/>
        </p:blipFill>
        <p:spPr>
          <a:xfrm>
            <a:off x="-19080" y="5778360"/>
            <a:ext cx="3414600" cy="1098720"/>
          </a:xfrm>
          <a:prstGeom prst="rect">
            <a:avLst/>
          </a:prstGeom>
          <a:ln w="0">
            <a:noFill/>
          </a:ln>
        </p:spPr>
      </p:pic>
      <p:sp>
        <p:nvSpPr>
          <p:cNvPr id="102" name="Punthaak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unthaak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37F4-5DF6-4F26-B9B4-DAAE1B5C10DE}"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hoekige driehoek 13"/>
          <p:cNvGrpSpPr/>
          <p:nvPr/>
        </p:nvGrpSpPr>
        <p:grpSpPr>
          <a:xfrm>
            <a:off x="-6480" y="5791320"/>
            <a:ext cx="3402000" cy="1079280"/>
            <a:chOff x="-6480" y="5791320"/>
            <a:chExt cx="3402000" cy="1079280"/>
          </a:xfrm>
        </p:grpSpPr>
        <p:pic>
          <p:nvPicPr>
            <p:cNvPr id="148" name="Rechthoekige driehoe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Rechte verbindingslijn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2A72-684C-4808-90CD-3FC6FC2EFCE5}"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744F-7F65-417E-80EC-E2757AF9A262}"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echthoekige driehoek 13"/>
          <p:cNvGrpSpPr/>
          <p:nvPr/>
        </p:nvGrpSpPr>
        <p:grpSpPr>
          <a:xfrm>
            <a:off x="-6480" y="5791320"/>
            <a:ext cx="3402000" cy="1079280"/>
            <a:chOff x="-6480" y="5791320"/>
            <a:chExt cx="3402000" cy="1079280"/>
          </a:xfrm>
        </p:grpSpPr>
        <p:pic>
          <p:nvPicPr>
            <p:cNvPr id="236" name="Rechthoekige driehoek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Rechte verbindingslijn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FEFA-78AA-4022-AF5E-0919F2CD3D4F}"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B10F-357C-49A5-9E06-E5C11DA89C1D}"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rije v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Vrije v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echthoekige driehoek 16"/>
          <p:cNvGrpSpPr/>
          <p:nvPr/>
        </p:nvGrpSpPr>
        <p:grpSpPr>
          <a:xfrm>
            <a:off x="-6480" y="5791320"/>
            <a:ext cx="3402000" cy="1079280"/>
            <a:chOff x="-6480" y="5791320"/>
            <a:chExt cx="3402000" cy="1079280"/>
          </a:xfrm>
        </p:grpSpPr>
        <p:pic>
          <p:nvPicPr>
            <p:cNvPr id="324" name="Rechthoekige driehoek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Rechte verbindingslijn 18" descr=""/>
          <p:cNvPicPr/>
          <p:nvPr/>
        </p:nvPicPr>
        <p:blipFill>
          <a:blip r:embed="rId4"/>
          <a:stretch/>
        </p:blipFill>
        <p:spPr>
          <a:xfrm>
            <a:off x="-19080" y="5778360"/>
            <a:ext cx="3414600" cy="1098720"/>
          </a:xfrm>
          <a:prstGeom prst="rect">
            <a:avLst/>
          </a:prstGeom>
          <a:ln w="0">
            <a:noFill/>
          </a:ln>
        </p:spPr>
      </p:pic>
      <p:sp>
        <p:nvSpPr>
          <p:cNvPr id="327" name="Punthaak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unthaak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B58F-96BC-42CA-AC5A-D978D8844496}"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el 1" descr=""/>
          <p:cNvPicPr/>
          <p:nvPr/>
        </p:nvPicPr>
        <p:blipFill>
          <a:blip r:embed="rId1"/>
          <a:stretch/>
        </p:blipFill>
        <p:spPr>
          <a:xfrm>
            <a:off x="689040" y="1755720"/>
            <a:ext cx="7772400" cy="1828800"/>
          </a:xfrm>
          <a:prstGeom prst="rect">
            <a:avLst/>
          </a:prstGeom>
          <a:ln w="0">
            <a:noFill/>
          </a:ln>
        </p:spPr>
      </p:pic>
      <p:sp>
        <p:nvSpPr>
          <p:cNvPr id="371" name="PlaceHolder 1"/>
          <p:cNvSpPr>
            <a:spLocks noGrp="1"/>
          </p:cNvSpPr>
          <p:nvPr>
            <p:ph type="subTitle"/>
          </p:nvPr>
        </p:nvSpPr>
        <p:spPr>
          <a:xfrm>
            <a:off x="755640" y="1125360"/>
            <a:ext cx="7772400" cy="3686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ECONOMIE</a:t>
            </a:r>
            <a:endParaRPr b="0" lang="en-US" sz="4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Paragraaf 1.7</a:t>
            </a:r>
            <a:endParaRPr b="0" lang="en-US" sz="36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Zomerkoninkjes</a:t>
            </a:r>
            <a:endParaRPr b="0" lang="en-US" sz="3600" spc="-1" strike="noStrike">
              <a:solidFill>
                <a:srgbClr val="000000"/>
              </a:solidFill>
              <a:latin typeface="Lucida Sans Unicode"/>
            </a:endParaRPr>
          </a:p>
        </p:txBody>
      </p:sp>
      <p:pic>
        <p:nvPicPr>
          <p:cNvPr id="372" name="Picture 8" descr="https://encrypted-tbn2.gstatic.com/images?q=tbn:ANd9GcQywFEmLI54InjjGeBmoMYhLLMR9yarLN62OpysM4XyqVmrWprxuA"/>
          <p:cNvPicPr/>
          <p:nvPr/>
        </p:nvPicPr>
        <p:blipFill>
          <a:blip r:embed="rId2"/>
          <a:stretch/>
        </p:blipFill>
        <p:spPr>
          <a:xfrm>
            <a:off x="0" y="0"/>
            <a:ext cx="313524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980640"/>
            <a:ext cx="8229600" cy="47386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 prijs van een product wordt bepaald door </a:t>
            </a:r>
            <a:r>
              <a:rPr b="1" lang="en-US" sz="2700" spc="-1" strike="noStrike">
                <a:solidFill>
                  <a:srgbClr val="000000"/>
                </a:solidFill>
                <a:latin typeface="Lucida Sans Unicode"/>
              </a:rPr>
              <a:t>de vraag </a:t>
            </a:r>
            <a:r>
              <a:rPr b="0" lang="en-US" sz="2700" spc="-1" strike="noStrike">
                <a:solidFill>
                  <a:srgbClr val="000000"/>
                </a:solidFill>
                <a:latin typeface="Lucida Sans Unicode"/>
              </a:rPr>
              <a:t>naar en </a:t>
            </a:r>
            <a:r>
              <a:rPr b="1" lang="en-US" sz="2700" spc="-1" strike="noStrike">
                <a:solidFill>
                  <a:srgbClr val="000000"/>
                </a:solidFill>
                <a:latin typeface="Lucida Sans Unicode"/>
              </a:rPr>
              <a:t>het aanbod </a:t>
            </a:r>
            <a:r>
              <a:rPr b="0" lang="en-US" sz="2700" spc="-1" strike="noStrike">
                <a:solidFill>
                  <a:srgbClr val="000000"/>
                </a:solidFill>
                <a:latin typeface="Lucida Sans Unicode"/>
              </a:rPr>
              <a:t>van het product, maar ook door je eigen smaak, reclame, mode en inkome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raag = de hoeveelheid van een product die kopers (consumenten of bedrijven) willen kopen bij verschillende prijzen.</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anbod = de hoeveelheid van een product die verkopers willen verkopen bij verschillende prijzen.</a:t>
            </a:r>
            <a:endParaRPr b="0" lang="en-US" sz="2700" spc="-1" strike="noStrike">
              <a:solidFill>
                <a:srgbClr val="000000"/>
              </a:solidFill>
              <a:latin typeface="Lucida Sans Unicode"/>
            </a:endParaRPr>
          </a:p>
        </p:txBody>
      </p:sp>
      <p:pic>
        <p:nvPicPr>
          <p:cNvPr id="374" name="Titel 2" descr=""/>
          <p:cNvPicPr/>
          <p:nvPr/>
        </p:nvPicPr>
        <p:blipFill>
          <a:blip r:embed="rId1"/>
          <a:stretch/>
        </p:blipFill>
        <p:spPr>
          <a:xfrm>
            <a:off x="139680" y="30240"/>
            <a:ext cx="8486640" cy="12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125360"/>
            <a:ext cx="8229600" cy="488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kleiner</a:t>
            </a:r>
            <a:r>
              <a:rPr b="0" lang="en-US" sz="2700" spc="-1" strike="noStrike">
                <a:solidFill>
                  <a:srgbClr val="000000"/>
                </a:solidFill>
                <a:latin typeface="Lucida Sans Unicode"/>
              </a:rPr>
              <a:t> is dan het aanbod, dan dalen de prijzen vaak. </a:t>
            </a:r>
            <a:r>
              <a:rPr b="0" i="1" lang="en-US" sz="2700" spc="-1" strike="noStrike">
                <a:solidFill>
                  <a:srgbClr val="000000"/>
                </a:solidFill>
                <a:latin typeface="Lucida Sans Unicode"/>
              </a:rPr>
              <a:t>(m.a.w. er zijn weinig kopers die het product willen kopen, maar er is juist veel van dat product te koo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groter </a:t>
            </a:r>
            <a:r>
              <a:rPr b="0" lang="en-US" sz="2700" spc="-1" strike="noStrike">
                <a:solidFill>
                  <a:srgbClr val="000000"/>
                </a:solidFill>
                <a:latin typeface="Lucida Sans Unicode"/>
              </a:rPr>
              <a:t>is dan het aanbod, dan stijgen de prijzen vaak. Kopers willen meer kopen bij een bepaalde prijs, waardoor bedrijven hun producten duurder maken. Ze raken hun producten toch wel kwijt en maken meer w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el 2" descr=""/>
          <p:cNvPicPr/>
          <p:nvPr/>
        </p:nvPicPr>
        <p:blipFill>
          <a:blip r:embed="rId1"/>
          <a:stretch/>
        </p:blipFill>
        <p:spPr>
          <a:xfrm>
            <a:off x="201600" y="21276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t betreft niet alleen de Bos en Lommermarkt of de Plein 40-45 markt, maar we bedoelen met de markt iets an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tekenis = het geheel van de vraag naar en aanbod van een product bij elka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orbeelden: de automarkt, de aardappelmarkt, de huizenmarkt, de arbeidsmarkt enz.</a:t>
            </a:r>
            <a:endParaRPr b="0" lang="en-US" sz="2700" spc="-1" strike="noStrike">
              <a:solidFill>
                <a:srgbClr val="000000"/>
              </a:solidFill>
              <a:latin typeface="Lucida Sans Unicode"/>
            </a:endParaRPr>
          </a:p>
        </p:txBody>
      </p:sp>
      <p:pic>
        <p:nvPicPr>
          <p:cNvPr id="378" name="Titel 2" descr=""/>
          <p:cNvPicPr/>
          <p:nvPr/>
        </p:nvPicPr>
        <p:blipFill>
          <a:blip r:embed="rId1"/>
          <a:stretch/>
        </p:blipFill>
        <p:spPr>
          <a:xfrm>
            <a:off x="201600" y="249120"/>
            <a:ext cx="84852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4:51:49Z</dcterms:created>
  <dc:creator>rachid</dc:creator>
  <dc:description/>
  <dc:language>en-US</dc:language>
  <cp:lastModifiedBy>Rachid Hamdi</cp:lastModifiedBy>
  <dcterms:modified xsi:type="dcterms:W3CDTF">2016-09-27T08:23:49Z</dcterms:modified>
  <cp:revision>30</cp:revision>
  <dc:subject/>
  <dc:title> </dc:title>
</cp:coreProperties>
</file>