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F2F-6ADA-4E6A-BE90-57B8E629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7F3E-2467-4AE9-948D-A1462D4E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833-8184-4D42-935E-3DD7703D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1C0-B37F-41E0-B017-51CD128A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CA0B-1A03-4013-B539-A061741E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451C-0574-455E-A952-22B278A7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DA71-C270-4D25-BDD0-39272748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5673-EC32-4D64-94DB-BA2EE5FC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C213-AECB-4D6B-A1A4-D7656389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8858-CF4C-4592-81DA-ECA82542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960E-C08C-476D-BC03-AA68AFE5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604-3380-450B-8E9A-944CE539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99BD-FEF4-45A4-97E7-A4BCC65A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CD96-668D-4577-A3EB-D13269E9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92E6-0A48-409E-A18B-F314F18A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60E9-2D1F-45B7-BF51-C624BF07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5350-F841-4E9E-8A01-918E5E07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6DBD9-ED41-4FFC-B50C-E1DC65BC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E7A38-F9C7-4D98-8C33-5612CE4E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39827-C637-4DA4-91EE-6310FE95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0E17F-D24F-4E2D-B672-5640B059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57768-77C3-4219-B32D-AA7BD677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505-84B9-416F-B790-3662975E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95D3C-D12C-4CA8-B635-34C7F1F3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C6740-1E87-40A1-A719-9FC0540C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A6D4F-9D72-4871-972A-39F16EC5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8310D-661D-4696-B8AE-E76AE1EF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9403B-5A3B-4C35-97F5-8100A5D2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721B6-1E25-41B2-8B63-36499646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F5614-19ED-4F9C-BE5D-42BB483C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9FACB-B8BC-4E6A-8D67-CDB1D98E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8A5B7-64A0-4B95-98FC-2DB51C42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AC3DA-3ECD-4E1C-9235-D8452D21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7C8-3598-4E1C-A891-AE848282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FA8E7-C60C-4D01-A37F-9E1BB40F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4E13F-F99F-44D4-997F-B1388873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AB28B-E5B7-493C-8F0F-A6AE1C7F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B7115-D123-4F29-8085-0453D01D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3159B-7180-4D38-AA4E-490956C8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9F573-E7AF-4ACB-90C9-1D799DC1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D78FB-4E60-404E-85FB-6345EA14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45D5E-55E6-4C05-A8DC-A7B3E5DB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3DDDC-4EC2-4BA4-A693-C8564566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F8C2E-452D-4D32-879A-079CE5A9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5DE2-9A85-4FD2-A8E0-A03A2857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68967-CD8F-46BF-AF9D-9DC0DC1C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60BB3-D2DF-452B-A7B8-3795D671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ACD97-6224-4905-AC19-4194AA64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7A609-43A9-4F9E-851B-432BA06B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3B978-CB66-4E6F-A4E7-0CC1BE20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48C8A-0215-4A09-9BC2-FEC5699A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95E2F-D3FB-4D0E-B43D-4FE5CA4A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BD807-0219-49ED-9AA4-D0154E3E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248EB-00DD-4CCC-9855-CDBB6828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17D94-41B2-498A-B4E2-1B1EC4C9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E7B-7E4F-45D8-9D5E-86FFB8BB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A60F8-3727-40F0-A955-BE2A39C2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043B8-B6ED-446B-BA6C-72F27EF9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DF5E6-5BA9-4CDD-884B-9FE16AC6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F0E6F-FFF2-429D-AAA5-E2BDDCC7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49FFE-CC20-4F08-9CFD-E38570B0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A0623-0014-4464-BCCE-C7C86B48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4982C-D6A0-4623-90BE-27DA7096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D1973-6CD2-4678-82BE-49133C8B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ACE04-8D44-4AE7-B67B-38FB9327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E4D98-A08D-4D29-960C-538F5A95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DEF-E9CC-4C42-9F89-6C0E181F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7C1E4-D495-4F6C-BD18-992DC180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13E4B-D30E-4E5F-84EC-0D919C24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4DE86-6A1D-432D-A81B-27919506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E6249-FE6B-4A7E-AC82-140E99F3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65D56-42C4-4BDA-91F0-DAD55E70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A7960-A8EB-4918-B87B-A897349C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EA419-F1A0-40E6-8D6C-3E8A5D0A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22C67-62DF-485D-9289-877D11C0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9E07D-4599-4EDE-A5B7-BEE55917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A6005-0385-44B8-8EBD-0EAFE270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B70-1EAA-4A58-A2B7-865D8116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5C81A-091A-4553-B540-6071968D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CED9A-5B72-460F-8B50-6746FB27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81C07-846D-4E4B-BB86-49588D5C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F86F2-8B5B-4099-B1C1-1CB9EF23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D42AD-8971-43C6-8B43-3ACFD1D0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2364F-5391-4BA4-B98E-055A936E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CAAC8-2C49-49AC-84C0-0AC6EC64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CF113-A224-4583-9184-539398E6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C4720-AA18-47F5-AD4F-738A40F9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0057E-5E0D-4CA2-BADB-03BDDFEF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890-EA0D-466C-B407-CD8500A7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AE2B1-1455-4B64-A7B7-3518443A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9CEED-6900-49F2-BCA0-B3918F58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D9544-4F53-4AEA-B0E8-B50D5A54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8F6B6-7B3B-41D3-A039-B55F315A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4DA64-300F-4CC3-A2CE-A8034F1D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2A642-8592-4417-97C0-A2752948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5CAB7-27D0-4B51-87FB-BC273323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4E0A-2910-44A8-A10F-F5D795911BF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A126-4F60-450A-A578-034FC350CF9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A776-91E9-4531-A6C2-2870B616CF4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0C19-EE82-4F93-9E4E-0A838887C7B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91C8-1A6F-4BD9-B137-E53D50ADA2A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77D8-AC06-4E24-99B1-92404F80F3D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65C6-161A-41BE-B383-B9FD96936E8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C84E-D78C-4080-A446-9881035C765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9640" y="26028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is kiez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http://www.autismeplein.nl/wp-content/uploads/2013/01/keuzes.png"/>
          <p:cNvPicPr/>
          <p:nvPr/>
        </p:nvPicPr>
        <p:blipFill>
          <a:blip r:embed="rId2"/>
          <a:stretch/>
        </p:blipFill>
        <p:spPr>
          <a:xfrm>
            <a:off x="2627280" y="3110040"/>
            <a:ext cx="3673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hoeften = alles wat je nodig hebt of graag wilt hebb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asisbehoef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uxe (overige) behoef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14624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ttp://www.beleefoostpoort.nl/uploaded_files/inlineitem/Genieten_eten_drinken.png"/>
          <p:cNvPicPr/>
          <p:nvPr/>
        </p:nvPicPr>
        <p:blipFill>
          <a:blip r:embed="rId2"/>
          <a:stretch/>
        </p:blipFill>
        <p:spPr>
          <a:xfrm>
            <a:off x="1403280" y="2637000"/>
            <a:ext cx="1944720" cy="1409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3" descr="http://www.houseofoutdoor.com/wp-content/uploads/2014/07/kleding-2013.jpg"/>
          <p:cNvPicPr/>
          <p:nvPr/>
        </p:nvPicPr>
        <p:blipFill>
          <a:blip r:embed="rId3"/>
          <a:stretch/>
        </p:blipFill>
        <p:spPr>
          <a:xfrm>
            <a:off x="3851280" y="263700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15"/>
          <p:cNvSpPr/>
          <p:nvPr/>
        </p:nvSpPr>
        <p:spPr>
          <a:xfrm>
            <a:off x="155520" y="-2514600"/>
            <a:ext cx="69915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7" descr="Gerelateerde afbeelding"/>
          <p:cNvPicPr/>
          <p:nvPr/>
        </p:nvPicPr>
        <p:blipFill>
          <a:blip r:embed="rId4"/>
          <a:stretch/>
        </p:blipFill>
        <p:spPr>
          <a:xfrm>
            <a:off x="6161040" y="2637000"/>
            <a:ext cx="1971720" cy="147636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19"/>
          <p:cNvSpPr/>
          <p:nvPr/>
        </p:nvSpPr>
        <p:spPr>
          <a:xfrm>
            <a:off x="155520" y="-2239920"/>
            <a:ext cx="699156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1" descr="Gerelateerde afbeelding"/>
          <p:cNvPicPr/>
          <p:nvPr/>
        </p:nvPicPr>
        <p:blipFill>
          <a:blip r:embed="rId5"/>
          <a:stretch/>
        </p:blipFill>
        <p:spPr>
          <a:xfrm>
            <a:off x="1979640" y="4680000"/>
            <a:ext cx="2448000" cy="1628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3" descr="http://www.anwb.nl/bestanden/content/gallery/anwb/portal/vakantie/etalagebeelden/reisorganisaties.jpg"/>
          <p:cNvPicPr/>
          <p:nvPr/>
        </p:nvPicPr>
        <p:blipFill>
          <a:blip r:embed="rId6"/>
          <a:stretch/>
        </p:blipFill>
        <p:spPr>
          <a:xfrm>
            <a:off x="5148360" y="4749840"/>
            <a:ext cx="309564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2514600"/>
            <a:ext cx="69915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9" descr=""/>
          <p:cNvPicPr/>
          <p:nvPr/>
        </p:nvPicPr>
        <p:blipFill>
          <a:blip r:embed="rId2"/>
          <a:stretch/>
        </p:blipFill>
        <p:spPr>
          <a:xfrm>
            <a:off x="455760" y="324000"/>
            <a:ext cx="8156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oederen zijn producten die tastbaar zijn; je kan ze dus aanra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ensten zijn producten die niet tastbaar zijn; je kan ze dus niet aanraken. De een doet iets voor de and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http://www.gortzen.eu/werkenindelogistiek/kiem/handel1e/taxi.jpg"/>
          <p:cNvPicPr/>
          <p:nvPr/>
        </p:nvPicPr>
        <p:blipFill>
          <a:blip r:embed="rId2"/>
          <a:stretch/>
        </p:blipFill>
        <p:spPr>
          <a:xfrm>
            <a:off x="1979640" y="46544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http://www.karizmabyhakan.nl/wp-content/uploads/dames-heren-kapper-hakan.jpg"/>
          <p:cNvPicPr/>
          <p:nvPr/>
        </p:nvPicPr>
        <p:blipFill>
          <a:blip r:embed="rId3"/>
          <a:stretch/>
        </p:blipFill>
        <p:spPr>
          <a:xfrm>
            <a:off x="4211640" y="4654440"/>
            <a:ext cx="2076480" cy="1384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https://encrypted-tbn3.gstatic.com/images?q=tbn:ANd9GcS-8Wd4SlTLQsZXZ8Dwu1d-hxOw7BKtqB9Tj3ZSYqViYXBNrIR1NQ"/>
          <p:cNvPicPr/>
          <p:nvPr/>
        </p:nvPicPr>
        <p:blipFill>
          <a:blip r:embed="rId4"/>
          <a:stretch/>
        </p:blipFill>
        <p:spPr>
          <a:xfrm>
            <a:off x="6732720" y="4654440"/>
            <a:ext cx="2016000" cy="13431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http://www.centrameubel.nl/media1/store%20eettafel.jpg"/>
          <p:cNvPicPr/>
          <p:nvPr/>
        </p:nvPicPr>
        <p:blipFill>
          <a:blip r:embed="rId5"/>
          <a:stretch/>
        </p:blipFill>
        <p:spPr>
          <a:xfrm>
            <a:off x="6288120" y="2039760"/>
            <a:ext cx="2435040" cy="115272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13"/>
          <p:cNvSpPr/>
          <p:nvPr/>
        </p:nvSpPr>
        <p:spPr>
          <a:xfrm>
            <a:off x="63360" y="-136440"/>
            <a:ext cx="699156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5" descr="Gerelateerde afbeelding"/>
          <p:cNvPicPr/>
          <p:nvPr/>
        </p:nvPicPr>
        <p:blipFill>
          <a:blip r:embed="rId6"/>
          <a:stretch/>
        </p:blipFill>
        <p:spPr>
          <a:xfrm>
            <a:off x="4373640" y="2023920"/>
            <a:ext cx="1754280" cy="11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geldt het volgen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oe rijker de mensen, hoe meer producten zij als noodzakelijk ervar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ttp://reenert.lu/files/sauna_wohl.jpg"/>
          <p:cNvPicPr/>
          <p:nvPr/>
        </p:nvPicPr>
        <p:blipFill>
          <a:blip r:embed="rId2"/>
          <a:stretch/>
        </p:blipFill>
        <p:spPr>
          <a:xfrm>
            <a:off x="455760" y="2863800"/>
            <a:ext cx="2689200" cy="151308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8" descr="http://3.bp.blogspot.com/-uxNZMCsCUjI/U9Iz5ve3ojI/AAAAAAAASxg/SQDPwMnxjto/s1600/Samsung-Smart-Tv.jpg"/>
          <p:cNvPicPr/>
          <p:nvPr/>
        </p:nvPicPr>
        <p:blipFill>
          <a:blip r:embed="rId3"/>
          <a:stretch/>
        </p:blipFill>
        <p:spPr>
          <a:xfrm>
            <a:off x="3276720" y="3556080"/>
            <a:ext cx="2606400" cy="1751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http://i.ytimg.com/vi/-QwVwFqiRGU/maxresdefault.jpg"/>
          <p:cNvPicPr/>
          <p:nvPr/>
        </p:nvPicPr>
        <p:blipFill>
          <a:blip r:embed="rId4"/>
          <a:stretch/>
        </p:blipFill>
        <p:spPr>
          <a:xfrm>
            <a:off x="6084720" y="5157720"/>
            <a:ext cx="288000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nsen moeten kiezen uit hun behoeften, omdat er schaarste is aan geld en tij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1 (schaarste aan geld): iemand kan met 50 euro geen nieuwe fiets én telefoon 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2 (schaarste aan tijd): iemand kan niet tegelijkertijd slapen en spor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9-11T11:01:20Z</dcterms:modified>
  <cp:revision>14</cp:revision>
  <dc:subject/>
  <dc:title> </dc:title>
</cp:coreProperties>
</file>