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21B-C985-4D8B-87EE-31B99F74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C52-2BD1-4486-B57A-4E963B78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0FE-B2F5-43F7-A9EA-11978C33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7CA-72FB-4A13-B4B6-570B86B1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0201-04C1-4EE1-ACC0-F97F49FB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2929-6ECD-42CE-9070-17359F2A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5086-FCB0-43F7-BB12-87F6DBA1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02C6-D88E-4AFD-828D-7A1FF352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9785-DA33-4B7F-B2DB-60B6F828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2E16-D62A-406E-B587-83C5CC39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4227-E62E-4938-8F98-553EB1EA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D96-E7C2-4D16-B4DE-8EA91625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D160-B4B0-4D39-AD64-47B0A0C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369D-2B90-4874-B382-CBFFF8F9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262D-C4CE-4DF4-9ABC-A45A7B7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98BA-2751-4CB4-AE2A-05E48149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70ED-C210-4D32-BA24-FA48F980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DA78-1F68-4320-85B8-0654FFE6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EBC7-535E-49C1-821E-F3B334E6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C537-302C-425C-BAB5-5810B4C1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7F2B8-EED3-4955-8497-E7542E3F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97F4-1DBC-4C6E-B7D8-DC4F0479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8317-A16F-44AB-AF39-49609BE8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DFF7-3D00-4710-894C-7DEA0252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5EEA-E5DC-4718-9BAA-359EC781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1E4D-1892-4542-9F2A-B1995C27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B633-9088-43A3-9DE7-ADE2186B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2DE5-21EC-4775-A755-82EF5970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290AD-2235-4190-9566-42FF27B0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60FE3-850E-4A85-9908-8474E610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44498-AF41-4FDF-A871-5F9BF890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8BF2-A306-46B3-B175-41551418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0ED5-19F6-4D6A-9C8B-562FA4E5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BF90-7CE5-49F0-9A0F-68D4EBDA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FAC90-D767-444A-94D4-55594BE3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F95E2-C569-44B8-A95A-EDF3E7FC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E019-EE31-4913-95F5-5B660024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663E-A55D-484D-8980-A30711B6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3F37F-2068-4C47-AC71-03379D2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AD42-08A8-45D2-89F7-1E7F1F6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BB4CC-2CE9-4959-9CF8-9D9F2F3E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16302-65DA-4385-B42F-C0F6086E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9309-1D37-4D97-900D-7823A8DD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B2428-476C-4854-8B8C-98152626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788-AFC8-4A2E-9547-F3E24069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B268-DAE5-4320-986C-FB0F3ACB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99723-2976-41CD-9D80-68AB095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C4ACE-263B-4FD9-8D8B-1002A4E2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EE91-8C44-4994-A864-95E99789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349A-2590-48E8-8581-35BE1577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0C2A4-201C-4074-B5D9-12DB8EDB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C04E0-1286-4BA4-A432-E2D946DC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F66C1-9FB9-43CA-80ED-9093AA44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336E4-85C4-4853-94C8-AD9B85F0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AD8CE-1AB1-46AF-9C7B-BF2525F8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964-7304-4538-805D-DCF87BCD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392A-D2C5-4AEA-9D34-69E70F19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634D8-77F4-4A03-8BCF-DB9177F9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CADC6-ADAE-4DB8-A9EB-AAA07169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0D8FE-D234-4478-A7F6-AB81CD0D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E8059-D872-4D30-8AD0-5C6EFCA2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5D5FA-EBF5-43B4-896D-3817345D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71D1-3978-4275-BE7C-93E150C4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8EB0C-93FB-422D-8C52-E5A34F7C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194BA-E214-462A-8CB4-BE76E358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39D4D-E97D-4833-8FEB-8E5BF223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DD5-0A45-4368-B45D-A79B6B1B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8313D-6066-4047-ABBB-DD5AB10E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C5A86-978E-4328-BC0A-AE915757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A26FD-25BA-4CDC-91D3-799B491B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E29B0-E3ED-48F7-97D5-DCB59C09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916AD-831C-43C0-AD61-AEE5D05F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5A081-DBC8-499D-B5EB-92762621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B2F28-642E-4CF2-83B2-33BC71FC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6B755-B6BC-4B78-A432-6253111F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06E83-3F80-4A0C-A3A5-8CF9112A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77912-57A0-4FDC-80E4-363E39C0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5CA-B019-472B-95BA-2255A4A6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CC4D5-83EB-4728-8197-36422A57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1E47-3F03-4D47-8C02-2D9E96D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80945-2192-48E3-BB1A-1A88BAB3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D5FE1-78E6-443A-9D58-992111D1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B50AB-B575-4091-9102-83B141E5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AF0CA-0D1A-4CFD-9CCD-F3AAE127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75B76-6A8F-4B39-B99B-F5A90D85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6347B-12E4-402B-A125-01C9740D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4EEDD-14F8-461B-96E3-D075100E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1C3E8-0286-4CE0-A65B-7CC735D9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044-DDA8-45F1-85BD-9075553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850D4-CF94-467E-9C88-7B96E502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A313B-85A2-4D11-92B1-C646CD5C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FF81A-5F02-4996-8926-2C49A19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63C59-BC17-4BF5-AB6D-4FB46821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B46A0-044C-4F54-8B1E-51CB4D26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00F44-14B8-428E-B6AD-D6D64031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9F248-39AD-4681-A96D-39441E82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E77B-1270-4232-B792-5BC20C4A887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834-0765-4408-99F6-45C5DAE5525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9E49-9AD1-46B4-9B8B-F08BBDA5B3A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3138-8BEB-46F6-93D8-3E28421D4C4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0F60-4A6E-4AAF-80FB-9BEB4268734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6C89-762B-4C05-8435-1A70C8DCE87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0721-7BC6-4594-9BA8-C7851CDB3E1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502F-842F-47EC-9203-F2949B4FBE4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11280" y="19188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Afbeeldingsresultaat voor 4 p's"/>
          <p:cNvPicPr/>
          <p:nvPr/>
        </p:nvPicPr>
        <p:blipFill>
          <a:blip r:embed="rId2"/>
          <a:stretch/>
        </p:blipFill>
        <p:spPr>
          <a:xfrm>
            <a:off x="3132000" y="3284640"/>
            <a:ext cx="30704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en belangrijke doelstelling van bedrijven i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hogen van de verkoopopbrengs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e kunnen ze dit bereik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o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gebruik te maken van de marketingmix (ook wel 6 p’s genoemd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beleid (bijv. alleen A-merk produc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t productbeleid moet goed aansluiten op d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oeften van d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doelgroep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ijsbeleid (bijv. verleidelijke aanbieding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motiebeleid (bijv. advertenties in kranten en tijdschrif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laatsbeleid (bijv. verkoop via het interne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entatiebeleid (overzichtelijke indeling van de winke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eelsbeleid (deskundig en herkenba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Picture 2" descr="Gerelateerde afbeelding"/>
          <p:cNvPicPr/>
          <p:nvPr/>
        </p:nvPicPr>
        <p:blipFill>
          <a:blip r:embed="rId2"/>
          <a:stretch/>
        </p:blipFill>
        <p:spPr>
          <a:xfrm rot="2490000">
            <a:off x="5519520" y="1076400"/>
            <a:ext cx="3085920" cy="2222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ttp://www.fiftytoo.be/nl/local/cache-vignettes/L250xH212/arton1000-826f5.jpg"/>
          <p:cNvPicPr/>
          <p:nvPr/>
        </p:nvPicPr>
        <p:blipFill>
          <a:blip r:embed="rId3"/>
          <a:stretch/>
        </p:blipFill>
        <p:spPr>
          <a:xfrm rot="19334400">
            <a:off x="824040" y="658800"/>
            <a:ext cx="3028680" cy="256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humbs.dreamstime.com/z/psychologische-prijs-die-de-prijs-vaststelt-van-21693187.jpg"/>
          <p:cNvPicPr/>
          <p:nvPr/>
        </p:nvPicPr>
        <p:blipFill>
          <a:blip r:embed="rId4"/>
          <a:stretch/>
        </p:blipFill>
        <p:spPr>
          <a:xfrm rot="2278800">
            <a:off x="5108400" y="3778200"/>
            <a:ext cx="3405240" cy="1852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reclamewereld.blog.nl/files/2010/03/McD-Wifi.png"/>
          <p:cNvPicPr/>
          <p:nvPr/>
        </p:nvPicPr>
        <p:blipFill>
          <a:blip r:embed="rId5"/>
          <a:stretch/>
        </p:blipFill>
        <p:spPr>
          <a:xfrm rot="19510200">
            <a:off x="1195560" y="3663720"/>
            <a:ext cx="33447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 een ondernemer gaat he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rom het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op d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laa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tegen de juis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ij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met de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moti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erkop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merci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gericht is op het verhogen van de verkoop, dus doel is om meer winst te make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een idee wil versprei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drag wil veranderen zonder het doel 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mee te verdien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reclamewereld.blog.nl/files/2009/03/kitkat-benchvertising.jpg"/>
          <p:cNvPicPr/>
          <p:nvPr/>
        </p:nvPicPr>
        <p:blipFill>
          <a:blip r:embed="rId2"/>
          <a:stretch/>
        </p:blipFill>
        <p:spPr>
          <a:xfrm>
            <a:off x="6168960" y="324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embers.ziggo.nl/gvdommel/weekblad0506/small43501052-banner-sire.jpg"/>
          <p:cNvPicPr/>
          <p:nvPr/>
        </p:nvPicPr>
        <p:blipFill>
          <a:blip r:embed="rId3"/>
          <a:stretch/>
        </p:blipFill>
        <p:spPr>
          <a:xfrm>
            <a:off x="3348000" y="5840280"/>
            <a:ext cx="579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is heel belangrijk voor ondernemers 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olgende red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samen veel geld te beste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invloed op de aankopen th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zijn vaak trouwe kla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http://cjgbarendrecht.nl/wp-content/uploads/2013/12/Jongeren11.jpg"/>
          <p:cNvPicPr/>
          <p:nvPr/>
        </p:nvPicPr>
        <p:blipFill>
          <a:blip r:embed="rId2"/>
          <a:stretch/>
        </p:blipFill>
        <p:spPr>
          <a:xfrm>
            <a:off x="5724360" y="4562640"/>
            <a:ext cx="3419640" cy="22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15T10:30:01Z</dcterms:modified>
  <cp:revision>15</cp:revision>
  <dc:subject/>
  <dc:title> </dc:title>
</cp:coreProperties>
</file>