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BDA2-751A-493F-8662-A02605BA6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E5FE-B1AE-460C-8941-DB70DD0CA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82E4-04F6-4669-9E3F-EB4F61A90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5E2D-56B5-4445-8D3B-DD6AD4DF5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480EF-E94B-475C-A855-BF389A1F7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7CF2E-EF59-4D67-8EA5-7B2A3C503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E935D-61A5-43B5-904B-1B30AF3C7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94EEB-1D3B-4A27-B6E6-28A7A08FA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FD289-EB0B-44F0-8B1F-A99EFCC6D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74BFA-CAB6-43C1-9F34-7653D11E3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16BAB-DEB6-4FBF-9C50-FE3B7061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CC02-529F-4F66-96AE-17B67EF85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F3A97-1CF7-49EF-9946-63BA9ADC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8C4C4-50B2-4DE6-AAF5-B48C3D3C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75ED2-646C-42A4-AFD8-B7B1B56EF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AF3B2-C7D2-40EC-AEF6-E90AC9540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0EF36-F29F-42EE-B9D7-7A0C858EF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873DF-7A2E-428A-986F-D41B5A9B6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91B70-9B0B-4F5F-A99A-8D2A517ED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42E7E-E32B-4986-805C-A1FF66BCA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C7E77-2BAE-447D-85E7-538DA2715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DE5EC-ADB3-4977-9845-928AFA515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1361-D19C-4B01-B02D-6CD7FAC41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1FC40-39CE-4C59-A39E-68DD99F37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54294-35DF-46AD-B567-0299638FC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ADE6E-0D0F-4E4A-B4FB-8ED00AEF1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AEACF-1D40-4F09-9527-CEFB4FF0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026C6-1D8F-447F-9727-651D81E6D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8E3B5-8D3E-4BD8-8F6A-5C5BB94B3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41934-753A-425F-B567-285E13D10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29AD7-D79C-4539-B3A3-28390EFEB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CD5D5-7477-4BC2-B8A8-C305FAB0B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8D7F5-1EC8-4D25-9C75-BD403FD44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B82C-D0BA-4D40-9109-267048030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21CD2-0773-41E0-BE82-2BD7E6CB6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F4058-437D-415A-BABB-DECFD575C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582E2-8961-4E7E-A0F9-B8ABEFECF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0B341-1D4B-4D56-813E-2C04FCE3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F7D40-FDBA-4F91-A2D2-6C0939C8B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7A9E5-4EEF-4096-85E2-A36FD306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9B907-6032-4921-9125-83DEB7513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8B87C-8357-4164-BD11-51720583C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C9ACC-3AE5-4AC3-B1EE-E27992258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55F6DD-D6F3-4862-8973-5116718B9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60D4-1AAD-460E-BBDA-9E6E0FADC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E4C81D-97FE-4A2D-BDB6-D86AAEC4C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013926-C4A3-412C-AA53-9E4736FF1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3414C1-9D3A-49E8-95F5-B96103662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161243-851F-4D70-9A1B-377FF65B5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87786-8062-4BDC-8E3B-CFA39963C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6F2405-A3F4-465F-BBF6-07291FB3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6ECF2D-7383-4E0A-B642-524EC63EB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FDE445-F51A-4477-B69F-26BED32E5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A452D-ECC4-4232-8ACF-30C3225C7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E9E88B-95D4-4C37-9819-17A2E0147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F4DA-ED8E-41DD-B8B5-AB2EFC6A6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52048-BF02-4718-A50B-663F3B0B9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127ADB-9B37-49F6-BC7D-431DA3AA6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F4FBAB-D46F-42DF-BBFE-0ECFE2D6E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09CF4E-A7DF-4887-80AB-F5F17F4A9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6DE4C7-90E7-4003-8117-BEC03A842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9B699-C18E-4A58-B5EE-8AE8900C7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B96F79-C71D-4016-A976-F2EF90FBB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066821-E03D-41CE-89BE-426F1F59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20D3C8-3A2A-48DF-B9D6-D310B7D9B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FF0778-D201-49B9-A1D7-52BEBAC3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9A65-4A5A-4088-BDF9-74AF6A329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FD01DD-4638-440D-A307-26082E69E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0BA20A-A44B-4D5B-96AE-6B5A59C82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038221-4724-47F5-BA89-357EA7972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7BED5E-6B43-4DED-B97B-0FC8212F3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1D1453-8C67-4CC1-85EF-9C15E1393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E5018A-AF43-4D7C-8983-00D7C798E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1BC67F-EA88-4156-95CB-5E81C1D24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FE3433-C665-4CEE-9412-5C515040F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51D3CE-6DCE-4C9D-8A21-BF0FA0952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D7AF98-7A62-4473-8C3B-D5CD43C94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C3E1-891A-41FB-8E81-9678A4F5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5BD277-D03D-422B-8149-D1991D4E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3F43FE-B1B8-46A1-B537-1FD11A1D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A0C131-69F6-4FC9-B874-3A6CAC595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988B8B-E88A-4741-BC86-D7F28C363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47829F-90BA-4B62-9ED2-FA40A2334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7CC72B-3C0E-4ADF-9C70-0BFADA537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477FD6-723B-48A5-B9A7-1284B0634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38CCEA-FAE1-456A-A4CB-EE772FDAF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55AFF8-0274-46B3-A14A-26582067F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F207F8-11DD-4AA6-9372-E8FAC053A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5B71-2837-438E-A40A-7D612AE4F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9E53FD-61DC-425E-8268-DF7B6CC9A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F0C33D-981A-4F7F-85CD-BB7836DB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6B3736-9DE6-47AA-BB0F-AC88CE28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0F80B8-1702-4129-8379-8E52416DC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85D11F-DB69-4CDF-97F4-999B8FBB3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3ED9CF-9B54-4F0F-AFB2-15D8F378E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40A7FB-1199-454B-A330-774FBA92F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38001-4DBA-463C-BD78-429BC0DA6D53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9404C-A6BE-4387-BD22-1510A0167609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E1E8D-F4B5-4CD1-9B2C-B20AAC9762DD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E78C5-16C9-4CB4-B40D-EC735D6269A4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355CD-EDDE-4ED5-BF97-FF594CBC1E09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F74AF-4F35-4C9D-A5C3-22D2D0928987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A6DEA-3F91-4CCE-86FC-1DCD2E13CE29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CFDA0-6EA7-4D96-8A1C-8DE2320BAFF8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4360" y="26028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1.2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Consumeren met en zonder geld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5" descr="http://api.ning.com/files/ZHWSihFB0iaaEh*TmU-m-bqiVlpVvERMW4*gwP4iL4XU0Is-qNuDMNMJGfdW0aNpE-Sd1qkvdvWaYcnV1ahRqAO0HfSP4oAw/IMG_0235.jpg"/>
          <p:cNvPicPr/>
          <p:nvPr/>
        </p:nvPicPr>
        <p:blipFill>
          <a:blip r:embed="rId2"/>
          <a:stretch/>
        </p:blipFill>
        <p:spPr>
          <a:xfrm>
            <a:off x="4932360" y="3149640"/>
            <a:ext cx="2497320" cy="18748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7" descr="http://www.ed.nl/polopoly_fs/1.2152199.1350572418%21/image/image.jpg_gen/derivatives/landscape_800_600/image-2152199.jpg"/>
          <p:cNvPicPr/>
          <p:nvPr/>
        </p:nvPicPr>
        <p:blipFill>
          <a:blip r:embed="rId3"/>
          <a:stretch/>
        </p:blipFill>
        <p:spPr>
          <a:xfrm>
            <a:off x="1908000" y="3149640"/>
            <a:ext cx="2617920" cy="19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Je behoeften bevredigen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=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In je behoeften voorzi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Lucida Sans Unicode"/>
              </a:rPr>
              <a:t>door iets te kopen bij een bedrijf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Lucida Sans Unicode"/>
              </a:rPr>
              <a:t>door zelfvoorziening </a:t>
            </a:r>
            <a:r>
              <a:rPr b="0" lang="en-US" sz="3500" spc="-1" strike="noStrike">
                <a:solidFill>
                  <a:srgbClr val="105766"/>
                </a:solidFill>
                <a:latin typeface="Lucida Sans Unicode"/>
              </a:rPr>
              <a:t>(bijv. zelf (</a:t>
            </a:r>
            <a:r>
              <a:rPr b="0" lang="en-US" sz="3500" spc="-1" strike="noStrike" u="sng">
                <a:solidFill>
                  <a:srgbClr val="105766"/>
                </a:solidFill>
                <a:uFillTx/>
                <a:latin typeface="Lucida Sans Unicode"/>
              </a:rPr>
              <a:t>dus gratis</a:t>
            </a:r>
            <a:r>
              <a:rPr b="0" lang="en-US" sz="3500" spc="-1" strike="noStrike">
                <a:solidFill>
                  <a:srgbClr val="105766"/>
                </a:solidFill>
                <a:latin typeface="Lucida Sans Unicode"/>
              </a:rPr>
              <a:t>) een gerecht bereiden)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Lucida Sans Unicode"/>
              </a:rPr>
              <a:t>door de natuur </a:t>
            </a:r>
            <a:r>
              <a:rPr b="0" lang="en-US" sz="3500" spc="-1" strike="noStrike">
                <a:solidFill>
                  <a:srgbClr val="105766"/>
                </a:solidFill>
                <a:latin typeface="Lucida Sans Unicode"/>
              </a:rPr>
              <a:t>(bijv. genieten van de zon)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Lucida Sans Unicode"/>
              </a:rPr>
              <a:t>door gebruik te maken van collectieve voorzieningen </a:t>
            </a:r>
            <a:r>
              <a:rPr b="0" lang="en-US" sz="3500" spc="-1" strike="noStrike">
                <a:solidFill>
                  <a:srgbClr val="105766"/>
                </a:solidFill>
                <a:latin typeface="Lucida Sans Unicode"/>
              </a:rPr>
              <a:t>(bijv. fietsen op een fietspad)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el 2" descr=""/>
          <p:cNvPicPr/>
          <p:nvPr/>
        </p:nvPicPr>
        <p:blipFill>
          <a:blip r:embed="rId1"/>
          <a:stretch/>
        </p:blipFill>
        <p:spPr>
          <a:xfrm>
            <a:off x="274680" y="219240"/>
            <a:ext cx="8412120" cy="14014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http://213.206.66.232/gfx/page/visual/86ht0622.jpg"/>
          <p:cNvPicPr/>
          <p:nvPr/>
        </p:nvPicPr>
        <p:blipFill>
          <a:blip r:embed="rId2"/>
          <a:stretch/>
        </p:blipFill>
        <p:spPr>
          <a:xfrm>
            <a:off x="7566120" y="4508640"/>
            <a:ext cx="157788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259920"/>
            <a:ext cx="8229600" cy="57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en collectieve voorziening is een voorziening die geheel of grotendeels is betaald van belastinggel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oorbeeld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oor het gebruik ervan vraagt de overheid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soms een eigen bijdrag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 Denk bijvoorbeeld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an openbaar vervoer en onderwij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AutoShape 5"/>
          <p:cNvSpPr/>
          <p:nvPr/>
        </p:nvSpPr>
        <p:spPr>
          <a:xfrm>
            <a:off x="63360" y="-136440"/>
            <a:ext cx="6991560" cy="52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7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9" descr="Thomson Memorial Park.JPG"/>
          <p:cNvPicPr/>
          <p:nvPr/>
        </p:nvPicPr>
        <p:blipFill>
          <a:blip r:embed="rId1"/>
          <a:stretch/>
        </p:blipFill>
        <p:spPr>
          <a:xfrm>
            <a:off x="684360" y="2205000"/>
            <a:ext cx="1730160" cy="12952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1" descr="https://upload.wikimedia.org/wikipedia/commons/thumb/b/bb/Straat_in_woonwijk_Delft.jpg/250px-Straat_in_woonwijk_Delft.jpg"/>
          <p:cNvPicPr/>
          <p:nvPr/>
        </p:nvPicPr>
        <p:blipFill>
          <a:blip r:embed="rId2"/>
          <a:stretch/>
        </p:blipFill>
        <p:spPr>
          <a:xfrm>
            <a:off x="2446200" y="2235240"/>
            <a:ext cx="1730520" cy="12999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3" descr="http://www.hilversumbeterbereikbaar.nl/files/Impressie%20Fietspad%20Langs%20de%20Lijn%20640px.jpg"/>
          <p:cNvPicPr/>
          <p:nvPr/>
        </p:nvPicPr>
        <p:blipFill>
          <a:blip r:embed="rId3"/>
          <a:stretch/>
        </p:blipFill>
        <p:spPr>
          <a:xfrm>
            <a:off x="4184640" y="2235240"/>
            <a:ext cx="1749600" cy="131292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15" descr="https://upload.wikimedia.org/wikipedia/commons/1/1a/Logo_Portaal_Openbaar_Vervoer_2.jpg"/>
          <p:cNvPicPr/>
          <p:nvPr/>
        </p:nvPicPr>
        <p:blipFill>
          <a:blip r:embed="rId4"/>
          <a:stretch/>
        </p:blipFill>
        <p:spPr>
          <a:xfrm>
            <a:off x="2405160" y="3535200"/>
            <a:ext cx="3529080" cy="11304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17" descr="http://www.leusden.nl/624/onderwijsinspectie/files/onderwijs.jpg"/>
          <p:cNvPicPr/>
          <p:nvPr/>
        </p:nvPicPr>
        <p:blipFill>
          <a:blip r:embed="rId5"/>
          <a:stretch/>
        </p:blipFill>
        <p:spPr>
          <a:xfrm>
            <a:off x="5929200" y="2195640"/>
            <a:ext cx="2084400" cy="13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Formule is: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(nieuw – oud) : oud x 100 = ……%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Voorbeeld: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Winst 2011: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€  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30.000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Winst 2012: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€  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35.000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€ 35.000 - € 30.000) : € 30.000 x 100 = 16,67%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Titel 2" descr=""/>
          <p:cNvPicPr/>
          <p:nvPr/>
        </p:nvPicPr>
        <p:blipFill>
          <a:blip r:embed="rId1"/>
          <a:stretch/>
        </p:blipFill>
        <p:spPr>
          <a:xfrm>
            <a:off x="231840" y="128520"/>
            <a:ext cx="847872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5-08-27T07:10:59Z</dcterms:modified>
  <cp:revision>11</cp:revision>
  <dc:subject/>
  <dc:title> </dc:title>
</cp:coreProperties>
</file>