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8A88F-CFB7-48D4-A9F3-7BD800072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D02E5-E62C-402E-9092-12E6E3BAA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DA95F-73C5-4BCF-91F4-EA4F6F736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0DBE3-76AD-45E1-B75E-8F57F5A7D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F12C9-995D-4375-A058-603AAE3FF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35715-FBE3-44A7-BD82-06E4480AE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56538-CF80-47C1-AD41-55A513089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3C856-D35C-4ABE-862D-6CC9E6BC2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2FEC8-A691-4520-91FC-878FF6754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E8E67-1409-4961-96FF-9DD38AC71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511FE-633D-4E9F-BC3C-D1FF5EA14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DCB89-97E2-4EC4-BBB3-527FA7289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56033-2170-4584-AA0F-66778AA17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5009F-0751-4566-BB58-1654DDAF5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A1053-3B03-4C72-9133-BAD237945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BEB51-71E6-4FD9-ACFC-24B4A58C0D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3DA86-547C-46F7-A46C-8C3E7680B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93A4A5-D4EF-44EA-BA03-A94878BF28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555D24-C053-4324-BFC6-96F820D9F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827C8-75E9-4483-AC35-3A6844D9B8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ABE7B-F574-455C-9E8B-323C0F10F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ACB44-1343-46D0-A13B-89D36741B9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F4929-8247-4CB4-8028-D646A237A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B758B-CA3C-443B-9D6B-062FD84AB6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9D6BF-ABD6-4886-875D-DC6DC19F97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5E678-56A8-4CC2-A2EF-C4C6513EE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9F0FA-EE6B-4AA8-8A4C-4CA197F70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391707-2E59-482B-8EC5-673C83BFF5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0A8557-0E54-490A-AFE8-E893101B44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FB0015-9958-4A76-8888-B35ABD844B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DCC61D-DF50-4692-B65E-0A07CD28B8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3E1E90-0ABA-446C-8CA8-9A0F31474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2A76E-2BDF-46E2-9DDB-2D06D0EEE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E00B1-7857-4685-825D-3535D8734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4FC2FB-0178-488C-B947-622B61E252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62C982-7895-4D71-83D6-E41F3EF3B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8C0099-2407-4485-8596-1F332F227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379C4-912A-4EF2-8778-D217000E4C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B5BAC-3F8A-4B4D-AC07-AE6D5E14D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97B04-7864-479F-B55E-6E70FB24D2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8A25E-01FE-406C-B961-D363B4B79E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1F100C-E67B-4239-8401-8369512EDF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791D52-ABAB-4027-A039-82DB2CFAB4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08B1F5-8131-4ECF-B56D-D54E3111D9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A3270-B617-4C52-8D52-3709144D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5B9564-A074-41FD-9A27-614F171E38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A7BE64-88ED-4142-B3E5-D72CD4CF62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2AB753-3A1B-4C47-9B5F-326BF3C54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875EE-BEA0-49A0-8EF8-71737A5F11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740FB7-ED4B-4122-8983-AC534B6BF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CEA0AD-8EC3-4078-B637-6BCFA5B1C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9D5A2-B559-40F8-9D46-C49DC13B8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10DB7-7F56-4387-8C7E-013A0C6E0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B5FD7B-4B0F-4674-82A0-2000730DF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3409F9-CD8A-4523-8F22-2212BA76E6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3E48B-FDFE-4F62-A356-79C5038C5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0A8A8D-BF9F-43C3-A71D-07B3E79435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53895E-68A9-4736-9F4A-70C07F42BA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CEFDD-8850-4459-8A58-F2F42DB119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E5535A-AFE3-4F64-9B31-04EBA3BE90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374112-4E1E-47F4-98DE-8CD06884CF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A00C1D-9E24-432B-B0B6-8EBB80A47E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CAFAE8-1CD0-4835-9B4B-F570F5A025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49B9D4-C21E-4E59-8F32-39E52AB4A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2BBC8-B05E-49AB-95BB-7942D17FDB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DB7E3-F8B8-40EA-9783-76778EC7E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35720-A86D-4D5F-81E8-334610284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68E24F-DF14-49B4-AE3F-B3F67DFCBD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0E48B7-326C-447A-A809-1A2F325F2A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A2B2DD-FC54-410F-928D-E5A6ED768D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338A91-E3EC-4E39-B447-CFD36FB187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36663B-DE18-4B18-AC59-1BC89251FD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33473D-6882-44D5-817C-F7870C253A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AA5441-25B7-4B75-8000-1AB221946D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8ED9DB-68FB-43C4-92E7-41842F4E79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E9337A-B3C2-48B3-B3C7-14B97DFB65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E7576-7792-4FD6-A5CB-F2C5F27590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38856-8502-45AA-A854-19CB31F7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0315CE-9131-4D63-AA06-445A19B12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7CF382-1066-429E-BDD3-1DB1B5DCF4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485636-EEFF-4B7F-A149-6262884EFE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5B6A10-957F-4BC6-B619-F3AC0BDB3B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1D65C0-3DA3-4429-ACCB-79A219F385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146C2E-8A88-405C-BEA7-68DC98BADB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CA95E3-47AF-438E-903D-F75201B58C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7DF876-EA8E-4FC3-A48E-5EC5FE2B6D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7F0FDF-C3C1-4563-AB34-A72F76FBA6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87FD15-7161-4172-B977-DC696F9A0C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B905-F157-4B30-9A28-22BFAAA54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35C13C-9064-4CA8-BE52-365F9488A7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6DD90B-F07F-431D-804C-DBC18DF508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C719B9-19DB-4662-A897-588A9C1551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7E7EE9-4D95-419C-9A7D-5E851D226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EF7C5D-DE09-4AE2-AF91-1B58CA7B33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03BC14-C861-461B-8AAD-5951BD6BCB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066B25-14BB-45AB-86F6-6AD8669FA0E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echthoekige driehoek 13"/>
          <p:cNvGrpSpPr/>
          <p:nvPr/>
        </p:nvGrpSpPr>
        <p:grpSpPr>
          <a:xfrm>
            <a:off x="-6480" y="5791320"/>
            <a:ext cx="3402000" cy="1079280"/>
            <a:chOff x="-6480" y="5791320"/>
            <a:chExt cx="3402000" cy="1079280"/>
          </a:xfrm>
        </p:grpSpPr>
        <p:pic>
          <p:nvPicPr>
            <p:cNvPr id="3" name="Rechthoekige driehoek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Rechte verbindingslijn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9BC1-F842-4B68-AB4F-3C512272111B}"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ige driehoek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ep 15"/>
          <p:cNvGrpSpPr/>
          <p:nvPr/>
        </p:nvGrpSpPr>
        <p:grpSpPr>
          <a:xfrm>
            <a:off x="-3240" y="4952880"/>
            <a:ext cx="9147240" cy="1911600"/>
            <a:chOff x="-3240" y="4952880"/>
            <a:chExt cx="9147240" cy="1911600"/>
          </a:xfrm>
        </p:grpSpPr>
        <p:sp>
          <p:nvSpPr>
            <p:cNvPr id="49" name="Vrije v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Vrije v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Vrije vorm 19"/>
            <p:cNvGrpSpPr/>
            <p:nvPr/>
          </p:nvGrpSpPr>
          <p:grpSpPr>
            <a:xfrm>
              <a:off x="8640" y="4998600"/>
              <a:ext cx="9135360" cy="1865880"/>
              <a:chOff x="8640" y="4998600"/>
              <a:chExt cx="9135360" cy="1865880"/>
            </a:xfrm>
          </p:grpSpPr>
          <p:pic>
            <p:nvPicPr>
              <p:cNvPr id="52" name="Vrije v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Rechte verbindingslijn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A8B0-FABA-4A19-B224-9EDBA6237851}"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echthoekige driehoek 13"/>
          <p:cNvGrpSpPr/>
          <p:nvPr/>
        </p:nvGrpSpPr>
        <p:grpSpPr>
          <a:xfrm>
            <a:off x="-6480" y="5791320"/>
            <a:ext cx="3402000" cy="1079280"/>
            <a:chOff x="-6480" y="5791320"/>
            <a:chExt cx="3402000" cy="1079280"/>
          </a:xfrm>
        </p:grpSpPr>
        <p:pic>
          <p:nvPicPr>
            <p:cNvPr id="99" name="Rechthoekige driehoek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Rechte verbindingslijn 14" descr=""/>
          <p:cNvPicPr/>
          <p:nvPr/>
        </p:nvPicPr>
        <p:blipFill>
          <a:blip r:embed="rId4"/>
          <a:stretch/>
        </p:blipFill>
        <p:spPr>
          <a:xfrm>
            <a:off x="-19080" y="5778360"/>
            <a:ext cx="3414600" cy="1098720"/>
          </a:xfrm>
          <a:prstGeom prst="rect">
            <a:avLst/>
          </a:prstGeom>
          <a:ln w="0">
            <a:noFill/>
          </a:ln>
        </p:spPr>
      </p:pic>
      <p:sp>
        <p:nvSpPr>
          <p:cNvPr id="102" name="Punthaak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unthaak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6AC6-50B5-4018-9A9F-16FA56FDC47F}"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echthoekige driehoek 13"/>
          <p:cNvGrpSpPr/>
          <p:nvPr/>
        </p:nvGrpSpPr>
        <p:grpSpPr>
          <a:xfrm>
            <a:off x="-6480" y="5791320"/>
            <a:ext cx="3402000" cy="1079280"/>
            <a:chOff x="-6480" y="5791320"/>
            <a:chExt cx="3402000" cy="1079280"/>
          </a:xfrm>
        </p:grpSpPr>
        <p:pic>
          <p:nvPicPr>
            <p:cNvPr id="148" name="Rechthoekige driehoek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Rechte verbindingslijn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CBAD-F12C-41F4-B332-B9FDCB6BDAD9}"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E62B-15C3-41E8-99C3-746B6D160E01}"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echthoekige driehoek 13"/>
          <p:cNvGrpSpPr/>
          <p:nvPr/>
        </p:nvGrpSpPr>
        <p:grpSpPr>
          <a:xfrm>
            <a:off x="-6480" y="5791320"/>
            <a:ext cx="3402000" cy="1079280"/>
            <a:chOff x="-6480" y="5791320"/>
            <a:chExt cx="3402000" cy="1079280"/>
          </a:xfrm>
        </p:grpSpPr>
        <p:pic>
          <p:nvPicPr>
            <p:cNvPr id="236" name="Rechthoekige driehoek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Rechte verbindingslijn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7774-D957-45D4-A819-8EAAA3C59107}"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3097-EE51-4A0F-9648-4AF320F53E2B}"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Vrije v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Vrije v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echthoekige driehoek 16"/>
          <p:cNvGrpSpPr/>
          <p:nvPr/>
        </p:nvGrpSpPr>
        <p:grpSpPr>
          <a:xfrm>
            <a:off x="-6480" y="5791320"/>
            <a:ext cx="3402000" cy="1079280"/>
            <a:chOff x="-6480" y="5791320"/>
            <a:chExt cx="3402000" cy="1079280"/>
          </a:xfrm>
        </p:grpSpPr>
        <p:pic>
          <p:nvPicPr>
            <p:cNvPr id="324" name="Rechthoekige driehoek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Rechte verbindingslijn 18" descr=""/>
          <p:cNvPicPr/>
          <p:nvPr/>
        </p:nvPicPr>
        <p:blipFill>
          <a:blip r:embed="rId4"/>
          <a:stretch/>
        </p:blipFill>
        <p:spPr>
          <a:xfrm>
            <a:off x="-19080" y="5778360"/>
            <a:ext cx="3414600" cy="1098720"/>
          </a:xfrm>
          <a:prstGeom prst="rect">
            <a:avLst/>
          </a:prstGeom>
          <a:ln w="0">
            <a:noFill/>
          </a:ln>
        </p:spPr>
      </p:pic>
      <p:sp>
        <p:nvSpPr>
          <p:cNvPr id="327" name="Punthaak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unthaak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97E7-9684-49E6-98DE-60187ECBA27C}"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el 1" descr=""/>
          <p:cNvPicPr/>
          <p:nvPr/>
        </p:nvPicPr>
        <p:blipFill>
          <a:blip r:embed="rId1"/>
          <a:stretch/>
        </p:blipFill>
        <p:spPr>
          <a:xfrm>
            <a:off x="689040" y="1755720"/>
            <a:ext cx="7772400" cy="1828800"/>
          </a:xfrm>
          <a:prstGeom prst="rect">
            <a:avLst/>
          </a:prstGeom>
          <a:ln w="0">
            <a:noFill/>
          </a:ln>
        </p:spPr>
      </p:pic>
      <p:sp>
        <p:nvSpPr>
          <p:cNvPr id="371" name="PlaceHolder 1"/>
          <p:cNvSpPr>
            <a:spLocks noGrp="1"/>
          </p:cNvSpPr>
          <p:nvPr>
            <p:ph type="subTitle"/>
          </p:nvPr>
        </p:nvSpPr>
        <p:spPr>
          <a:xfrm>
            <a:off x="755640" y="1125360"/>
            <a:ext cx="7772400" cy="3686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ECONOMIE</a:t>
            </a:r>
            <a:endParaRPr b="0" lang="en-US" sz="4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Paragraaf 1.7</a:t>
            </a:r>
            <a:endParaRPr b="0" lang="en-US" sz="36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Zomerkoninkjes</a:t>
            </a:r>
            <a:endParaRPr b="0" lang="en-US" sz="3600" spc="-1" strike="noStrike">
              <a:solidFill>
                <a:srgbClr val="000000"/>
              </a:solidFill>
              <a:latin typeface="Lucida Sans Unicode"/>
            </a:endParaRPr>
          </a:p>
        </p:txBody>
      </p:sp>
      <p:pic>
        <p:nvPicPr>
          <p:cNvPr id="372" name="Picture 8" descr="https://encrypted-tbn2.gstatic.com/images?q=tbn:ANd9GcQywFEmLI54InjjGeBmoMYhLLMR9yarLN62OpysM4XyqVmrWprxuA"/>
          <p:cNvPicPr/>
          <p:nvPr/>
        </p:nvPicPr>
        <p:blipFill>
          <a:blip r:embed="rId2"/>
          <a:stretch/>
        </p:blipFill>
        <p:spPr>
          <a:xfrm>
            <a:off x="0" y="0"/>
            <a:ext cx="3135240" cy="23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5280" y="980640"/>
            <a:ext cx="8229600" cy="473868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 prijs van een product wordt bepaald door </a:t>
            </a:r>
            <a:r>
              <a:rPr b="1" lang="en-US" sz="2700" spc="-1" strike="noStrike">
                <a:solidFill>
                  <a:srgbClr val="000000"/>
                </a:solidFill>
                <a:latin typeface="Lucida Sans Unicode"/>
              </a:rPr>
              <a:t>de vraag </a:t>
            </a:r>
            <a:r>
              <a:rPr b="0" lang="en-US" sz="2700" spc="-1" strike="noStrike">
                <a:solidFill>
                  <a:srgbClr val="000000"/>
                </a:solidFill>
                <a:latin typeface="Lucida Sans Unicode"/>
              </a:rPr>
              <a:t>naar en </a:t>
            </a:r>
            <a:r>
              <a:rPr b="1" lang="en-US" sz="2700" spc="-1" strike="noStrike">
                <a:solidFill>
                  <a:srgbClr val="000000"/>
                </a:solidFill>
                <a:latin typeface="Lucida Sans Unicode"/>
              </a:rPr>
              <a:t>het aanbod </a:t>
            </a:r>
            <a:r>
              <a:rPr b="0" lang="en-US" sz="2700" spc="-1" strike="noStrike">
                <a:solidFill>
                  <a:srgbClr val="000000"/>
                </a:solidFill>
                <a:latin typeface="Lucida Sans Unicode"/>
              </a:rPr>
              <a:t>van het product, maar ook door je eigen smaak, reclame, mode en inkomen.</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raag = de hoeveelheid van een product die kopers (consumenten of bedrijven) willen kopen bij verschillende prijzen.</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anbod = de hoeveelheid van een product die verkopers willen verkopen bij verschillende prijzen.</a:t>
            </a:r>
            <a:endParaRPr b="0" lang="en-US" sz="2700" spc="-1" strike="noStrike">
              <a:solidFill>
                <a:srgbClr val="000000"/>
              </a:solidFill>
              <a:latin typeface="Lucida Sans Unicode"/>
            </a:endParaRPr>
          </a:p>
        </p:txBody>
      </p:sp>
      <p:pic>
        <p:nvPicPr>
          <p:cNvPr id="374" name="Titel 2" descr=""/>
          <p:cNvPicPr/>
          <p:nvPr/>
        </p:nvPicPr>
        <p:blipFill>
          <a:blip r:embed="rId1"/>
          <a:stretch/>
        </p:blipFill>
        <p:spPr>
          <a:xfrm>
            <a:off x="139680" y="30240"/>
            <a:ext cx="8486640" cy="124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125360"/>
            <a:ext cx="8229600" cy="488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kleiner</a:t>
            </a:r>
            <a:r>
              <a:rPr b="0" lang="en-US" sz="2700" spc="-1" strike="noStrike">
                <a:solidFill>
                  <a:srgbClr val="000000"/>
                </a:solidFill>
                <a:latin typeface="Lucida Sans Unicode"/>
              </a:rPr>
              <a:t> is dan het aanbod, dan dalen de prijzen vaak. </a:t>
            </a:r>
            <a:r>
              <a:rPr b="0" i="1" lang="en-US" sz="2700" spc="-1" strike="noStrike">
                <a:solidFill>
                  <a:srgbClr val="000000"/>
                </a:solidFill>
                <a:latin typeface="Lucida Sans Unicode"/>
              </a:rPr>
              <a:t>(m.a.w. er zijn weinig kopers die het product willen kopen, maar er is juist veel van dat product te koo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groter </a:t>
            </a:r>
            <a:r>
              <a:rPr b="0" lang="en-US" sz="2700" spc="-1" strike="noStrike">
                <a:solidFill>
                  <a:srgbClr val="000000"/>
                </a:solidFill>
                <a:latin typeface="Lucida Sans Unicode"/>
              </a:rPr>
              <a:t>is dan het aanbod, dan stijgen de prijzen vaak. Kopers willen meer kopen bij een bepaalde prijs, waardoor bedrijven hun producten duurder maken. Ze raken hun producten toch wel kwijt en maken meer win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el 2" descr=""/>
          <p:cNvPicPr/>
          <p:nvPr/>
        </p:nvPicPr>
        <p:blipFill>
          <a:blip r:embed="rId1"/>
          <a:stretch/>
        </p:blipFill>
        <p:spPr>
          <a:xfrm>
            <a:off x="201600" y="21276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t betreft niet alleen de Bos en Lommermarkt of de Plein 40-45 markt, maar we bedoelen met de markt iets an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tekenis = het geheel van de vraag naar en aanbod van een product bij elka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orbeelden: de automarkt, de aardappelmarkt, de huizenmarkt, de arbeidsmarkt enz.</a:t>
            </a:r>
            <a:endParaRPr b="0" lang="en-US" sz="2700" spc="-1" strike="noStrike">
              <a:solidFill>
                <a:srgbClr val="000000"/>
              </a:solidFill>
              <a:latin typeface="Lucida Sans Unicode"/>
            </a:endParaRPr>
          </a:p>
        </p:txBody>
      </p:sp>
      <p:pic>
        <p:nvPicPr>
          <p:cNvPr id="378" name="Titel 2" descr=""/>
          <p:cNvPicPr/>
          <p:nvPr/>
        </p:nvPicPr>
        <p:blipFill>
          <a:blip r:embed="rId1"/>
          <a:stretch/>
        </p:blipFill>
        <p:spPr>
          <a:xfrm>
            <a:off x="201600" y="249120"/>
            <a:ext cx="84852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4:51:49Z</dcterms:created>
  <dc:creator>rachid</dc:creator>
  <dc:description/>
  <dc:language>en-US</dc:language>
  <cp:lastModifiedBy>Rachid Hamdi</cp:lastModifiedBy>
  <dcterms:modified xsi:type="dcterms:W3CDTF">2016-09-27T08:23:49Z</dcterms:modified>
  <cp:revision>30</cp:revision>
  <dc:subject/>
  <dc:title> </dc:title>
</cp:coreProperties>
</file>