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0.png" ContentType="image/png"/>
  <Override PartName="/ppt/media/image6.jpeg" ContentType="image/jpeg"/>
  <Override PartName="/ppt/media/image9.png" ContentType="image/png"/>
  <Override PartName="/ppt/media/image7.png" ContentType="image/png"/>
  <Override PartName="/ppt/media/image22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23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24.jpeg" ContentType="image/jpeg"/>
  <Override PartName="/ppt/media/image15.png" ContentType="image/png"/>
  <Override PartName="/ppt/media/image4.png" ContentType="image/png"/>
  <Override PartName="/ppt/media/image27.png" ContentType="image/png"/>
  <Override PartName="/ppt/media/image1.png" ContentType="image/png"/>
  <Override PartName="/ppt/media/image3.png" ContentType="image/png"/>
  <Override PartName="/ppt/media/image25.jpeg" ContentType="image/jpeg"/>
  <Override PartName="/ppt/media/image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9C04-5979-4DD2-A263-65BE663C8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8039-A773-411B-8ABF-0FFEA9909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D1D0-C3FC-482C-BC48-82ED8301A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3EC8-FFC1-4E65-A716-39F068961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54D11-063E-4FFC-81E4-921AF580C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95C12-CEC1-4151-8702-47B1DAAB5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1FBFD-5C12-49B8-8BB6-C475D11D8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0F3F0-C04D-4B90-8119-123867886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FFDB7-A474-4054-B0E4-05CC0F715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ED6FE-3518-4EE1-86A1-44E0BE93A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76015-4F81-4428-B440-393368B0A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895D-DF79-4D00-BBBB-A79B9806E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514D8-385A-4C7A-AFB4-AFD670780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B5227-309F-4685-9F89-1CAE8F2C4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17729-7121-49AF-920D-4DFFAD5DE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0E2C1-CC14-49FA-B87D-452E79D5F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36644-61F5-435D-9053-0CE531475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1B7332-2CA5-42C1-BEEA-F68955BCF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FE1294-05F6-4BF7-9D3A-05EAC5B2C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DF5E2D-99AD-4D78-8B0E-2702DBE33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39ADCD-C05C-435D-99F2-55054B624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D6FDB2-5CD4-43CC-A446-2A69E0A6B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7F78-DF2C-462F-89BE-17AF13E84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B21881-1A62-4D2D-B969-ADF6C8551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332B82-6F05-44EA-9977-2A8EBA462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CE717A-F44F-4162-B5DC-C35AB671D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E84224-1957-41B9-ABD2-51B2735C9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66DAE6-8090-4841-925A-0F8BDCA88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0854C9-5D1A-4CFA-B5D1-13E5C6C7C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F36B67-C77B-4C03-8421-96F239C4D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4CA126-B57F-4C31-812B-CBF91C3D0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AA4D74-40A4-4F54-AE1C-6D1318772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3354FF-34B3-4BC5-BA2E-F42034EBC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2CFB-7AD1-4815-A981-C511451F6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B199EA-AA28-4016-893F-1D921DD00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ABA976-B73C-4C44-A4B4-1BF003D86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65D69B-652F-4438-9F19-5BD6EBB07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E4E62B-65C1-4EAA-BF4E-54BBF0AFD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A84F3B-2E4F-4B61-9EB0-51FA239F2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31053A-82AC-45F5-86E8-B19980590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FE40AF-E044-4FD4-BD2F-726B6B5A7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5CD9DA-5155-418E-AC81-A017D9D65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203798-4857-410C-B863-523CCFB92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2D54A7-7EF8-4994-825F-675E020EF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AE62-EF90-4DEC-92BE-8996817BE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3001BF-3C57-4118-887F-A47607A67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2F4F05-809B-41A7-B9CC-810DC029D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10E3FA-FEB1-41AA-8014-83AAD3A4D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B5BB7C-A2B6-465B-95F6-3EFABDC92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8EDFF1-AC88-4650-8260-ED26FF17F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589B69-D173-4EF5-A9A2-8F813BBB4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3582C3-A789-4BD8-87C3-C60BDDDF3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95F67B-DF6D-4B86-A5A8-DF46ED857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3E818E-F3F5-44B2-8643-B1800D2FE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1D0016-AC72-4683-8109-9A4802084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E8AF-5DC7-4FFD-848B-3273FDBDA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81393E-24AF-4926-A524-DAC78FBFA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AEA99F-43CA-4107-BBB8-15BA78DEA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FCA235-AA21-48B1-B540-1FC199341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81DF77-9D24-4A6E-B7E3-189D13A48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25D449-CDCA-4C1F-BA73-A265543D8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9E0209-3B7E-467D-B2F2-A1EB1017D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099490-C101-4F69-850C-266833FC5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D7489E-00E5-4E27-B71B-3631E16FF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363297-C5DC-4474-BD21-AAD1C30FA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EA858D-E9D0-4600-B384-A1AA5DE14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793F-38BB-405E-A32D-0FAD42121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77F80C-88E4-4FE5-B1CC-2EABFB6B3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112358-E742-44E6-B844-03A5CD8A1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A9D9D8-B339-43C8-9A60-7C0DBD611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46643A-E609-478E-95F1-EA8CD8DEE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23E85E-868A-4CD6-91C9-EAC7081C3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411DB1-B4EC-4F42-B4A0-D70C8401B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5F15F4-5401-4CD8-BA35-BD16798FF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003C88-B240-4474-AEE3-29930716A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1166C9-33C8-4C15-BEC9-77E06122C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616350-CDEB-430F-AF4D-8C424AE36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1086-33B2-4738-ADDD-7ADE38EF8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8649CD-9DCD-4E22-BBFC-EE348BF58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C46B9C-3536-4212-8D24-332D80244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BC1B2A-9B66-43AD-8813-F59179BD4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42194D-65DC-44D2-B09F-90DAC50DB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1D5518-FEA3-4028-80AD-ABFE08DD5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DA505F-CAEB-44FF-BEDC-7DE4D11A3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3F66EA-E200-4F6B-9F7B-357A34B25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0E36A3-75E3-4F79-BD3A-9068342F7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BDC4A4-6B44-48BE-B4EB-9C68BBEB8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1D166F-500B-4D10-8B73-66EBEB4CD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1CB3-C81F-4939-8378-F4FCA7D4F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D9EC7C-CED4-4758-9CFA-46313CBB4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759B2D-E745-416A-BCF2-63055C699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D70ED5-31F7-4117-8307-0BF5016BB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D25380-B9F3-4E2C-9414-C5B46E162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12558A-E269-4758-A60C-75968E46F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EF128D-4F32-4C79-8B3A-C3EA9B82F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0C724D-DFA7-4911-BD82-9621E45C5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06795-FC36-4A36-A58F-6B20E5B24206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Vrije v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01F2B-2C8C-4DF4-A837-CEBDF46B2E6E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DFCFF-E1BE-44E6-9D39-4D1FA1A752CD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6A761-399F-420A-8C82-AE65459F8C04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BDA79-DA29-4738-8C1F-899CB7472AD7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62FE5-CB2E-4626-8A92-289B00512C20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F1D3A-E153-4ACE-9200-F5E39D09A6DD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05B15-147C-43F0-A120-CCE2C36C01BA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el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539640" y="260280"/>
            <a:ext cx="7772400" cy="3686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Lucida Sans Unicode"/>
              </a:rPr>
              <a:t>ECONOMI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Paragraaf 1.1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Kopen is kiezen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2" name="Picture 5" descr="http://www.autismeplein.nl/wp-content/uploads/2013/01/keuzes.png"/>
          <p:cNvPicPr/>
          <p:nvPr/>
        </p:nvPicPr>
        <p:blipFill>
          <a:blip r:embed="rId2"/>
          <a:stretch/>
        </p:blipFill>
        <p:spPr>
          <a:xfrm>
            <a:off x="2627280" y="3110040"/>
            <a:ext cx="3673440" cy="20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35120" indent="-343080">
              <a:spcBef>
                <a:spcPts val="326"/>
              </a:spcBef>
              <a:buClr>
                <a:srgbClr val="2da2b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Behoeften = alles wat je nodig hebt of graag wilt hebbe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35120" indent="-343080">
              <a:spcBef>
                <a:spcPts val="326"/>
              </a:spcBef>
              <a:buClr>
                <a:srgbClr val="2da2b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Basisbehoefte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35120" indent="-343080">
              <a:spcBef>
                <a:spcPts val="326"/>
              </a:spcBef>
              <a:buClr>
                <a:srgbClr val="2da2b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35120" indent="-343080">
              <a:spcBef>
                <a:spcPts val="326"/>
              </a:spcBef>
              <a:buClr>
                <a:srgbClr val="2da2b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35120" indent="-343080">
              <a:spcBef>
                <a:spcPts val="326"/>
              </a:spcBef>
              <a:buClr>
                <a:srgbClr val="2da2b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35120" indent="-343080">
              <a:spcBef>
                <a:spcPts val="326"/>
              </a:spcBef>
              <a:buClr>
                <a:srgbClr val="2da2b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35120" indent="-343080">
              <a:spcBef>
                <a:spcPts val="326"/>
              </a:spcBef>
              <a:buClr>
                <a:srgbClr val="2da2b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Luxe (overige) behoefte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4" name="Titel 2" descr=""/>
          <p:cNvPicPr/>
          <p:nvPr/>
        </p:nvPicPr>
        <p:blipFill>
          <a:blip r:embed="rId1"/>
          <a:stretch/>
        </p:blipFill>
        <p:spPr>
          <a:xfrm>
            <a:off x="274680" y="274680"/>
            <a:ext cx="8412120" cy="1146240"/>
          </a:xfrm>
          <a:prstGeom prst="rect">
            <a:avLst/>
          </a:prstGeom>
          <a:ln w="0">
            <a:noFill/>
          </a:ln>
        </p:spPr>
      </p:pic>
      <p:sp>
        <p:nvSpPr>
          <p:cNvPr id="375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AutoShape 7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AutoShape 9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11" descr="http://www.beleefoostpoort.nl/uploaded_files/inlineitem/Genieten_eten_drinken.png"/>
          <p:cNvPicPr/>
          <p:nvPr/>
        </p:nvPicPr>
        <p:blipFill>
          <a:blip r:embed="rId2"/>
          <a:stretch/>
        </p:blipFill>
        <p:spPr>
          <a:xfrm>
            <a:off x="1403280" y="2637000"/>
            <a:ext cx="1944720" cy="140940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13" descr="http://www.houseofoutdoor.com/wp-content/uploads/2014/07/kleding-2013.jpg"/>
          <p:cNvPicPr/>
          <p:nvPr/>
        </p:nvPicPr>
        <p:blipFill>
          <a:blip r:embed="rId3"/>
          <a:stretch/>
        </p:blipFill>
        <p:spPr>
          <a:xfrm>
            <a:off x="3851280" y="2637000"/>
            <a:ext cx="1944720" cy="1458720"/>
          </a:xfrm>
          <a:prstGeom prst="rect">
            <a:avLst/>
          </a:prstGeom>
          <a:ln w="0">
            <a:noFill/>
          </a:ln>
        </p:spPr>
      </p:pic>
      <p:sp>
        <p:nvSpPr>
          <p:cNvPr id="380" name="AutoShape 15"/>
          <p:cNvSpPr/>
          <p:nvPr/>
        </p:nvSpPr>
        <p:spPr>
          <a:xfrm>
            <a:off x="155520" y="-2514600"/>
            <a:ext cx="6991560" cy="52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17" descr="Gerelateerde afbeelding"/>
          <p:cNvPicPr/>
          <p:nvPr/>
        </p:nvPicPr>
        <p:blipFill>
          <a:blip r:embed="rId4"/>
          <a:stretch/>
        </p:blipFill>
        <p:spPr>
          <a:xfrm>
            <a:off x="6161040" y="2637000"/>
            <a:ext cx="1971720" cy="1476360"/>
          </a:xfrm>
          <a:prstGeom prst="rect">
            <a:avLst/>
          </a:prstGeom>
          <a:ln w="0">
            <a:noFill/>
          </a:ln>
        </p:spPr>
      </p:pic>
      <p:sp>
        <p:nvSpPr>
          <p:cNvPr id="382" name="AutoShape 19"/>
          <p:cNvSpPr/>
          <p:nvPr/>
        </p:nvSpPr>
        <p:spPr>
          <a:xfrm>
            <a:off x="155520" y="-2239920"/>
            <a:ext cx="6991560" cy="46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21" descr="Gerelateerde afbeelding"/>
          <p:cNvPicPr/>
          <p:nvPr/>
        </p:nvPicPr>
        <p:blipFill>
          <a:blip r:embed="rId5"/>
          <a:stretch/>
        </p:blipFill>
        <p:spPr>
          <a:xfrm>
            <a:off x="1979640" y="4680000"/>
            <a:ext cx="2448000" cy="162864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23" descr="http://www.anwb.nl/bestanden/content/gallery/anwb/portal/vakantie/etalagebeelden/reisorganisaties.jpg"/>
          <p:cNvPicPr/>
          <p:nvPr/>
        </p:nvPicPr>
        <p:blipFill>
          <a:blip r:embed="rId6"/>
          <a:stretch/>
        </p:blipFill>
        <p:spPr>
          <a:xfrm>
            <a:off x="5148360" y="4749840"/>
            <a:ext cx="3095640" cy="148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457200" y="148104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7" name="AutoShape 2"/>
          <p:cNvSpPr/>
          <p:nvPr/>
        </p:nvSpPr>
        <p:spPr>
          <a:xfrm>
            <a:off x="155520" y="-2514600"/>
            <a:ext cx="6991560" cy="52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6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AutoShape 8"/>
          <p:cNvSpPr/>
          <p:nvPr/>
        </p:nvSpPr>
        <p:spPr>
          <a:xfrm>
            <a:off x="63360" y="-136440"/>
            <a:ext cx="6991560" cy="52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Picture 9" descr=""/>
          <p:cNvPicPr/>
          <p:nvPr/>
        </p:nvPicPr>
        <p:blipFill>
          <a:blip r:embed="rId2"/>
          <a:stretch/>
        </p:blipFill>
        <p:spPr>
          <a:xfrm>
            <a:off x="455760" y="324000"/>
            <a:ext cx="815652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Goederen zijn producten die tastbaar zijn; je kan ze dus aanrak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Diensten zijn producten die niet tastbaar zijn; je kan ze dus niet aanraken. De een doet iets voor de ander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3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5" descr="http://www.gortzen.eu/werkenindelogistiek/kiem/handel1e/taxi.jpg"/>
          <p:cNvPicPr/>
          <p:nvPr/>
        </p:nvPicPr>
        <p:blipFill>
          <a:blip r:embed="rId2"/>
          <a:stretch/>
        </p:blipFill>
        <p:spPr>
          <a:xfrm>
            <a:off x="1979640" y="4654440"/>
            <a:ext cx="1800360" cy="135108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7" descr="http://www.karizmabyhakan.nl/wp-content/uploads/dames-heren-kapper-hakan.jpg"/>
          <p:cNvPicPr/>
          <p:nvPr/>
        </p:nvPicPr>
        <p:blipFill>
          <a:blip r:embed="rId3"/>
          <a:stretch/>
        </p:blipFill>
        <p:spPr>
          <a:xfrm>
            <a:off x="4211640" y="4654440"/>
            <a:ext cx="2076480" cy="138456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9" descr="https://encrypted-tbn3.gstatic.com/images?q=tbn:ANd9GcS-8Wd4SlTLQsZXZ8Dwu1d-hxOw7BKtqB9Tj3ZSYqViYXBNrIR1NQ"/>
          <p:cNvPicPr/>
          <p:nvPr/>
        </p:nvPicPr>
        <p:blipFill>
          <a:blip r:embed="rId4"/>
          <a:stretch/>
        </p:blipFill>
        <p:spPr>
          <a:xfrm>
            <a:off x="6732720" y="4654440"/>
            <a:ext cx="2016000" cy="134316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11" descr="http://www.centrameubel.nl/media1/store%20eettafel.jpg"/>
          <p:cNvPicPr/>
          <p:nvPr/>
        </p:nvPicPr>
        <p:blipFill>
          <a:blip r:embed="rId5"/>
          <a:stretch/>
        </p:blipFill>
        <p:spPr>
          <a:xfrm>
            <a:off x="6288120" y="2039760"/>
            <a:ext cx="2435040" cy="1152720"/>
          </a:xfrm>
          <a:prstGeom prst="rect">
            <a:avLst/>
          </a:prstGeom>
          <a:ln w="0">
            <a:noFill/>
          </a:ln>
        </p:spPr>
      </p:pic>
      <p:sp>
        <p:nvSpPr>
          <p:cNvPr id="398" name="AutoShape 13"/>
          <p:cNvSpPr/>
          <p:nvPr/>
        </p:nvSpPr>
        <p:spPr>
          <a:xfrm>
            <a:off x="63360" y="-136440"/>
            <a:ext cx="6991560" cy="46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Picture 15" descr="Gerelateerde afbeelding"/>
          <p:cNvPicPr/>
          <p:nvPr/>
        </p:nvPicPr>
        <p:blipFill>
          <a:blip r:embed="rId6"/>
          <a:stretch/>
        </p:blipFill>
        <p:spPr>
          <a:xfrm>
            <a:off x="4373640" y="2023920"/>
            <a:ext cx="1754280" cy="11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Er geldt het volgende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9204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Hoe rijker de mensen, hoe meer producten zij als noodzakelijk ervaren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9204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9204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1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2" descr="http://reenert.lu/files/sauna_wohl.jpg"/>
          <p:cNvPicPr/>
          <p:nvPr/>
        </p:nvPicPr>
        <p:blipFill>
          <a:blip r:embed="rId2"/>
          <a:stretch/>
        </p:blipFill>
        <p:spPr>
          <a:xfrm>
            <a:off x="455760" y="2863800"/>
            <a:ext cx="2689200" cy="1513080"/>
          </a:xfrm>
          <a:prstGeom prst="rect">
            <a:avLst/>
          </a:prstGeom>
          <a:ln w="0">
            <a:noFill/>
          </a:ln>
        </p:spPr>
      </p:pic>
      <p:sp>
        <p:nvSpPr>
          <p:cNvPr id="403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AutoShape 6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Picture 8" descr="http://3.bp.blogspot.com/-uxNZMCsCUjI/U9Iz5ve3ojI/AAAAAAAASxg/SQDPwMnxjto/s1600/Samsung-Smart-Tv.jpg"/>
          <p:cNvPicPr/>
          <p:nvPr/>
        </p:nvPicPr>
        <p:blipFill>
          <a:blip r:embed="rId3"/>
          <a:stretch/>
        </p:blipFill>
        <p:spPr>
          <a:xfrm>
            <a:off x="3276720" y="3556080"/>
            <a:ext cx="2606400" cy="175104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12" descr="http://i.ytimg.com/vi/-QwVwFqiRGU/maxresdefault.jpg"/>
          <p:cNvPicPr/>
          <p:nvPr/>
        </p:nvPicPr>
        <p:blipFill>
          <a:blip r:embed="rId4"/>
          <a:stretch/>
        </p:blipFill>
        <p:spPr>
          <a:xfrm>
            <a:off x="6084720" y="5157720"/>
            <a:ext cx="2880000" cy="16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Mensen moeten kiezen uit hun behoeften, omdat er schaarste is aan geld en tijd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oorbeeld 1 (schaarste aan geld): iemand kan met 50 euro geen nieuwe fiets én telefoon kop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oorbeeld 2 (schaarste aan tijd): iemand kan niet tegelijkertijd slapen en sport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8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14:51:49Z</dcterms:created>
  <dc:creator>rachid</dc:creator>
  <dc:description/>
  <dc:language>en-US</dc:language>
  <cp:lastModifiedBy>Rachid Hamdi</cp:lastModifiedBy>
  <dcterms:modified xsi:type="dcterms:W3CDTF">2017-09-11T11:01:20Z</dcterms:modified>
  <cp:revision>14</cp:revision>
  <dc:subject/>
  <dc:title> </dc:title>
</cp:coreProperties>
</file>