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B05-277D-4102-89EC-B5667929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C6E-44E1-4506-9CB8-CBB1E142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006-F24F-49CE-B20A-B12C155D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8CE-14AC-4E75-8A89-114634E2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08A6-41C4-4A44-9825-E7F11DD6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F62-C5F7-4017-A72A-43E68356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0426-8F9A-4F9C-A692-9475FAF3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3B84-F47D-45F0-9ADC-86A94880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2712-2C12-4110-A03D-81DE3CAA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1046-1909-477A-8563-D7DBF8A0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2949-F0F8-4021-9A89-E0E5E3E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1F5-D11A-4FEA-A6A2-184DCF16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5872-0B98-47A9-9236-8B7D7FE5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ED7E-020B-4A25-910F-D10BD2FA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7F79-2709-4D04-B6DE-73988443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C730-6096-4286-9288-E2454DCF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8118-33AD-4712-A43D-4AC95042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585A-3D58-4024-9F3B-49EA9927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412F-1E11-4941-95EE-20D201CC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1163-F948-480B-8938-7A61FAE0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EDB8-E9A9-420D-A1A5-4F3E96F7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D244-8974-458B-B573-D5A0EC38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766-30DA-49A3-A61F-17E5068F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F744B-51A1-4971-BDD9-2DBC1F51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A8FD-D14C-439D-91B8-49C833F5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E7F5-A78C-4220-8F8A-15877116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5DCF-5EC5-41FB-9431-8B9BDDD7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94F0-B404-4A2A-BDE6-C8BD87DF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9D05-C634-475E-925C-EE5FA013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AEB5-B8FA-43CA-89F7-9D50F9D0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84ED-B9B3-496B-A6F0-7206F1AE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59E3-D52A-4378-9DD5-95AD7843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9458-7A14-4A41-B5A3-5B0C7F47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367-DB5A-4C84-AFD7-FAE91607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ACD9-DD53-431A-BAAD-4191B1F4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F2111-2BA1-4E18-95D0-B3FC5BFC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71B4-0FF5-458B-AFAD-A8D72C5E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1D18-DB1C-48B9-92ED-C69F33B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46F4-03D7-40B2-9F1E-E543B23F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65156-B068-4397-9BA9-76227B0C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1F3E-C146-4D9F-BC60-22293D0D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76EA-D792-4C1E-9632-671B9623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5DA3-2104-42C3-B780-668BB0B6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B8CE0-8F81-4395-8D9A-CA8E6980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978-F53C-4EFA-A35E-D27A29CD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E881D-7874-4499-A711-15FFD995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CA2B3-A458-4CBA-B98D-2B94745F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88EE7-4C3A-472F-9F33-70F243A6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9057-4D21-471E-9BC6-C4076CCC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36B6-3E16-49F7-ADCC-317D553D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6B1DA-A8D7-4578-859E-7EEDDFE8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CC7E-9CA6-410F-9953-C3D06284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4A22-5525-4EC1-A25B-E757F7D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05A02-6E25-4A94-B56F-198CBC19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8AF09-3A81-4B6E-BC12-19F2F521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5BC-3F0A-460A-8CC1-F5930F3A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49A33-AE06-453F-B0F8-B261859A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08FAC-5556-4C38-9C60-5FD09DC2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D9B15-2589-4797-A3A8-95AAA5BE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B1BDA-FDFF-4ACC-896D-57563438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8D506-9F16-4CE4-A41A-92212026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A456D-D4A1-4DC0-B65A-DF206F51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994DE-0419-42B5-8361-FAD68A69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A3071-C651-4BD3-9842-A6D3C75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6D06F-8519-4169-A39F-508A6D26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28EE8-5EFB-489F-8FD3-7EF35006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59B-3D4C-46E4-91A2-BB6291DC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A8C01-740D-423E-9513-A0AF8A7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15B0C-36B3-4EF3-B273-5FC9D6D7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4131C-0FC4-4F01-A82E-36BD5E6A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7959-31E0-4A63-A6E8-A1153189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81019-77F7-4651-8BB7-71FFA6A7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73E87-F15D-425F-8796-AD7AAB4E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C6E5B-7F5B-49B4-92F3-EFAAE6B6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33FF5-CC0A-4FFC-B4F9-7C7DAC85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43EC9-3D4E-46B7-9891-DE8714DF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689C6-80CE-4632-8AC9-0CE5D932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B40-48E0-41CC-AAF8-75A43A30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0EEC2-9E81-46BA-A4E1-0408B02D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DC5A-F6DD-44FD-8741-41611598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FA279-62F2-463E-ADB9-01E76B35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DD56D-3C4B-4AF6-A14D-C81639FA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166F7-B579-4757-A62A-E52CAC25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62907-B056-4A17-934E-45948F24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BDA91-9856-4697-8FB0-57964382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BD0E-E2F9-4DD2-857D-FDDA88F3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07CB4-E33E-4BEF-BA49-95C0CF94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5F9B4-023C-46D8-8C6F-C442F0A4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CEE-3039-484F-8E78-4EA54C03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8C88D-0F12-4C0D-8C9F-A537BBE2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E42A-9588-4913-908E-DD6A3536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DF11B-29D6-44EC-99EC-EA5CC329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F6A78-AA7C-45CF-8E51-F69CC12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5657A-34FB-4E11-90CE-0DBDAAEE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3B0DF-9287-40F3-98B2-00884C2D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9FB4C-379B-43E2-905F-C30B8C02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AA43-3DAB-4CAD-B771-214AEBEA4A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D7C0-6F1A-4F74-AC87-B350A23515A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D66D-92E6-416A-8163-86556F36EBC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3BC-00F2-4AF7-B76B-7C827C09ABB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3854-5BB0-44D1-AC83-923F367C5E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0F82-4FE1-41AA-9253-5459AE07B1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EAAE-A7C7-4D43-B832-2AACEA11CEF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768B-6CE7-4A9A-A2EB-6880EEA1F95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11280" y="19188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Afbeeldingsresultaat voor 4 p's"/>
          <p:cNvPicPr/>
          <p:nvPr/>
        </p:nvPicPr>
        <p:blipFill>
          <a:blip r:embed="rId2"/>
          <a:stretch/>
        </p:blipFill>
        <p:spPr>
          <a:xfrm>
            <a:off x="3132000" y="3284640"/>
            <a:ext cx="30704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en belangrijke doelstelling van bedrijven i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hogen van de verkoopopbrengs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e kunnen ze dit bereik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o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gebruik te maken van de marketingmix (ook wel 6 p’s genoemd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beleid (bijv. alleen A-merk produc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t productbeleid moet goed aansluiten op d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oeften van d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doelgroep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ijsbeleid (bijv. verleidelijke aanbieding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motiebeleid (bijv. advertenties in kranten en tijdschrif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laatsbeleid (bijv. verkoop via het interne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entatiebeleid (overzichtelijke indeling van de winke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eelsbeleid (deskundig en herkenba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Picture 2" descr="Gerelateerde afbeelding"/>
          <p:cNvPicPr/>
          <p:nvPr/>
        </p:nvPicPr>
        <p:blipFill>
          <a:blip r:embed="rId2"/>
          <a:stretch/>
        </p:blipFill>
        <p:spPr>
          <a:xfrm rot="2490000">
            <a:off x="5519520" y="1076400"/>
            <a:ext cx="3085920" cy="2222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ttp://www.fiftytoo.be/nl/local/cache-vignettes/L250xH212/arton1000-826f5.jpg"/>
          <p:cNvPicPr/>
          <p:nvPr/>
        </p:nvPicPr>
        <p:blipFill>
          <a:blip r:embed="rId3"/>
          <a:stretch/>
        </p:blipFill>
        <p:spPr>
          <a:xfrm rot="19334400">
            <a:off x="824040" y="658800"/>
            <a:ext cx="3028680" cy="256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humbs.dreamstime.com/z/psychologische-prijs-die-de-prijs-vaststelt-van-21693187.jpg"/>
          <p:cNvPicPr/>
          <p:nvPr/>
        </p:nvPicPr>
        <p:blipFill>
          <a:blip r:embed="rId4"/>
          <a:stretch/>
        </p:blipFill>
        <p:spPr>
          <a:xfrm rot="2278800">
            <a:off x="5108400" y="3778200"/>
            <a:ext cx="3405240" cy="1852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reclamewereld.blog.nl/files/2010/03/McD-Wifi.png"/>
          <p:cNvPicPr/>
          <p:nvPr/>
        </p:nvPicPr>
        <p:blipFill>
          <a:blip r:embed="rId5"/>
          <a:stretch/>
        </p:blipFill>
        <p:spPr>
          <a:xfrm rot="19510200">
            <a:off x="1195560" y="3663720"/>
            <a:ext cx="33447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 een ondernemer gaat he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rom het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op d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laa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tegen de juis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ij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met de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moti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erkop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merci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gericht is op het verhogen van de verkoop, dus doel is om meer winst te make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een idee wil versprei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drag wil veranderen zonder het doel 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mee te verdien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reclamewereld.blog.nl/files/2009/03/kitkat-benchvertising.jpg"/>
          <p:cNvPicPr/>
          <p:nvPr/>
        </p:nvPicPr>
        <p:blipFill>
          <a:blip r:embed="rId2"/>
          <a:stretch/>
        </p:blipFill>
        <p:spPr>
          <a:xfrm>
            <a:off x="6168960" y="324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embers.ziggo.nl/gvdommel/weekblad0506/small43501052-banner-sire.jpg"/>
          <p:cNvPicPr/>
          <p:nvPr/>
        </p:nvPicPr>
        <p:blipFill>
          <a:blip r:embed="rId3"/>
          <a:stretch/>
        </p:blipFill>
        <p:spPr>
          <a:xfrm>
            <a:off x="3348000" y="5840280"/>
            <a:ext cx="579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is heel belangrijk voor ondernemers 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olgende red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samen veel geld te beste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invloed op de aankopen th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zijn vaak trouwe kla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http://cjgbarendrecht.nl/wp-content/uploads/2013/12/Jongeren11.jpg"/>
          <p:cNvPicPr/>
          <p:nvPr/>
        </p:nvPicPr>
        <p:blipFill>
          <a:blip r:embed="rId2"/>
          <a:stretch/>
        </p:blipFill>
        <p:spPr>
          <a:xfrm>
            <a:off x="5724360" y="4562640"/>
            <a:ext cx="3419640" cy="22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15T10:30:01Z</dcterms:modified>
  <cp:revision>15</cp:revision>
  <dc:subject/>
  <dc:title> </dc:title>
</cp:coreProperties>
</file>