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C80-A45F-49DF-B0B2-BCE59858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EEF-250B-469A-8A30-BB92413C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978-7785-43C5-A543-57908E60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961-6EC9-48D3-89F2-54716F00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600E-B768-46F4-9085-A597911FF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6A38-409C-4FC7-9CEC-29D39EFB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3897-3547-4EC2-8649-65DDB4CE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3106-E167-4B93-AE48-3B267A0D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45D0-6ACE-498F-8628-4AFF95AD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7D6E-02E4-46F7-B793-435F2606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883A-FF85-4F4A-8FE7-2D21B24F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6B4-AE2D-427B-885F-FC15BF0A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91F4-9579-4C60-B89C-DE452D0E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E107-EA42-4DA5-8E80-44AB1A8A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B0E4-3C5D-43F8-902D-50B7C62D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0673-6420-4165-A505-8DAB67A5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26EA-AD3C-44DD-9ADD-E00157DD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C620C-DB84-493E-828F-E2117107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1E47-EA76-4D57-BA3B-2FF559C2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FC523-BD26-4A11-BC17-5FA9B221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D36C4-F2B0-489C-859D-DC4785DA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547DD-77B3-429F-A129-545AECCA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362-1A47-4437-B3AA-3BFED888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7BF4D-8C34-4F93-BA4B-29E52C8B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EAC45-7191-4F7A-B06D-5EBC6208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1BA7D-018B-41ED-A749-583828E5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FCC4-F4A6-4F61-8522-4B745FF2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35E4D-73D9-4861-9E23-282E19D5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6940D-4309-431D-8C4E-52B50D01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10DC-B637-453B-AD92-7B67CEB6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8F8E3-212D-417A-BF4E-1F19B368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B96B4-FF94-41DB-ADDC-6184642A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2132C-4276-4D21-9104-B3513F7F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8F2-D682-4813-92C7-1C55F973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2B6D6-6159-4600-A260-FBA9B98C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E0C4D-4B2A-4764-991E-7B6B8193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3CDB9-1B39-4AEE-A0B2-67E2ED70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A06A2-AD93-4E44-8CE8-BC516BD9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FD46-29B3-4EC9-BF85-A7A055F0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6D3CF-FD40-4F38-8A04-998CF04F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4E6CB-9811-4A6D-98CB-C8ABB3E4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50E4F-2E5C-4D18-ACCE-D24B53DD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4C169-A861-403A-8FA8-7227FAB4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6433D-658D-4F7E-B35F-DDB307EE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C47-533A-49E0-8586-839403BC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B3C87-AB7A-4470-A389-5414F86B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28A63-4D4E-4806-8B2A-48B59899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727A2-84E2-4EE6-BF9A-7E352D3B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9BC4B-A2FB-4B55-907B-B3641755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994D8-9180-4E61-ADC8-B51EE3DD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A16E4-DF6B-4EF8-A5AE-3DD6AAE0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5CD11-BBD0-4EC6-B03A-8C11B8F0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CE6A7-0338-46D4-9EE7-68B48333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1FEBB-3012-4A58-BCBC-36FB2AA7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92E39-1159-4FE9-9749-7C8AC93D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C34-A605-4DBE-82DB-BC1CA8F8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2BFB8-1531-476A-8D63-74E219D6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60D6C-FEC2-42E5-8B66-11607BAD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418A-D63F-4061-A02E-E89320B0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CA360-8E64-4D09-B3C8-E26AB1FF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4E9F5-B57B-4C57-9A5E-7931A136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920D2-01C5-4E1F-92EF-546FF202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BB310-C3DD-4EF6-B3B6-C30C2F59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DE2C2-3E79-4B94-8D85-37269FAF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40FF5-4E43-4C8F-8FC9-E816C980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52F10-891D-4772-88DD-FCE014FC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29E-7EEE-4FEA-B16B-F18DDBC1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5085B-0E88-4044-9800-A9AC3CB2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F8BDA-B51F-43EA-94D8-06EE43AE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F9FA0-3739-44C5-8BDF-3349FA64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F282A-D7D9-419E-B52A-620A6A2F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DBFB2-4CC0-49FB-BE78-85390902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77DDD-A652-4E3F-BDCE-D7BB51BB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8E372-D419-4DB3-9FB8-EF70D8AE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3C216-0FE2-4A62-B1D7-77A9A03F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E0698-23A0-4448-AA01-6F31C937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6EB32-CA17-4CBD-A098-DFB5AF2A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8D8-43F3-46EA-933E-5625FA89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E85A8-7570-40CC-AB60-CF988DD0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1A9B5-C4C0-4429-8B95-71D6F100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60D63-2642-41D3-946D-14EC905F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8AC68-AFBC-4C60-AAE1-9C0DD1C9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85ED0-E5ED-468D-914E-A63C0AA2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0FF95-8DB3-467F-939B-0E5BA215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72443-DF7B-4A93-8AC9-8A02676B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E1153-316C-4F72-AA54-313A2659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F4D48-EA2F-428E-BDF6-377EB25D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9424C-BF78-4ACC-AFB2-4EA4D031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4F5-0929-4F7A-8893-173B48DE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6FEEB-0D93-4784-A301-A64A0C30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F3061-7C50-4FE2-B422-9339F247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43885-F421-4340-8310-7F451BCC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86DE4-ABC4-4737-929E-A9B617BA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72C07-F947-467F-B3D3-0ECC13FD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AFAFB-E215-477F-B63A-E2BF505F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76B05-CF39-4F67-AEA4-758669A7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31E5-0C64-476C-A74A-ECBF4F3B87F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8959-D963-4A95-95F3-BCEE123F55F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48BF-CB2A-490B-83B1-2F62EA583E5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7345-8C74-49AA-AAC0-C9D3A17D451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EFE2-CDDC-45E3-A472-98064E300F7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EE1C-E860-4C5E-9F70-D0CCF079AFB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E0EB-D4B4-426D-9AE1-1841040975A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7C47-B74A-4ABF-9977-E7B6899248A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Consumeren met en zonder gel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api.ning.com/files/ZHWSihFB0iaaEh*TmU-m-bqiVlpVvERMW4*gwP4iL4XU0Is-qNuDMNMJGfdW0aNpE-Sd1qkvdvWaYcnV1ahRqAO0HfSP4oAw/IMG_0235.jpg"/>
          <p:cNvPicPr/>
          <p:nvPr/>
        </p:nvPicPr>
        <p:blipFill>
          <a:blip r:embed="rId2"/>
          <a:stretch/>
        </p:blipFill>
        <p:spPr>
          <a:xfrm>
            <a:off x="4932360" y="3149640"/>
            <a:ext cx="2497320" cy="1874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http://www.ed.nl/polopoly_fs/1.2152199.1350572418%21/image/image.jpg_gen/derivatives/landscape_800_600/image-2152199.jpg"/>
          <p:cNvPicPr/>
          <p:nvPr/>
        </p:nvPicPr>
        <p:blipFill>
          <a:blip r:embed="rId3"/>
          <a:stretch/>
        </p:blipFill>
        <p:spPr>
          <a:xfrm>
            <a:off x="1908000" y="3149640"/>
            <a:ext cx="2617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behoeften bevredig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je behoeften voorzi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iets te kopen bij een bedrijf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zelfvoorziening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zelf (</a:t>
            </a:r>
            <a:r>
              <a:rPr b="0" lang="en-US" sz="3500" spc="-1" strike="noStrike" u="sng">
                <a:solidFill>
                  <a:srgbClr val="105766"/>
                </a:solidFill>
                <a:uFillTx/>
                <a:latin typeface="Lucida Sans Unicode"/>
              </a:rPr>
              <a:t>dus gratis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) een gerecht bereide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de natuur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genieten van de zo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gebruik te maken van collectieve voorzieningen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fietsen op een fietspad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74680" y="219240"/>
            <a:ext cx="8412120" cy="14014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213.206.66.232/gfx/page/visual/86ht0622.jpg"/>
          <p:cNvPicPr/>
          <p:nvPr/>
        </p:nvPicPr>
        <p:blipFill>
          <a:blip r:embed="rId2"/>
          <a:stretch/>
        </p:blipFill>
        <p:spPr>
          <a:xfrm>
            <a:off x="7566120" y="4508640"/>
            <a:ext cx="15778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collectieve voorziening is een voorziening die geheel of grotendeels is betaald van belasting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het gebruik ervan vraagt de overhe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oms een eigen bijdrag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Denk bijvoorbeel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 openbaar vervoer en onderw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Thomson Memorial Park.JPG"/>
          <p:cNvPicPr/>
          <p:nvPr/>
        </p:nvPicPr>
        <p:blipFill>
          <a:blip r:embed="rId1"/>
          <a:stretch/>
        </p:blipFill>
        <p:spPr>
          <a:xfrm>
            <a:off x="684360" y="2205000"/>
            <a:ext cx="1730160" cy="129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https://upload.wikimedia.org/wikipedia/commons/thumb/b/bb/Straat_in_woonwijk_Delft.jpg/250px-Straat_in_woonwijk_Delft.jpg"/>
          <p:cNvPicPr/>
          <p:nvPr/>
        </p:nvPicPr>
        <p:blipFill>
          <a:blip r:embed="rId2"/>
          <a:stretch/>
        </p:blipFill>
        <p:spPr>
          <a:xfrm>
            <a:off x="2446200" y="2235240"/>
            <a:ext cx="1730520" cy="1299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3" descr="http://www.hilversumbeterbereikbaar.nl/files/Impressie%20Fietspad%20Langs%20de%20Lijn%20640px.jpg"/>
          <p:cNvPicPr/>
          <p:nvPr/>
        </p:nvPicPr>
        <p:blipFill>
          <a:blip r:embed="rId3"/>
          <a:stretch/>
        </p:blipFill>
        <p:spPr>
          <a:xfrm>
            <a:off x="4184640" y="2235240"/>
            <a:ext cx="1749600" cy="1312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https://upload.wikimedia.org/wikipedia/commons/1/1a/Logo_Portaal_Openbaar_Vervoer_2.jpg"/>
          <p:cNvPicPr/>
          <p:nvPr/>
        </p:nvPicPr>
        <p:blipFill>
          <a:blip r:embed="rId4"/>
          <a:stretch/>
        </p:blipFill>
        <p:spPr>
          <a:xfrm>
            <a:off x="2405160" y="3535200"/>
            <a:ext cx="3529080" cy="1130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7" descr="http://www.leusden.nl/624/onderwijsinspectie/files/onderwijs.jpg"/>
          <p:cNvPicPr/>
          <p:nvPr/>
        </p:nvPicPr>
        <p:blipFill>
          <a:blip r:embed="rId5"/>
          <a:stretch/>
        </p:blipFill>
        <p:spPr>
          <a:xfrm>
            <a:off x="5929200" y="2195640"/>
            <a:ext cx="20844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ormule i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(nieuw – oud) : oud x 100 = ……%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beeld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1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0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2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5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€ 35.000 - € 30.000) : € 30.000 x 100 = 16,67%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78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8-27T07:10:59Z</dcterms:modified>
  <cp:revision>11</cp:revision>
  <dc:subject/>
  <dc:title> </dc:title>
</cp:coreProperties>
</file>