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93A-B6DA-4274-A86F-4B3EB11D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DCD-A1E2-45ED-8ED0-F49DAFF0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DB7-E85B-4C69-934C-99F88317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B98E-A613-4E0F-A585-7B7B947D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89C8E-56DD-4090-9EA7-174D349C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6C40-6417-4D9F-9AEA-06DB0C6B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3072-9C24-41C3-BB45-1B541E57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37B15-3CE3-4D9D-B38C-43027B570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0F84-252C-47CE-B88E-BBD546B2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1738-4687-40FE-B1E3-0AB2F6A7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F482-B858-4C02-974C-4F0D150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7E2-734F-46EE-A6E0-CCDC027A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A99B-5114-4638-8702-DB8C0DA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D791F-865C-48E7-AE30-F6C887E4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7C7C-AB2C-4AB4-80B5-B6772812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BD30-DFA3-44A2-BB67-AB7A5C15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F4A9-0675-40AC-A35F-EABC2D0C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8F89-7EEF-4788-8AC6-F2C1BE76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AE0E8-3D39-4823-8B41-FA9B98A8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B8594-0055-4A0E-B4C6-4ED5298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A61F-6407-43BF-B521-4CCF168A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F09D3-D07F-4C6E-8FD7-0166DCE9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BA81-58A1-4DEB-B2DA-34F8FA63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11BB4-A62E-47FD-BAC2-810CA59E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111AE-22EE-4661-B7E3-41152E57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9CF00-5469-4881-9DDA-C94C6B5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FE45B-0AE9-4717-AE2C-96DB3811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B2AE-5BEE-439D-8821-67D8709E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577A7-66C8-4C27-89BE-290DCEB2A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E0ECB-2EAB-4782-A8F9-29E6DFBA4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67B59-03B9-4C04-8BC7-74D6A814E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652A3-F9B6-4244-88D1-F85E22B2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0DFF7-E20E-48B5-8547-73FD6FD5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53FD-367F-4CFD-9338-D217A1AE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3A82C-BEE9-4EA3-9A51-B506C76C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947CA-804A-4CA5-94B3-9D14EF21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46C5C-C033-4C5F-BF75-669029538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A5C21-C2D0-43D9-8C4B-0B6FC55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286BD-8CDF-4775-AB59-0A65C443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ADC9A-76FA-4243-989E-8220448A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7E920-8BCE-4B7C-B7AC-756AEAF6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6649-B72E-48D8-A7FF-98081F10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77CB8-AE46-4E4C-975F-BCF0E6C6F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28EB-3063-45FD-BC98-F5D7BDF9C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5DED-34B7-493D-A7FC-36C5743E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D719D-6151-4740-8279-406E89F7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D3A4-44A0-4C05-A035-6355A6DD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73267-DF3A-4D12-A2E1-A6E393D3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C401B-169D-42F0-86D6-7FFF5C32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D93C-8C82-4618-BAB7-C951561D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90077-55EB-432F-B4D4-13AEA95C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FFCC5-9528-4F36-A74E-9936109A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F43A8-44C7-4FD9-9C6A-9B39B164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FDA25-6772-4A00-896D-57F2E447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78E7D-5754-4F5F-9DDB-F293BB6B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3D0-1290-4EDC-9F69-F2E4EE74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E79CA-79A4-480F-99F2-211560CB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39EC1-D0A3-44B4-BE83-66BECE3D3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2F76F-5AFD-44B8-B570-FC6E5701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63B4D-6C5D-4844-A126-9F240C97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B94E2-5602-4EFC-AD6B-E03CB8A3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5CC2F-BCCC-4982-9A1B-E98F3386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59232-7423-4EEC-B233-1514D617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B613E-982A-42B3-A07F-9709C566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F0418-48EF-4F55-96D0-0C19D111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5CBC2-9835-437E-B4B8-CFB60FB5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C1AF-AC8E-4040-AC0C-CE186D46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9BF4B-B12A-4EB8-B202-A1BC5B2C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09F90-41F1-43C2-95D1-2AAB1F32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CD039-BDDD-46EC-9486-AAA98344E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65E0B-C4A0-47B0-9543-5B659FD8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E78D-DB31-4938-A5E2-7B9DCFCC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BFD56-0312-45BE-903F-7BD630F2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2E302-58B6-4649-851D-F70A8DF6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F9F99-A7C2-4941-9A19-27AA56777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3DD4-3950-4A2D-8841-9FD2283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9AD01-A754-4F51-8100-59082B6E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BA91-407B-4DB4-B250-B77A9493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A947F-6BCC-48AF-8F95-91696684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DB57B-F8FD-4568-B6A5-06386056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57457-94AC-4F8B-847B-46A414CB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DC31-70B5-418D-854C-2AA29CEA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98B75-666D-4D58-9A4F-8E458FCA5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FEB57-E6FE-4056-BE3B-E8166C9F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38AA4-3319-419A-BAC7-E35CC187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6581B-C112-46E0-B72A-0160D18A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C23E-E369-43FA-A27B-7A2387DFE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69942-0BBB-442F-B0F7-FAEE6B4F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DBA6-04D5-4983-921A-7903F7E4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1059C-D6F1-4B55-80D0-10BFB685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F1EFF-C18D-46F9-8888-6E230D76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13B94-30B9-4DB1-92D5-78DA0A34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6BFAF-B2B6-4512-A71A-9B8D9B53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566A0-E2A2-490E-A781-41D2EF30D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8EAB7-8FBA-40FA-BFEB-AF39A260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AEEDE-A780-4AF7-ACFE-42F401E8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4C92-7543-4ECD-9F12-76762B764CF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A673-92F3-410D-8E0A-8B1F75CE91B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F5AF-16E0-411F-B816-22704447485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0380-5F0A-47BE-84D9-B071118286A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920B-B079-4D18-BB03-7B4385C3D8F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FF2-4A05-4DE4-88A9-BF0FABE59C0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3DFE-F1BF-4D4C-9396-DC4314F7868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77D7D-1D21-4A0F-A2BC-CC0DB67BABE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ijt achteraf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onnenprinten.nl/images/algemene-voorwaarden.jpg"/>
          <p:cNvPicPr/>
          <p:nvPr/>
        </p:nvPicPr>
        <p:blipFill>
          <a:blip r:embed="rId2"/>
          <a:stretch/>
        </p:blipFill>
        <p:spPr>
          <a:xfrm>
            <a:off x="0" y="0"/>
            <a:ext cx="29973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r en verkoper sluiten een koopovereenkomst af. Dit kan zowel schriftelijk als mondeling. Een koopovereenkomst kan niet zomaar worden opgezeg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overeenkomst = overeenstemming over de aankoop van een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it de koopovereenkomst vloeien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rechten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licht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t voor zowel de koper als de verkoper (= algemene voorwaar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Re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levering van een deugdelijk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ugdelijk product = product dat bij norma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bruikt voldoet aan de verwachting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Plichten van de koper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het op tijd betalen van het produ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ondeugdelijk product heeft de koper recht op (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wel in deze volgorde!!!)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reparati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ander exemplaar (= vervanging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geld terug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4" descr="http://ww2.autoscout24.nl/advies/koopcontract/173967/148486/as24.ratgeber.sell.handling.contract.png"/>
          <p:cNvPicPr/>
          <p:nvPr/>
        </p:nvPicPr>
        <p:blipFill>
          <a:blip r:embed="rId1"/>
          <a:stretch/>
        </p:blipFill>
        <p:spPr>
          <a:xfrm>
            <a:off x="4586400" y="5273640"/>
            <a:ext cx="4572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lportagew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schermt de consument tegen aankopen aan de deur of tijdens houseparty’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erkoper moet een schriftelijk contract opgeven bij de Kamer van Koophand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enktijd om de koop op te zeggen is 14 dagen, tenzij het bedrag € 50 of minder is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psfm.nl/wp-content/uploads/2012/08/KPN-g.jpg"/>
          <p:cNvPicPr/>
          <p:nvPr/>
        </p:nvPicPr>
        <p:blipFill>
          <a:blip r:embed="rId2"/>
          <a:stretch/>
        </p:blipFill>
        <p:spPr>
          <a:xfrm>
            <a:off x="6448320" y="0"/>
            <a:ext cx="2695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5280" y="76500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t koop op afstan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ze wet beschermt de consument voor aankopen via internet, telefoon of post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vóór de koop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ldoende informatie over zichzelf en het product gev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verkoper moet het product binnen 30 dagen leve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koper heeft bedenktijd om de koop op te zeggen: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lever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 va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 goederen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da1f28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14 dagen na 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bestelling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v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dienst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Picture 4" descr="http://tilburgers.nl/wp-content/uploads/2014/06/jongeren-vaker-slachtoffer-online-winkelfraude-300x168.jpg"/>
          <p:cNvPicPr/>
          <p:nvPr/>
        </p:nvPicPr>
        <p:blipFill>
          <a:blip r:embed="rId1"/>
          <a:stretch/>
        </p:blipFill>
        <p:spPr>
          <a:xfrm>
            <a:off x="6910560" y="17640"/>
            <a:ext cx="2233440" cy="125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53964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een meningsverschil tussen koper en verkoper kan de kope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aan een geschillencommissie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zaak een rechter voorlegg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 hulp en advies vragen aan een consumentenorganisatie (zoals de Consumentenbond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49240" indent="-457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overeenkomst kan door de rechter ongeldig worden als er sprake is va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minderjarige koper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dit is alleen het geval als de verkoper kan weten dat de ouders het niet eens zijn met de koop!!!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en koper die onder curatele is gesteld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bijv. iemand met een zware verslaving of verstandelijke beperking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edreiging, bedro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met kwade opzet iemand oplichten),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waling </a:t>
            </a:r>
            <a:r>
              <a:rPr b="0" i="1" lang="en-US" sz="2300" spc="-1" strike="noStrike">
                <a:solidFill>
                  <a:srgbClr val="000000"/>
                </a:solidFill>
                <a:latin typeface="Lucida Sans Unicode"/>
              </a:rPr>
              <a:t>(= verkeerde voorstelling van iets wat je gekocht hebt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Picture 4" descr="Afbeeldingsresultaat voor rechter"/>
          <p:cNvPicPr/>
          <p:nvPr/>
        </p:nvPicPr>
        <p:blipFill>
          <a:blip r:embed="rId1"/>
          <a:stretch/>
        </p:blipFill>
        <p:spPr>
          <a:xfrm>
            <a:off x="7218360" y="5611680"/>
            <a:ext cx="1870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20T09:32:51Z</dcterms:modified>
  <cp:revision>26</cp:revision>
  <dc:subject/>
  <dc:title> </dc:title>
</cp:coreProperties>
</file>