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5608-9541-4C6A-9D1F-753E5B23C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D5B4-9F73-4FBB-BD00-DB46409D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6B75-73A4-4B50-B3B7-E5A5B42D3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F3C7-2F95-474C-91E4-6510E214D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0EF5-3B14-43BC-A275-577CC40A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3D4A-CCC3-473B-A24F-60057785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9537-5AD1-43AE-B29D-E41A6B8A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ACBE-78DB-473A-971F-8BC195AB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5C7B-7B84-4F66-864B-E6388272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7BD8-E79A-47BB-B06D-408E1C117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8A8B-F5AD-47BA-98C1-6C1F5401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F53B-4E7B-48DB-B465-D7D6D4BB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DD4C-49BE-4741-AFB1-C69B51F8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7D5D-4065-4C4B-93AA-8C92C6D2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7942-BB34-4A82-B0ED-6E4548E9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A442-7500-4BDA-8D8C-C7C49343C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08C4-097B-45DA-998E-0F650188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271E9-4EE6-41AB-BE37-4C850876E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2E4E3-C62E-4DBA-85B4-AA9DEC13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69C32-E13E-4144-899F-B59D003C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E16BF-AED0-4A8B-AB4E-FFF2DE4F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E0C46-AA73-4EF1-BB0F-3884D924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A6D6-FCE7-4F97-8BB6-B48ED5DF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87218-C650-4065-8976-09CF6050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87CFA-C4A8-47C3-AB22-332E7968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AB47C-A864-4347-85F4-B627F3CC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EFC53-B0E2-496D-B4F9-ACFC0AF6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2E2A8-CF3F-4D5C-AE85-B6219876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07D91-ADCF-4CB3-8DA7-6A96FF8BA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1F415-482A-4555-A565-8B93759B6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97715-E9DF-46A7-A95D-FC4122E7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1384A-922F-4E81-8C2B-811EB6C2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BBABE-0D90-4B37-8860-C90B9DC4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0A61-B98A-40F4-81C7-B4249FE0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478E2-0877-4C6F-AFC9-C40B26F7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95F23-D491-4BE4-A4D3-271162A8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B5EAF-F90F-4473-AB5D-165ABBBC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65C27-D987-4D7A-B309-9A367898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A4816-BC68-43A2-A4E0-6C0EA768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51A6E-5C2C-46E4-BD2C-DEF3B0F6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1CA3D-B0E3-49E1-9B7A-DB495E796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334FF-0776-4FAC-863C-125FF900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F173F-2041-4EB4-8A23-33C77980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6EB89-05D3-4779-A8D8-91629363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7C10-6E1C-4A83-8362-C6C2792A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969F4-E369-42D4-8292-E6748A9A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291B0-506B-492A-BD6A-079140CB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88ADB-818F-40CE-BB57-17291DF7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5526B-8E1C-4A30-8A0D-8DAE2362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9FC8F-E4AB-49E2-8CB0-62B47523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266A7-A6D1-414F-A26A-9E7FBDE7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556A2-A07E-4192-8EF1-77AC3645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EC216-6430-4E38-8C2E-4CE31CD1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FC5CD-7004-4EB3-9845-0886FE4D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6C300-7179-409E-9617-BBF183F04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12AC-D1B2-49AA-BDA9-3AFB1F33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2DA12-3715-4246-9014-1AD36E69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42A16-0F6A-4ABA-ACFC-C265C1ACB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1131F-C06D-4C3A-8D15-A70E8AF7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024B6-2AB7-4DA3-9C79-7D3FF62D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A7DB8-A384-457F-B03E-CDA06478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EC2D1-F2BA-4A50-B257-09F6754D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04B9F-6530-4085-8D79-85A6EDAC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6A9C3-4862-4AED-8B57-83D8731B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9C429-96AF-4373-BE8A-24530756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B67A2-E480-48C8-B835-CA55F255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B618-7D03-43EC-92C4-2BB14340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F829B-E4D1-4A58-BF3E-F77297AF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B28793-5BED-4CDA-803F-82D96D01C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EEA43-299A-484D-A071-A6607CD33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ECDBA8-75C1-4AC8-AFCB-7D7F07B4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32050-6BA6-4B8C-8BA7-F18038E1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C8AB1F-F56D-4C66-85A3-F2B9B1E5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33E09-0D32-4784-8D32-C7987D62A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1643B-3E9A-4685-B760-82D2ACDC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B687B-9D34-4A32-AE4C-346BB904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05247-B8B8-4438-9B62-2BE37FEF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5820-89BA-4E80-9F5F-A11C7EE9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C5218-90D8-47BC-A931-8E63DC87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2086E-2C7C-48E5-B56C-94158758A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442BF-4092-415E-96B9-9AEC6FE0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9AB2BA-76CD-4ECF-9329-BDDA55B6C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49AF4-8BD3-439B-B8A2-A336BB73C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AB7D1-CFEB-4E87-B68C-61E3657C6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1EDF3-13C1-431F-845B-E64171EC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E3DA1-7105-483D-8A3C-0EAF091D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FCC6E-6FEB-4ACF-B5F9-932CCB73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BEDCC-F113-49CB-A15F-8A6D83EE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A558-7230-4412-A094-2EE1115A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985C7C-F7FC-45BE-86D2-C49D9679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FBB47-84E7-42AD-BDE0-F79A7744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86859-963B-48A6-9D6F-E7E8300C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0A945-F214-4DE3-91AD-C0F2B7B5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A1B52-39EF-4A8C-A03F-03A1CF1E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0AA94-3486-4A5D-BF13-14630893E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C30D7-9714-4AB7-9CE0-E955EA8A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DED8-7BC4-4EAE-8918-800FCC797B0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C96F-EF34-4233-990B-C54A9AB9D509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9856-7CA0-4A31-ACED-0E03BAC0BEC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2CC6-151E-4CB1-8C6D-85F9C2511B7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735B-8B7B-4C13-97F3-9539C4976DA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3378-98FE-4148-AA63-32EA1C44AD3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C765-880A-4C2E-8003-05FACA43E41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E6BC-D4CB-42F9-BF1E-38C19B13BA83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Kopen met gevoel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8" descr="http://www.bluenotion.nl/File/milieukeur.jpg"/>
          <p:cNvPicPr/>
          <p:nvPr/>
        </p:nvPicPr>
        <p:blipFill>
          <a:blip r:embed="rId2"/>
          <a:stretch/>
        </p:blipFill>
        <p:spPr>
          <a:xfrm>
            <a:off x="0" y="0"/>
            <a:ext cx="2411280" cy="31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539640" y="18864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325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sumenten letten bij hun aankopen op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Prijs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ruikbaarheid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Kwalitei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Milieuvriendelijkheid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Kinderarbeid in ontwikkelingslande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rmoede in ontwikkelingslanden (met name de boeren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64480" indent="-2077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s://www.youtube.com/watch?v=URm_AeNan5Q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1253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lieukeurmer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(product is op milieuvriendelijke manier geproduceerd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odweav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(aan dit product hebben geen kinderen gewerkt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x Havelaar keurmer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(eerlijke prijs voor de grondstoffen betaald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ttps://www.youtube.com/watch?v=bi3ieBeZGw8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zondheidskeurmer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el 2" descr=""/>
          <p:cNvPicPr/>
          <p:nvPr/>
        </p:nvPicPr>
        <p:blipFill>
          <a:blip r:embed="rId1"/>
          <a:stretch/>
        </p:blipFill>
        <p:spPr>
          <a:xfrm>
            <a:off x="201600" y="176040"/>
            <a:ext cx="8485200" cy="11592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2" descr="http://www.missethoreca.nl/Resizes/mainarticleimage/PageFiles/69/20/42069/001_food-image-HOR008115I01.jpg"/>
          <p:cNvPicPr/>
          <p:nvPr/>
        </p:nvPicPr>
        <p:blipFill>
          <a:blip r:embed="rId2"/>
          <a:stretch/>
        </p:blipFill>
        <p:spPr>
          <a:xfrm>
            <a:off x="4716360" y="5445000"/>
            <a:ext cx="1828800" cy="12114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http://www.debeterewereld.nl/images/UserFiles/Image/hoofd_3_fairtrade-maxhavelaar.jpg"/>
          <p:cNvPicPr/>
          <p:nvPr/>
        </p:nvPicPr>
        <p:blipFill>
          <a:blip r:embed="rId3"/>
          <a:stretch/>
        </p:blipFill>
        <p:spPr>
          <a:xfrm>
            <a:off x="7870680" y="5342040"/>
            <a:ext cx="1008360" cy="14176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http://upload.wikimedia.org/wikipedia/en/f/fc/GoodWeave_logo.jpg"/>
          <p:cNvPicPr/>
          <p:nvPr/>
        </p:nvPicPr>
        <p:blipFill>
          <a:blip r:embed="rId4"/>
          <a:stretch/>
        </p:blipFill>
        <p:spPr>
          <a:xfrm>
            <a:off x="7624800" y="3057480"/>
            <a:ext cx="1211400" cy="1308240"/>
          </a:xfrm>
          <a:prstGeom prst="rect">
            <a:avLst/>
          </a:prstGeom>
          <a:ln w="0">
            <a:noFill/>
          </a:ln>
        </p:spPr>
      </p:pic>
      <p:sp>
        <p:nvSpPr>
          <p:cNvPr id="379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" descr="http://www.bluenotion.nl/File/milieukeur.jpg"/>
          <p:cNvPicPr/>
          <p:nvPr/>
        </p:nvPicPr>
        <p:blipFill>
          <a:blip r:embed="rId5"/>
          <a:stretch/>
        </p:blipFill>
        <p:spPr>
          <a:xfrm>
            <a:off x="8101080" y="692280"/>
            <a:ext cx="79200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68360" y="18864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e producten met bepaalde keurmerken zijn duurder dan de normale producten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oe meer consumenten voor een bepaald product kiezen, hoe meer er van dit product wordt geproduceerd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Hoe minder consumenten voor een bepaald product kiezen, hoe minder er van dit product wordt geproduceerd</a:t>
            </a:r>
            <a:r>
              <a:rPr b="0" lang="nl-NL" sz="25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</a:rPr>
              <a:t>MVO (maatschappelijk verantwoord ondernemen)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= tijdens het ondernemen rekening houden met het milieu, dierenwelzijn en arme landen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AutoShape 4"/>
          <p:cNvSpPr/>
          <p:nvPr/>
        </p:nvSpPr>
        <p:spPr>
          <a:xfrm>
            <a:off x="63360" y="-136440"/>
            <a:ext cx="7315200" cy="58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8" descr="Nic. Oud MVO in direct mail en e-fulfilment"/>
          <p:cNvPicPr/>
          <p:nvPr/>
        </p:nvPicPr>
        <p:blipFill>
          <a:blip r:embed="rId1"/>
          <a:stretch/>
        </p:blipFill>
        <p:spPr>
          <a:xfrm>
            <a:off x="7203960" y="5805360"/>
            <a:ext cx="1917720" cy="10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09-22T15:32:07Z</dcterms:modified>
  <cp:revision>28</cp:revision>
  <dc:subject/>
  <dc:title> </dc:title>
</cp:coreProperties>
</file>