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3A10-B185-41D5-8715-D6D51FDD9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9638-9FFE-4F88-8554-1D78050B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9471-CFEC-490F-AF88-990FB5891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E3CE-336C-4A12-8A99-4B486237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D130-849D-42FD-8BF2-B7CDD692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ACAA-65BD-4579-88EA-369330E1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28C3-2289-4B09-8E15-9A83210B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45C7-2D51-4125-BC04-CDF010D9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7637-C2D8-4394-BA9D-24E6E348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0D372-51FB-4185-BAAB-6AF4E5F5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7E97-FE2A-486A-B52A-18A9C582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6AA9-25C7-4F8C-8FBF-D7C4037D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10C9F-115A-4DC1-8761-C45FD90CA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C2D0-DF4F-4E65-9479-0C51000B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7C03-2D84-404E-83F2-202366A6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1E17-5B81-4526-B7C4-CB7FA2B9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38C6-242D-488F-BAFF-6F027503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54E00-0F84-48AB-80BE-ACBB13981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BB362-04AC-49CC-BCDB-702962F1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366F1-667B-420B-B16B-3C326CE7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7BAAD-D598-4DA6-A139-C0B75D50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533C1-77BB-4BF4-B4A1-F33F69CF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13D3-3F06-4D8F-AEC6-73A40C8B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5B29F-C2A5-4386-AD22-2666FE9B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E4506-051D-4DB9-8BA4-10494128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5EFD5-9CB9-46A4-9995-B77213D4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F8E50-F269-41B9-88BA-6CB57BFD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09997F-FFEF-463F-8C8A-B7D6C5F3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919FC-9EA2-48E2-82D9-AACD9FF56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DB8D9-495D-4E30-B391-0876C9F61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23018-8170-4A1E-B063-9D10B0F32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5A4FD-9629-41EB-BC42-B9EF129A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7ED70-6CE0-4326-950F-D939D3EA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43E3-86BB-4261-B01F-C20EEEAB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1A174-D21D-4EC3-A7D2-31DD9766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497BB-0E78-41EB-8B6C-FE6F10A9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5DA3D-8E71-4E85-A25C-64EBCE3B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31BB1-0E29-429D-8E7F-1A9BF787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8049B-2F18-422A-9738-330E1E3C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9DF10-D3C9-4EA1-9FAE-2FE5CFA65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A7690-1545-431C-80AA-A019B3FF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AE2A2-EDB0-41F0-9583-013971CE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4621C-E211-4640-AF39-A707E0288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62D42B-9E18-404C-9187-00245848F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B809-F882-44FC-B765-BF3A34C43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E507F-1BC6-4A66-8E6B-C09FA82E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DBD1D-D754-4AFE-AF0E-BE0B8BE2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76D62-6894-4D1D-B3BD-076D0ECD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4F6F23-D7C7-4AF9-9F79-71E7B2C04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0882F-4DFC-410D-843E-AF090320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6E78A-3430-4907-9738-1C1FA80D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D89C97-9596-478A-9C7E-18BFC616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10995-4E7C-40EF-B71D-1EC494CB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9ABAC-727B-4709-B2D6-420508CF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C7C60-6B72-4AE5-899E-E6A335BD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54EE-ED64-42A6-89AC-3B4519AD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6C4A8-F579-46C7-B03A-DE5CFA00C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0641E8-70BB-4501-86B7-8D8AEC46D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A1EB4-2EA2-4CC1-B6BE-029A412C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8E4DF-84D5-436A-9D8A-EB052C84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9CABB-E471-4210-9EC5-BB0A6A7D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DFAD6-FDB4-4FB7-92F6-297765BA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3F134-9A38-4245-8B6A-F562A506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EB2A0-8D88-4CBB-B4C9-4744940C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8660B-8C73-4C81-BF48-C006596A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D18AB-F8CC-4872-BD42-2DFA06C8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438D-B56A-4486-AD4B-10A7CD18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EDE70-B3C0-4EFB-A61B-32AAB4C7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8A5EB-6E50-44B4-82A3-14EFFC90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85873-FBD9-4AD7-A3A9-7E5C1B05C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208E2-2005-4371-B478-BB41B88E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D9F9B-9F4B-4319-99E5-1C31B5E8B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5116D6-77DB-43B8-89E9-1808BC1D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02596-5578-4358-A4C6-3CB6B0A7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29B55-BFF2-4422-8458-939914B4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C4C59-15E3-4A1D-AC5C-05CE83C6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01695-8359-430B-9172-CB549B7D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94AE-E1CA-41F2-82B5-CB7A557F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FB694-E8F7-42A9-9DDA-92EE7367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403AC-7881-401E-B89F-224B6720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057F5-F660-49E9-9671-D9580998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495BA-2ACE-4826-86A2-59DD2692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9920D-6F23-4A42-ADA3-C942E013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35736-51E9-4631-8199-1BAE3ED63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ED5698-8306-449F-A9F2-CEA1EE04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0ACF7-0836-4BE6-A6D1-BFD8BD48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01AD5-AC25-4F78-A72D-FA2D473F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FD2C9-92D7-4B20-ADEF-AC180316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3544-F47B-48AA-B26B-5498BA9A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8747D-E906-4A4A-9B61-ED9FADC0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674E5-A395-4284-9DB0-1016EA65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4E39AD-3946-4ED5-8592-0C89BA47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566C86-6ED9-4EFE-A80A-87ED5F60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0F8FD-233D-406B-9E98-61B119BA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AA82A-2D0C-425E-B733-F822568E3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8290C-DFF9-41A1-A1CE-F0756551A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060A-B816-4DDE-9303-305184531EF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FE19-1A9D-4D18-A041-75985E8FFE5F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075A-E299-494C-9213-41220514A45F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7DE0-18E6-4A2C-93E5-46715F67B37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84D7-95F3-4B35-A0A8-D48C4EC46F5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914C-5269-4832-8AFB-AF424915E00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5672-2AB6-4132-B15A-68EA945D4F4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9854-2923-4C53-8F97-8E7651AFC6AF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4360" y="26028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Consumeren met en zonder geld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5" descr="http://api.ning.com/files/ZHWSihFB0iaaEh*TmU-m-bqiVlpVvERMW4*gwP4iL4XU0Is-qNuDMNMJGfdW0aNpE-Sd1qkvdvWaYcnV1ahRqAO0HfSP4oAw/IMG_0235.jpg"/>
          <p:cNvPicPr/>
          <p:nvPr/>
        </p:nvPicPr>
        <p:blipFill>
          <a:blip r:embed="rId2"/>
          <a:stretch/>
        </p:blipFill>
        <p:spPr>
          <a:xfrm>
            <a:off x="4932360" y="3149640"/>
            <a:ext cx="2497320" cy="18748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7" descr="http://www.ed.nl/polopoly_fs/1.2152199.1350572418%21/image/image.jpg_gen/derivatives/landscape_800_600/image-2152199.jpg"/>
          <p:cNvPicPr/>
          <p:nvPr/>
        </p:nvPicPr>
        <p:blipFill>
          <a:blip r:embed="rId3"/>
          <a:stretch/>
        </p:blipFill>
        <p:spPr>
          <a:xfrm>
            <a:off x="1908000" y="3149640"/>
            <a:ext cx="261792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Je behoeften bevredige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10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In je behoeften voorzi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door iets te kopen bij een bedrijf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door zelfvoorziening </a:t>
            </a:r>
            <a:r>
              <a:rPr b="0" lang="en-US" sz="3500" spc="-1" strike="noStrike">
                <a:solidFill>
                  <a:srgbClr val="105766"/>
                </a:solidFill>
                <a:latin typeface="Lucida Sans Unicode"/>
              </a:rPr>
              <a:t>(bijv. zelf (</a:t>
            </a:r>
            <a:r>
              <a:rPr b="0" lang="en-US" sz="3500" spc="-1" strike="noStrike" u="sng">
                <a:solidFill>
                  <a:srgbClr val="105766"/>
                </a:solidFill>
                <a:uFillTx/>
                <a:latin typeface="Lucida Sans Unicode"/>
              </a:rPr>
              <a:t>dus gratis</a:t>
            </a:r>
            <a:r>
              <a:rPr b="0" lang="en-US" sz="3500" spc="-1" strike="noStrike">
                <a:solidFill>
                  <a:srgbClr val="105766"/>
                </a:solidFill>
                <a:latin typeface="Lucida Sans Unicode"/>
              </a:rPr>
              <a:t>) een gerecht bereiden)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door de natuur </a:t>
            </a:r>
            <a:r>
              <a:rPr b="0" lang="en-US" sz="3500" spc="-1" strike="noStrike">
                <a:solidFill>
                  <a:srgbClr val="105766"/>
                </a:solidFill>
                <a:latin typeface="Lucida Sans Unicode"/>
              </a:rPr>
              <a:t>(bijv. genieten van de zon)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door gebruik te maken van collectieve voorzieningen </a:t>
            </a:r>
            <a:r>
              <a:rPr b="0" lang="en-US" sz="3500" spc="-1" strike="noStrike">
                <a:solidFill>
                  <a:srgbClr val="105766"/>
                </a:solidFill>
                <a:latin typeface="Lucida Sans Unicode"/>
              </a:rPr>
              <a:t>(bijv. fietsen op een fietspad)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el 2" descr=""/>
          <p:cNvPicPr/>
          <p:nvPr/>
        </p:nvPicPr>
        <p:blipFill>
          <a:blip r:embed="rId1"/>
          <a:stretch/>
        </p:blipFill>
        <p:spPr>
          <a:xfrm>
            <a:off x="274680" y="219240"/>
            <a:ext cx="8412120" cy="14014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http://213.206.66.232/gfx/page/visual/86ht0622.jpg"/>
          <p:cNvPicPr/>
          <p:nvPr/>
        </p:nvPicPr>
        <p:blipFill>
          <a:blip r:embed="rId2"/>
          <a:stretch/>
        </p:blipFill>
        <p:spPr>
          <a:xfrm>
            <a:off x="7566120" y="4508640"/>
            <a:ext cx="157788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2599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collectieve voorziening is een voorziening die geheel of grotendeels is betaald van belasting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beeld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 het gebruik ervan vraagt de overhei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soms een eigen bijdrag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Denk bijvoorbeel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an openbaar vervoer en onderwij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AutoShape 5"/>
          <p:cNvSpPr/>
          <p:nvPr/>
        </p:nvSpPr>
        <p:spPr>
          <a:xfrm>
            <a:off x="63360" y="-136440"/>
            <a:ext cx="699156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7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9" descr="Thomson Memorial Park.JPG"/>
          <p:cNvPicPr/>
          <p:nvPr/>
        </p:nvPicPr>
        <p:blipFill>
          <a:blip r:embed="rId1"/>
          <a:stretch/>
        </p:blipFill>
        <p:spPr>
          <a:xfrm>
            <a:off x="684360" y="2205000"/>
            <a:ext cx="1730160" cy="12952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1" descr="https://upload.wikimedia.org/wikipedia/commons/thumb/b/bb/Straat_in_woonwijk_Delft.jpg/250px-Straat_in_woonwijk_Delft.jpg"/>
          <p:cNvPicPr/>
          <p:nvPr/>
        </p:nvPicPr>
        <p:blipFill>
          <a:blip r:embed="rId2"/>
          <a:stretch/>
        </p:blipFill>
        <p:spPr>
          <a:xfrm>
            <a:off x="2446200" y="2235240"/>
            <a:ext cx="1730520" cy="12999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3" descr="http://www.hilversumbeterbereikbaar.nl/files/Impressie%20Fietspad%20Langs%20de%20Lijn%20640px.jpg"/>
          <p:cNvPicPr/>
          <p:nvPr/>
        </p:nvPicPr>
        <p:blipFill>
          <a:blip r:embed="rId3"/>
          <a:stretch/>
        </p:blipFill>
        <p:spPr>
          <a:xfrm>
            <a:off x="4184640" y="2235240"/>
            <a:ext cx="1749600" cy="13129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5" descr="https://upload.wikimedia.org/wikipedia/commons/1/1a/Logo_Portaal_Openbaar_Vervoer_2.jpg"/>
          <p:cNvPicPr/>
          <p:nvPr/>
        </p:nvPicPr>
        <p:blipFill>
          <a:blip r:embed="rId4"/>
          <a:stretch/>
        </p:blipFill>
        <p:spPr>
          <a:xfrm>
            <a:off x="2405160" y="3535200"/>
            <a:ext cx="3529080" cy="11304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17" descr="http://www.leusden.nl/624/onderwijsinspectie/files/onderwijs.jpg"/>
          <p:cNvPicPr/>
          <p:nvPr/>
        </p:nvPicPr>
        <p:blipFill>
          <a:blip r:embed="rId5"/>
          <a:stretch/>
        </p:blipFill>
        <p:spPr>
          <a:xfrm>
            <a:off x="5929200" y="2195640"/>
            <a:ext cx="208440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Formule is: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(nieuw – oud) : oud x 100 = ……%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Voorbeeld: 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Winst 2011: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€ 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30.000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Winst 2012: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€ 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35.000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€ 35.000 - € 30.000) : € 30.000 x 100 = 16,67%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el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7872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5-08-27T07:10:59Z</dcterms:modified>
  <cp:revision>11</cp:revision>
  <dc:subject/>
  <dc:title> </dc:title>
</cp:coreProperties>
</file>