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2D4-30A9-4D65-A6D0-9CD45505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509-A65A-4CDE-963A-244E70CC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2AA-3AF5-4CB0-B2E5-523746AA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ACB-848A-4928-864F-85F0ACBA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8D2E-D1C7-44D7-9E9A-D102D95A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8CAB-5908-4D8B-94A5-030CE1D7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025-DE24-4007-A9BA-C9F8F0A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FBEA-A226-4835-8548-88D9ECA7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5CF7-6814-4864-A8DA-5630DC2A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553C-BFC2-419C-BCE6-735256E9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FE50-7314-42C6-A7E4-3B4A12D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0CF-64EA-4F93-8518-01F6B44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CCDE-B0CC-4E82-BF11-EFA4037F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167E-436F-4A2F-8485-9B50E36B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5F17-B581-41AC-ACC4-CFD396A8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1804-E846-4D83-A3B8-FD4416BA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5FB1-8959-41C9-9927-5674BBD5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42B6-812E-41D6-A167-BF36F34B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408A-F704-4518-A9D3-AB896039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46A1-F86C-4224-BF6D-DE3B3E0E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F94C-C739-4B22-9FA3-13672B77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D337-6908-4112-B704-186EF9A1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6D3-91B4-49F3-BCBC-808F058A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20D0-1808-432D-88A5-E62B5344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7954D-00C0-4EA2-8F70-8E27DE2A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F7B75-2F79-4389-B9DF-7C4D826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B5D6-4997-4D79-B381-E6B1174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4351-7456-447F-AA3C-D6C72E96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4D88-C7C7-406E-8643-2DFAB154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EE4D-5899-4915-A09E-9A7EBCBD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35DE-74A0-4A68-8829-E8694FCD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863B8-42C2-4B85-AE87-1CB0CE53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7662-EA8E-4695-BA25-D5BC804D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072-FF3D-4ADE-9446-363A8D85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E6C7-97D1-48DC-9FC9-A9E1BE7C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07A3-6DFB-44C6-AECD-E8B2299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AEBD-FD2C-4247-84CD-3FD8AEBE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D77B-8D97-4B3A-BA0E-1BA656C7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9D60-A1E6-4C65-A864-2F8B01C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81D3-B3AC-4789-AE0E-6E8834C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3100C-C3FE-47C8-AA9C-1DFAA7AB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6C8A-4B5C-40F6-AC87-CBB17448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824A-B9AF-4119-BC8E-67DFAE97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E0C92-4590-43D3-B6FC-80489EE0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2D5-E009-489F-AF36-184B5BE6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F487-A803-4C9A-B7ED-E032AB8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6273-1C1C-4B96-929D-AC00DC8C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9CE5-8A2B-4D0F-B78D-ECB5854E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953DB-3953-4E09-BC21-A6435F37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CFE88-8264-461D-AAC7-E7FB3947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A2851-0238-4289-A9DB-156F94D2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0389E-3994-489D-8CD3-34241042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08424-51B5-4B73-9B52-7AC91AD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B85B8-4C59-4FC6-AAA9-BE2B6A37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6F4F8-7591-4E4E-98AA-DE13A800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A39-5D8C-4D86-9180-D2DB89F6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06B13-B6F4-4528-A868-747EACC4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2776-F1B0-42C2-B9A6-648D3955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15F5-E453-4AB1-801B-CCDD4496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E602-F281-47C8-A3F0-0937A4CE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DF6FE-8CA6-4A9E-9A70-CF45059F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93754-07AA-4F6E-8483-ED5C3F61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41D43-2658-420E-8268-074456CC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ED4C9-992A-424B-990C-11697DE2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C3FF5-D79D-4D11-9CA1-98B721A5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E12E-DB4B-4F13-8634-45D9A3C4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A3B-EE6F-448E-AFDC-F67CCE2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2B47E-9713-4B30-8096-77302F3A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E10D6-C37E-4219-9D63-DA6864F0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F425C-E00B-4668-802A-34F59032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19F88-4240-4A82-A762-7C4DD86A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9D6B2-C01A-4D48-A99A-8188435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90AB2-6873-40C9-ACC2-75C5F41E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435D1-88D0-4A61-8A5A-72A10780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67E9C-419D-4B94-B433-14D2C8E7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EA2C3-0BC4-4344-9CAB-E317D798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53E25-CCC9-425B-BAF4-5DC5700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ABB-12A0-4475-B902-95E1A77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2075E-AB3B-4A63-BF9B-CD5AD09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E0C82-A584-4D4D-B929-AAF2A03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52634-7598-4DFE-A4F9-6661E249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9A9E6-0189-413F-BB12-4FCEDEB0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557CD-817F-4CFB-A59E-2BE0436A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BFCD4-3950-4714-B9E6-882B729D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AAD49-0876-44E2-A09E-82301721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5597-BE30-42FE-8728-C12E5B1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AE794-8478-47F9-8141-683BC624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7BDD9-975D-4561-9781-E1049246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C46-7EAE-482E-A15D-01A77BCC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74E93-2427-45FE-9647-200FAA5C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F0B01-3BF0-4EF2-B29C-6799054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62CF8-C07C-4BB6-9F5E-30A3D91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DBF57-B49E-46DC-8E39-3B600E0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E975A-A2A7-46EC-9659-BD179C6D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2C414-F6EE-4B2D-9118-6756E0B7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B69EC-23F4-4614-AAC0-FDC74CA6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0620-9088-4067-9A06-5A28151BBA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7B42-2400-4064-8E84-D9F32CFFDDA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1ECD-5852-4936-8B47-4F3B4A4DEB9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546E-C19B-44E3-972E-4A4B08756B4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2644-5C3B-4AB5-BA75-A7056914B2C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9BD1-8A5C-41B5-A7F0-A7AC45FCC8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12DB-D13C-40F7-BD66-FBD08877BBB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A66F-329A-4C2F-A8E5-B80E65585D6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11280" y="19188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Afbeeldingsresultaat voor 4 p's"/>
          <p:cNvPicPr/>
          <p:nvPr/>
        </p:nvPicPr>
        <p:blipFill>
          <a:blip r:embed="rId2"/>
          <a:stretch/>
        </p:blipFill>
        <p:spPr>
          <a:xfrm>
            <a:off x="3132000" y="3284640"/>
            <a:ext cx="307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en belangrijke doelstelling van bedrijven i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hogen van de verkoopopbrengs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e kunnen ze dit bereik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o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gebruik te maken van de marketingmix (ook wel 6 p’s genoemd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beleid (bijv. alleen A-merk produc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t productbeleid moet goed aansluiten op d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oeften van d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doelgroep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ijsbeleid (bijv. verleidelijke aanbieding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motiebeleid (bijv. advertenties in kranten en tijdschrif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aatsbeleid (bijv. verkoop via het interne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tatiebeleid (overzichtelijke indeling van de winke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eelsbeleid (deskundig en herkenba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Gerelateerde afbeelding"/>
          <p:cNvPicPr/>
          <p:nvPr/>
        </p:nvPicPr>
        <p:blipFill>
          <a:blip r:embed="rId2"/>
          <a:stretch/>
        </p:blipFill>
        <p:spPr>
          <a:xfrm rot="2490000">
            <a:off x="5519520" y="1076400"/>
            <a:ext cx="3085920" cy="2222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://www.fiftytoo.be/nl/local/cache-vignettes/L250xH212/arton1000-826f5.jpg"/>
          <p:cNvPicPr/>
          <p:nvPr/>
        </p:nvPicPr>
        <p:blipFill>
          <a:blip r:embed="rId3"/>
          <a:stretch/>
        </p:blipFill>
        <p:spPr>
          <a:xfrm rot="19334400">
            <a:off x="824040" y="658800"/>
            <a:ext cx="3028680" cy="25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humbs.dreamstime.com/z/psychologische-prijs-die-de-prijs-vaststelt-van-21693187.jpg"/>
          <p:cNvPicPr/>
          <p:nvPr/>
        </p:nvPicPr>
        <p:blipFill>
          <a:blip r:embed="rId4"/>
          <a:stretch/>
        </p:blipFill>
        <p:spPr>
          <a:xfrm rot="2278800">
            <a:off x="5108400" y="3778200"/>
            <a:ext cx="3405240" cy="1852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reclamewereld.blog.nl/files/2010/03/McD-Wifi.png"/>
          <p:cNvPicPr/>
          <p:nvPr/>
        </p:nvPicPr>
        <p:blipFill>
          <a:blip r:embed="rId5"/>
          <a:stretch/>
        </p:blipFill>
        <p:spPr>
          <a:xfrm rot="19510200">
            <a:off x="1195560" y="3663720"/>
            <a:ext cx="3344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 een ondernemer gaat he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rom het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op d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laa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tegen de juis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ij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met de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moti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kop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merci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gericht is op het verhogen van de verkoop, dus doel is om meer winst te make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een idee wil versprei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drag wil veranderen zonder het doel 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mee te verdien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reclamewereld.blog.nl/files/2009/03/kitkat-benchvertising.jpg"/>
          <p:cNvPicPr/>
          <p:nvPr/>
        </p:nvPicPr>
        <p:blipFill>
          <a:blip r:embed="rId2"/>
          <a:stretch/>
        </p:blipFill>
        <p:spPr>
          <a:xfrm>
            <a:off x="6168960" y="324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embers.ziggo.nl/gvdommel/weekblad0506/small43501052-banner-sire.jpg"/>
          <p:cNvPicPr/>
          <p:nvPr/>
        </p:nvPicPr>
        <p:blipFill>
          <a:blip r:embed="rId3"/>
          <a:stretch/>
        </p:blipFill>
        <p:spPr>
          <a:xfrm>
            <a:off x="3348000" y="5840280"/>
            <a:ext cx="579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is heel belangrijk voor ondernemers 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olgende red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samen veel geld te beste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invloed op de aankopen th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zijn vaak trouwe kla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ttp://cjgbarendrecht.nl/wp-content/uploads/2013/12/Jongeren11.jpg"/>
          <p:cNvPicPr/>
          <p:nvPr/>
        </p:nvPicPr>
        <p:blipFill>
          <a:blip r:embed="rId2"/>
          <a:stretch/>
        </p:blipFill>
        <p:spPr>
          <a:xfrm>
            <a:off x="5724360" y="4562640"/>
            <a:ext cx="341964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15T10:30:01Z</dcterms:modified>
  <cp:revision>15</cp:revision>
  <dc:subject/>
  <dc:title> </dc:title>
</cp:coreProperties>
</file>