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D048-B9FE-42AC-BEED-221B2174E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3E1D-9491-4CE2-B898-851E2454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EB38-5789-40B6-B1DF-B6B90E8B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BB17-B013-440E-A5AD-78EC34036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A939-2350-4E7B-BA14-EAC027C82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A1A0-827F-47C2-9D08-816141FA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8899-3609-4266-B3C9-AF070257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B6F9-6EFA-40AC-B52E-D9E59C75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39F2-E6F3-4D34-8F67-1283AD09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9FE0-BE4F-4F7B-8F6E-7B22D36F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1EC5-E35B-46BF-AFAE-90AFBC99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2E8C-64F5-4497-8D2A-0A3C7BAA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BD60-33B8-44B1-8EF6-50138EE3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FB9F-5B40-4DFA-8936-77941882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D12E-B1F5-4D92-9281-25553403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9ED2-27A4-4CB9-9BF0-6DCC5F8BF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0223-74F7-4E6A-BD85-AC40DFA3C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837CF-7CA9-4B44-AB22-B85469800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4242B-D2FE-4C7D-8A0A-6E5B0909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DB678-9E8C-4392-BF01-D17C2DB8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67651-6D6C-4076-8E61-FFF1901D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298BC-0800-447C-874D-9EE148B6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DA3D-068F-4B69-9BAA-EEA88639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59CD5-107A-43F0-8F32-9D7E4DD1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F0604-323A-4587-A302-56548875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9D562-FACC-4B70-8461-91173712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8E4B8-63BF-457C-9DE0-B405185E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EB9E6-D787-4CDF-AB3C-A4B280BB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E7021-59FC-44EB-BC73-24D24C4CC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926F1-16BE-4435-96D2-38B888BBE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1CFDB-5483-4E00-BE6D-415B8A6F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61072-7FE3-4111-A36E-30F582A0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B0D98-240D-4F73-A26C-AAEB1914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FE7B-C262-433D-8B02-B92DDFC4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0217E-B8F1-4933-B06E-F97ADBDA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ED45E-170B-4E06-A143-4296AB04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F35C2-831F-4786-AAC0-46C1BDF6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5211F-5BC8-4F00-AD06-77A788A8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92AFD-A2FB-4832-84EE-6B4C901E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EF4CF-16D7-4EA6-BBC4-C4D3DFC4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3C474-F41B-42D8-8CC7-EE7316F1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C6BFE-F055-4595-851D-D2D9F7185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C6DF1-8BD7-45AF-9F09-D02E1AC2E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3E641-3BBA-4EC3-871E-D7248B79B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9FEF-636B-4162-A062-45629FD4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182F2-51D1-4098-8FD9-4D5F7EDF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44609-2E08-464B-983B-C62554DA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FA62C-849C-4D75-AF55-9BA26BFC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2F4B2-08B1-42FD-85B4-AE238D2A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8AE74-0A10-4527-8F5F-025E6921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54326-B66C-452E-8078-8CE6DCFD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01CC6-16C2-4DBE-B7D6-E5419C2D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F920D-DA13-4775-B428-A9B694FA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A87A3-63A2-4E89-92CF-F0D8C7F5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52B46-C658-4879-901B-B7BD7AEC5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5D8F-9344-4DE9-BE5B-3DFDB912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1032B-1702-4A83-885C-B5FF37F4E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FD627-6210-4418-945E-473052CAB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A128A-A007-4A73-981F-85778ACA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0978F-6C57-4BA9-A655-83C6ECDD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E94C6-4BA7-4C78-884D-A6930F27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B4D89-D516-452D-9EA6-0850E4C0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E3CD9-85EE-40A9-8468-F1CF63EE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1F285-1870-4A0B-9E1A-C75EF495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7D124-4377-4C9E-803B-73FF8FA7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8D593-75FC-4858-B6A3-EF6E4B00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454B-48E5-476F-A725-B861C822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702D1-AC3E-40F2-A76C-F86ABFE2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C055C-0CF9-473E-B5C7-ABFED8A7E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1F437-2868-4EF0-8CF4-DC4E471FF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E652C-2C52-43ED-9932-F02331D5B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D33F7-36CF-4B86-8AD5-4D305D09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AD9D8-C137-40A8-8330-E8434B07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4DD2B-29BD-4DA7-8A69-29864747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579CD-242C-47F6-8F01-FD054295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2E3ED-2E29-4CE4-9D82-B11D4102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7E803-6C30-49F3-9E73-3FB9FA9C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85B3-07C2-4CEA-91E6-698E8A85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7BD67-C3A3-4585-8809-55B69F11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EA7F8-B069-47AE-9A49-FD5E4100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41A29-E438-4492-BBD5-C79B5893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B0DEE-A3C3-4E1D-9C22-C7EA55CE1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8DD8F-0D34-4295-9801-C7B41ED29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E8E50-8C55-4B1E-B5B1-786AF67B0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6DD89-082F-4111-8C3C-91C4C37A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C4399-9150-440C-AF55-A24904FF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4E5A8-1D9E-497D-A235-009E47B4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E36FA-BCC4-41DA-85E1-31C4B368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BE65-E671-42D0-BAD8-F2265B2E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B96AB-AA3D-4296-91DC-44D4ECCB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3B238-E7D2-486E-BB47-B740D707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3F027-7D99-423D-BC2A-253A23EC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D3979-63FE-4A86-B539-D5E3B256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CBF59-07EF-495A-9654-3CCBEF74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632C7-DF02-4C22-824C-27B9392D7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EF3D3-9C52-4F26-8D6A-AE49BB4C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7579-7110-4F6C-B541-27A25147D91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C89E-059B-4F09-99CF-079CA4571E21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9FB2-6F70-4AA6-8E3C-C7C1ACAE181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A3D9-7F81-4223-A968-8795E5A7B65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6F04-5DF2-4AA4-A20C-679A1443699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3986-F935-43FF-88BE-667BFDC14D1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8951-D116-4939-AEAE-C8184456C2B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E0F8-7D2B-479F-B70B-CA8C407D748E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4360" y="26028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2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Consumeren met en zonder geld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5" descr="http://api.ning.com/files/ZHWSihFB0iaaEh*TmU-m-bqiVlpVvERMW4*gwP4iL4XU0Is-qNuDMNMJGfdW0aNpE-Sd1qkvdvWaYcnV1ahRqAO0HfSP4oAw/IMG_0235.jpg"/>
          <p:cNvPicPr/>
          <p:nvPr/>
        </p:nvPicPr>
        <p:blipFill>
          <a:blip r:embed="rId2"/>
          <a:stretch/>
        </p:blipFill>
        <p:spPr>
          <a:xfrm>
            <a:off x="4932360" y="3149640"/>
            <a:ext cx="2497320" cy="18748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7" descr="http://www.ed.nl/polopoly_fs/1.2152199.1350572418%21/image/image.jpg_gen/derivatives/landscape_800_600/image-2152199.jpg"/>
          <p:cNvPicPr/>
          <p:nvPr/>
        </p:nvPicPr>
        <p:blipFill>
          <a:blip r:embed="rId3"/>
          <a:stretch/>
        </p:blipFill>
        <p:spPr>
          <a:xfrm>
            <a:off x="1908000" y="3149640"/>
            <a:ext cx="261792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Je behoeften bevredig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=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 je behoeften voorzi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door iets te kopen bij een bedrijf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door zelfvoorziening </a:t>
            </a:r>
            <a:r>
              <a:rPr b="0" lang="en-US" sz="3500" spc="-1" strike="noStrike">
                <a:solidFill>
                  <a:srgbClr val="105766"/>
                </a:solidFill>
                <a:latin typeface="Lucida Sans Unicode"/>
              </a:rPr>
              <a:t>(bijv. zelf (</a:t>
            </a:r>
            <a:r>
              <a:rPr b="0" lang="en-US" sz="3500" spc="-1" strike="noStrike" u="sng">
                <a:solidFill>
                  <a:srgbClr val="105766"/>
                </a:solidFill>
                <a:uFillTx/>
                <a:latin typeface="Lucida Sans Unicode"/>
              </a:rPr>
              <a:t>dus gratis</a:t>
            </a:r>
            <a:r>
              <a:rPr b="0" lang="en-US" sz="3500" spc="-1" strike="noStrike">
                <a:solidFill>
                  <a:srgbClr val="105766"/>
                </a:solidFill>
                <a:latin typeface="Lucida Sans Unicode"/>
              </a:rPr>
              <a:t>) een gerecht bereiden)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door de natuur </a:t>
            </a:r>
            <a:r>
              <a:rPr b="0" lang="en-US" sz="3500" spc="-1" strike="noStrike">
                <a:solidFill>
                  <a:srgbClr val="105766"/>
                </a:solidFill>
                <a:latin typeface="Lucida Sans Unicode"/>
              </a:rPr>
              <a:t>(bijv. genieten van de zon)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door gebruik te maken van collectieve voorzieningen </a:t>
            </a:r>
            <a:r>
              <a:rPr b="0" lang="en-US" sz="3500" spc="-1" strike="noStrike">
                <a:solidFill>
                  <a:srgbClr val="105766"/>
                </a:solidFill>
                <a:latin typeface="Lucida Sans Unicode"/>
              </a:rPr>
              <a:t>(bijv. fietsen op een fietspad)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el 2" descr=""/>
          <p:cNvPicPr/>
          <p:nvPr/>
        </p:nvPicPr>
        <p:blipFill>
          <a:blip r:embed="rId1"/>
          <a:stretch/>
        </p:blipFill>
        <p:spPr>
          <a:xfrm>
            <a:off x="274680" y="219240"/>
            <a:ext cx="8412120" cy="14014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http://213.206.66.232/gfx/page/visual/86ht0622.jpg"/>
          <p:cNvPicPr/>
          <p:nvPr/>
        </p:nvPicPr>
        <p:blipFill>
          <a:blip r:embed="rId2"/>
          <a:stretch/>
        </p:blipFill>
        <p:spPr>
          <a:xfrm>
            <a:off x="7566120" y="4508640"/>
            <a:ext cx="157788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2599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collectieve voorziening is een voorziening die geheel of grotendeels is betaald van belastingge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beeld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 het gebruik ervan vraagt de overhei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soms een eigen bijdrag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Denk bijvoorbeel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an openbaar vervoer en onderwij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63360" y="-136440"/>
            <a:ext cx="6991560" cy="52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7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9" descr="Thomson Memorial Park.JPG"/>
          <p:cNvPicPr/>
          <p:nvPr/>
        </p:nvPicPr>
        <p:blipFill>
          <a:blip r:embed="rId1"/>
          <a:stretch/>
        </p:blipFill>
        <p:spPr>
          <a:xfrm>
            <a:off x="684360" y="2205000"/>
            <a:ext cx="1730160" cy="12952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1" descr="https://upload.wikimedia.org/wikipedia/commons/thumb/b/bb/Straat_in_woonwijk_Delft.jpg/250px-Straat_in_woonwijk_Delft.jpg"/>
          <p:cNvPicPr/>
          <p:nvPr/>
        </p:nvPicPr>
        <p:blipFill>
          <a:blip r:embed="rId2"/>
          <a:stretch/>
        </p:blipFill>
        <p:spPr>
          <a:xfrm>
            <a:off x="2446200" y="2235240"/>
            <a:ext cx="1730520" cy="12999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3" descr="http://www.hilversumbeterbereikbaar.nl/files/Impressie%20Fietspad%20Langs%20de%20Lijn%20640px.jpg"/>
          <p:cNvPicPr/>
          <p:nvPr/>
        </p:nvPicPr>
        <p:blipFill>
          <a:blip r:embed="rId3"/>
          <a:stretch/>
        </p:blipFill>
        <p:spPr>
          <a:xfrm>
            <a:off x="4184640" y="2235240"/>
            <a:ext cx="1749600" cy="13129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5" descr="https://upload.wikimedia.org/wikipedia/commons/1/1a/Logo_Portaal_Openbaar_Vervoer_2.jpg"/>
          <p:cNvPicPr/>
          <p:nvPr/>
        </p:nvPicPr>
        <p:blipFill>
          <a:blip r:embed="rId4"/>
          <a:stretch/>
        </p:blipFill>
        <p:spPr>
          <a:xfrm>
            <a:off x="2405160" y="3535200"/>
            <a:ext cx="3529080" cy="11304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7" descr="http://www.leusden.nl/624/onderwijsinspectie/files/onderwijs.jpg"/>
          <p:cNvPicPr/>
          <p:nvPr/>
        </p:nvPicPr>
        <p:blipFill>
          <a:blip r:embed="rId5"/>
          <a:stretch/>
        </p:blipFill>
        <p:spPr>
          <a:xfrm>
            <a:off x="5929200" y="2195640"/>
            <a:ext cx="208440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Formule is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(nieuw – oud) : oud x 100 = ……%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Voorbeeld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Winst 2011: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€  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30.000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Winst 2012: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€  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35.000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€ 35.000 - € 30.000) : € 30.000 x 100 = 16,67%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el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7872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5-08-27T07:10:59Z</dcterms:modified>
  <cp:revision>11</cp:revision>
  <dc:subject/>
  <dc:title> </dc:title>
</cp:coreProperties>
</file>