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7FE-FA3F-4E02-94E9-98DC66DE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059-060D-4DCA-BB42-37E2736A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7D7-1319-4657-BABE-8E47F70D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3C1-2ADF-4D85-874F-A9509F88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E100-5E7A-4345-93F0-A66EE31E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90B8-E99C-493B-9040-B142A7BE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6ED6-AECF-4DF8-97CB-214B5707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0779-DD85-43D7-8A7F-3CA38E73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F26D-77E2-4DEC-8169-0B6FA814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2D4F-7BAF-4B50-AF50-F63433C5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3094-2799-49FE-8689-F190F300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39D-F6D0-4879-B3B4-BEDDA64E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2DA8-A025-49A0-B93E-3C2BAAEF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DD2E-1C5B-41F3-9F1A-0424714E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4CF8-8EC5-4284-8893-DC50A04A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4899-69BF-4293-BFDB-3A9FEB2C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AF28-7022-403B-8158-33DB060C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AB01-288E-4CB6-9E6A-E3115143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36E8-0116-440D-B0FF-3E3EAC68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B2FD4-10DD-41CB-9359-B54AFF31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F8CC-414F-4E32-B7E1-D9F06A9A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B8F6-7A0C-491D-9086-D475F3DB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B07-D70E-4277-ABAF-D82A8EDC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C26B9-E0F1-4759-AC31-FFB160DB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BE95-8AA2-470F-8C25-BEBB65E4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DE2A6-9AE5-423E-886D-76F471C5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774C-3FE1-456B-817A-331A9C73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E1A71-17BA-4375-95A1-756311FD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C6AE-242B-41AC-9D17-6A4FD4AB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05D39-D4EB-47DD-9B14-C152C484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0375-5FF7-4034-86BC-892CF132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922F-6CA3-4452-B264-BA398730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75A87-B803-4460-826F-EB464DAD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107-99CB-4679-9B93-06783E52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53255-CBAA-4D9F-8682-66BD8FA9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62823-5F0D-4B63-AD29-B47AC33D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F3E01-D000-45B5-A579-144842C6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6B68F-6090-4C14-8E41-CD97D7F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62C2-2FE5-4294-9105-51697D01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8A7C3-9CCF-4CA0-8B3B-92285C69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38EBC-76AD-44BE-A2A1-B605D06E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86F0C-E4D6-497C-85F2-17F9203E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F9EF1-B027-4DA6-8C62-DB4557E6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B316C-2B84-4403-900F-9BB7F25C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33A-254F-4F61-85E3-18708ECE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258DE-3E58-4140-8032-34E92683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FD374-5B6A-417A-BEEF-62508B47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07A33-AA0F-44BA-AC3B-8A807749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178FC-6464-4548-B4BC-8A0C8FA2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4AFDE-B9B4-4F1A-93AC-F318D261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5BF35-8B2F-4106-9B24-6185F141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F9AD8-A682-4B41-B51A-76A5C9A8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2ED62-7B6B-416A-B5D0-ED46DE37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04E41-5B65-409B-9823-61BE24D3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41D8E-EBAE-4A62-A847-0E1411F8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869-F582-4EF6-8B7A-31A09CFA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1C295-B703-4703-9C83-3E872A9C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E1C67-AB63-4EFB-9E54-51C307A1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48BDC-EC87-4175-BF32-5FC168F2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255BB-A8D9-4686-9C1C-708908C5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DCCCB-CFAC-4428-BACC-448B1618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6533C-6078-433C-AE7B-35E4DAD2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354F0-84DE-46B1-BAC8-E8C09FDE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7C3D8-660B-41DB-B574-F336BB1F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C0FE5-7149-4F28-8E90-6841312C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F5BB3-134B-4964-8A95-AE673A41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5CA-781E-4949-8FFC-859FEFDF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48DB0-299D-416B-8CB6-30891CFD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6C700-6C94-4257-9504-094B67C5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53849-F6BD-4055-ADB8-366B9DC4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7E1F1-D43F-40D7-9776-01B8B3A8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4E58-280E-48CB-8356-1CE3C66D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C5266-AF7A-41CB-B946-7674DC0E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CB3BD-2D48-4A5B-B5DF-FA8F78FA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A7311-5819-419E-867E-6282117D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208CC-69A6-4544-BABE-5EB9A953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92BE5-073E-40B9-8B2E-F4DD9CB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E01-4277-4382-AAAF-FCD2F510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A3E4C-77AF-4A41-A0FF-C38548E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0145B-7879-45C1-B4DB-46A9BC84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4BC89-4420-4E21-B94F-E3A89352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19A49-7866-4EA3-8C9E-EBF5A42F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FF894-9346-4378-8030-17870B19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6B1D4-3FCA-4EE3-89D8-DFD56207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13AC2-6585-45B9-A231-DED99B51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857D4-C58F-44E3-A002-BA99BB91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89B74-DABD-4D76-B4C4-E142A318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3F6DF-EB33-4B03-B379-F0C1ED29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8A1-F0D8-44EB-94EC-9C36A86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C8921-1192-4D51-A46A-886AC9CF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E4F39-16E7-4DE8-96E3-EC8DBE0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7F758-1DB5-452F-A8E7-92D5E3C0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959A7-F1EB-460B-B0F9-2BE752A4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017A1-8C0B-421F-BB02-C79A0017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15FE3-485C-405C-97A6-35009E38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DA83C-947E-4FF9-A613-3723A6A6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4443-10B8-486B-B023-EB768F8B167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C1E9-50B0-4D92-BD2A-05AFE6165E3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7F3C-3CB7-4D96-8063-707A514961A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98EB-8951-4DF1-99D7-CA9C1D7A116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FBE6-01C0-4C1A-86D7-0937B33BE77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13E0-33B9-4513-BCFE-BBD5298071C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8B6B-4508-4D5F-BE6D-19034ED7D1F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0582-711B-4134-B0E4-38964CC4DAA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ijt achtera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onnenprinten.nl/images/algemene-voorwaarden.jpg"/>
          <p:cNvPicPr/>
          <p:nvPr/>
        </p:nvPicPr>
        <p:blipFill>
          <a:blip r:embed="rId2"/>
          <a:stretch/>
        </p:blipFill>
        <p:spPr>
          <a:xfrm>
            <a:off x="0" y="0"/>
            <a:ext cx="2997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r en verkoper sluiten een koopovereenkomst af. Dit kan zowel schriftelijk als mondeling. Een koopovereenkomst kan niet zomaar worden opgezeg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overeenkomst = overeenstemming over de aankoop van een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 de koopovereenkomst vloeien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recht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licht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t voor zowel de koper als de verkoper (= algemene voorwaar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levering van een deugdelijk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ugdelijk product = product dat bij norma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bruikt voldoet aan de verwacht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li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het op tijd betalen van het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ondeugdelijk product heeft de koper recht op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l in deze volgorde!!!)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parati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nder exemplaar (= vervanging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geld terug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4" descr="http://ww2.autoscout24.nl/advies/koopcontract/173967/148486/as24.ratgeber.sell.handling.contract.png"/>
          <p:cNvPicPr/>
          <p:nvPr/>
        </p:nvPicPr>
        <p:blipFill>
          <a:blip r:embed="rId1"/>
          <a:stretch/>
        </p:blipFill>
        <p:spPr>
          <a:xfrm>
            <a:off x="4586400" y="5273640"/>
            <a:ext cx="4572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portagew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schermt de consument tegen aankopen aan de deur of tijdens houseparty’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koper moet een schriftelijk contract opgeven bij de Kamer van Koophan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enktijd om de koop op te zeggen is 14 dagen, tenzij het bedrag € 50 of minder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psfm.nl/wp-content/uploads/2012/08/KPN-g.jpg"/>
          <p:cNvPicPr/>
          <p:nvPr/>
        </p:nvPicPr>
        <p:blipFill>
          <a:blip r:embed="rId2"/>
          <a:stretch/>
        </p:blipFill>
        <p:spPr>
          <a:xfrm>
            <a:off x="6448320" y="0"/>
            <a:ext cx="2695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5280" y="76500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t koop op afstan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ze wet beschermt de consument voor aankopen via internet, telefoon of pos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óór de koop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ldoende informatie over zichzelf en het product ge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het product binnen 30 dagen leve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koper heeft bedenktijd om de koop op te zeggen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i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 v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goedere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stell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ienst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4" descr="http://tilburgers.nl/wp-content/uploads/2014/06/jongeren-vaker-slachtoffer-online-winkelfraude-300x168.jpg"/>
          <p:cNvPicPr/>
          <p:nvPr/>
        </p:nvPicPr>
        <p:blipFill>
          <a:blip r:embed="rId1"/>
          <a:stretch/>
        </p:blipFill>
        <p:spPr>
          <a:xfrm>
            <a:off x="6910560" y="17640"/>
            <a:ext cx="223344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meningsverschil tussen koper en verkoper kan de kop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aan een geschillencommissie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een rechter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 hulp en advies vragen aan een consumentenorganisatie (zoals de Consumentenbond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overeenkomst kan door de rechter ongeldig worden als er sprake 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minderjarige koper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dit is alleen het geval als de verkoper kan weten dat de ouders het niet eens zijn met de koop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koper die onder curatele is gesteld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bijv. iemand met een zware verslaving of verstandelijke beperking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dreiging, bedro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met kwade opzet iemand oplichten),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walin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verkeerde voorstelling van iets wat je gekocht hebt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4" descr="Afbeeldingsresultaat voor rechter"/>
          <p:cNvPicPr/>
          <p:nvPr/>
        </p:nvPicPr>
        <p:blipFill>
          <a:blip r:embed="rId1"/>
          <a:stretch/>
        </p:blipFill>
        <p:spPr>
          <a:xfrm>
            <a:off x="7218360" y="5611680"/>
            <a:ext cx="18702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0T09:32:51Z</dcterms:modified>
  <cp:revision>26</cp:revision>
  <dc:subject/>
  <dc:title> </dc:title>
</cp:coreProperties>
</file>