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8179-487D-48E3-82DB-FC0C297D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D47D-F06A-4FCA-BBEB-D33E3F09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CD8-4A2D-449E-87CB-DDD07AD72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FD6-370F-4BAE-9CFD-9FDDD2DE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F40E-B843-437A-BBA8-6B08AC38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F9A5-3812-4AA2-8E54-8D664E9A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9B26-CE71-4F73-9619-FB361790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1086-6752-4A84-97D6-A265CC79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6CB1-B7BC-4797-8CEC-2F1E3E15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077B-8544-4AC2-A025-0123457C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6B79-1E60-45BB-AC1C-FE437CDD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33E2-0A81-40DD-822F-5DF686D1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0512-B31B-4A32-8B9B-0B4F43F7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BAA7-9562-46E6-B40F-E6A1AB20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525B-8516-4B3A-88A5-DD10CEBE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7251-EAF1-4429-8080-856CED5D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90DE-089E-4340-9ABF-6168DB0F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ED1B-342E-4BA6-8484-47CBE43E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868C-8B7A-45D5-8A32-CE7FC7BD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B695-82B4-4485-AC02-048670BA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63EE4-9E7C-4E88-A591-B9DF7859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6406C-2009-48CF-AE9C-1EC6ACA5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36F4-A6B8-448B-BF37-E09CE031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A14C6-18C5-4D61-ABCF-70D5DE29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30FE-25D4-416E-B3AD-04F585A8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D7462-A158-4953-BE31-6FA5C750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9732-F8A4-4460-A73A-24B2B07F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58DFC-B9B0-4850-86A6-C2DE8C35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FDCB7-9243-4597-9240-970EBB93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AD75C-0B27-46B1-AE20-ECCDC590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1BC8C-1482-4CD2-BDC3-0432C4E6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8175-0C18-4609-B714-2EEA5D13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97EA4-4C90-449B-B172-AEE5F07C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D98-D1CA-4FE5-884E-E848A2F6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C40F-AD2D-467C-8F8C-768FA10A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39C96-C973-416C-814E-BC54EF7B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263C4-C43F-48CA-B9F7-F2A0A435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9865-4A31-4099-8BF4-BB33E282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F66C-D822-456C-AB35-21A1191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FDFD-4563-4C17-903C-FC16CAD0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20D02-84B9-4FB2-A5B5-01F042E8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9839C-AE28-4F49-9607-316A294A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3166-14D5-414B-B240-A0794E20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3D899-AFA4-4014-99EA-DD1622FF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BD0-A1ED-44FA-BA98-202B0302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81E67-69B6-46CF-B8B6-13635DF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92C0E-28C8-4180-A212-CB8778FB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27767-4258-4D2E-AED5-36AFA715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CF24C-A9C3-4F04-B220-C5B9D45A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70485-A337-46DC-8791-C06AA36C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B33C9-426C-4634-9637-62D6950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D77AD-1B53-4EAE-8CEC-A4856CCC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FEE9-F648-40FE-A4C2-BA65199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3C7D-C3A1-472A-BDBF-CF7E4A2B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323B5-03AA-4069-B86F-C76CDD34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EF3F-83E1-4817-8679-39FF24FD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63EE-229F-49AA-9A4B-41BB28BA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49089-7E73-45FD-99F8-FF20A457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A5D2E-E72D-4C17-B3F7-536B8920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98CE-9A47-40AF-8C85-211576EA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A7F67-7943-4779-81C6-E680B5A6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654AF-96A2-4D44-B994-8018F0A7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DDEC1-F422-48B6-9E0F-A25AEFCC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4CDE0-7F1B-4A95-BD37-ACCD79B8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EF375-A925-4E48-8B7D-44E50B8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9779A-B350-4302-945A-DDA8E1AB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51E6-6FBD-4F6A-B3A0-EA6CAB4F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A6444-4C0E-432C-BE44-C6E99C6B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5381E-72BB-4A2E-82F8-F070F277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A0B9B-24A3-4F57-8C6B-D8899545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D9E73-3BFB-4EDE-A900-51271AB1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F4BEC-1952-48BF-B7EA-EB130620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699CF-51D5-4A81-87E4-1836CEA2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ECBA5-5832-482F-9827-FB89123C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87CC6-715F-453E-9C9B-2595DEAC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7D773-EE3B-46FB-AD8A-B4B25BDB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760C2-2A77-4131-A3E3-8FC6B3CB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EA4-463E-43BA-A7EF-01418820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159A2-EDDC-4351-BD91-0B9A4D3C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7FE86-9556-4A17-A8AD-C578FC62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6B768-6B60-4D09-9BF5-FED46260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0D829-1114-4F06-B1AA-BB304A2EC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B7FF5-D0D6-4C3D-B9B8-98E570ED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A316-132B-41DA-9273-0B2123FC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F0995-5133-4294-9908-1892561D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A3645-E09B-4C64-83A4-02A5EAD6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70313-0BD1-4BCC-B1CB-75AC7163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3ACA6-387C-435B-8668-EA815FCA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A44F-F481-451F-9EC7-7CDEBBE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0F0CF-5EEA-4BC6-B8B7-D2C5CFCF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99539-ADEE-4606-A509-938FF51D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86C4D-45DA-4D72-9603-785D644C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87F3D-8799-4123-A51E-146A0CF9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35397-E41E-42B4-AE8E-D4816623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6B37B-98B5-46DF-A120-C474A43F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D05B3-EA66-48D1-97F1-8BB49417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868E-09B3-4FEE-8581-87B59CC97B0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7FA7-71DE-4C58-8235-D723491CBD8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268D-5221-4532-86DB-8DFD2CCDADC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4805-4883-411B-8A12-CF477C74897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9098-7F48-4359-B918-8A187ED3BB9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EF5F-6884-4D9B-85A1-14DC11C8F56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017C-A461-4250-ACFE-80EB5219D10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BFCF-F681-442E-862D-5EFA8D41B3B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is kiez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www.autismeplein.nl/wp-content/uploads/2013/01/keuzes.png"/>
          <p:cNvPicPr/>
          <p:nvPr/>
        </p:nvPicPr>
        <p:blipFill>
          <a:blip r:embed="rId2"/>
          <a:stretch/>
        </p:blipFill>
        <p:spPr>
          <a:xfrm>
            <a:off x="2627280" y="3110040"/>
            <a:ext cx="36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oeften = alles wat je nodig hebt of graag wilt hebb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asis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xe (overige) 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beleefoostpoort.nl/uploaded_files/inlineitem/Genieten_eten_drinken.png"/>
          <p:cNvPicPr/>
          <p:nvPr/>
        </p:nvPicPr>
        <p:blipFill>
          <a:blip r:embed="rId2"/>
          <a:stretch/>
        </p:blipFill>
        <p:spPr>
          <a:xfrm>
            <a:off x="1403280" y="2637000"/>
            <a:ext cx="1944720" cy="140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http://www.houseofoutdoor.com/wp-content/uploads/2014/07/kleding-2013.jpg"/>
          <p:cNvPicPr/>
          <p:nvPr/>
        </p:nvPicPr>
        <p:blipFill>
          <a:blip r:embed="rId3"/>
          <a:stretch/>
        </p:blipFill>
        <p:spPr>
          <a:xfrm>
            <a:off x="3851280" y="263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5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Gerelateerde afbeelding"/>
          <p:cNvPicPr/>
          <p:nvPr/>
        </p:nvPicPr>
        <p:blipFill>
          <a:blip r:embed="rId4"/>
          <a:stretch/>
        </p:blipFill>
        <p:spPr>
          <a:xfrm>
            <a:off x="6161040" y="2637000"/>
            <a:ext cx="1971720" cy="14763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9"/>
          <p:cNvSpPr/>
          <p:nvPr/>
        </p:nvSpPr>
        <p:spPr>
          <a:xfrm>
            <a:off x="155520" y="-2239920"/>
            <a:ext cx="69915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Gerelateerde afbeelding"/>
          <p:cNvPicPr/>
          <p:nvPr/>
        </p:nvPicPr>
        <p:blipFill>
          <a:blip r:embed="rId5"/>
          <a:stretch/>
        </p:blipFill>
        <p:spPr>
          <a:xfrm>
            <a:off x="1979640" y="468000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3" descr="http://www.anwb.nl/bestanden/content/gallery/anwb/portal/vakantie/etalagebeelden/reisorganisaties.jpg"/>
          <p:cNvPicPr/>
          <p:nvPr/>
        </p:nvPicPr>
        <p:blipFill>
          <a:blip r:embed="rId6"/>
          <a:stretch/>
        </p:blipFill>
        <p:spPr>
          <a:xfrm>
            <a:off x="5148360" y="474984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455760" y="324000"/>
            <a:ext cx="815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oederen zijn producten die tastbaar zijn; je kan ze dus aanr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ensten zijn producten die niet tastbaar zijn; je kan ze dus niet aanraken. De een doet iets voor de an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ttp://www.gortzen.eu/werkenindelogistiek/kiem/handel1e/taxi.jpg"/>
          <p:cNvPicPr/>
          <p:nvPr/>
        </p:nvPicPr>
        <p:blipFill>
          <a:blip r:embed="rId2"/>
          <a:stretch/>
        </p:blipFill>
        <p:spPr>
          <a:xfrm>
            <a:off x="1979640" y="46544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www.karizmabyhakan.nl/wp-content/uploads/dames-heren-kapper-hakan.jpg"/>
          <p:cNvPicPr/>
          <p:nvPr/>
        </p:nvPicPr>
        <p:blipFill>
          <a:blip r:embed="rId3"/>
          <a:stretch/>
        </p:blipFill>
        <p:spPr>
          <a:xfrm>
            <a:off x="4211640" y="4654440"/>
            <a:ext cx="2076480" cy="138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s://encrypted-tbn3.gstatic.com/images?q=tbn:ANd9GcS-8Wd4SlTLQsZXZ8Dwu1d-hxOw7BKtqB9Tj3ZSYqViYXBNrIR1NQ"/>
          <p:cNvPicPr/>
          <p:nvPr/>
        </p:nvPicPr>
        <p:blipFill>
          <a:blip r:embed="rId4"/>
          <a:stretch/>
        </p:blipFill>
        <p:spPr>
          <a:xfrm>
            <a:off x="6732720" y="4654440"/>
            <a:ext cx="2016000" cy="1343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www.centrameubel.nl/media1/store%20eettafel.jpg"/>
          <p:cNvPicPr/>
          <p:nvPr/>
        </p:nvPicPr>
        <p:blipFill>
          <a:blip r:embed="rId5"/>
          <a:stretch/>
        </p:blipFill>
        <p:spPr>
          <a:xfrm>
            <a:off x="6288120" y="2039760"/>
            <a:ext cx="243504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3"/>
          <p:cNvSpPr/>
          <p:nvPr/>
        </p:nvSpPr>
        <p:spPr>
          <a:xfrm>
            <a:off x="63360" y="-136440"/>
            <a:ext cx="69915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Gerelateerde afbeelding"/>
          <p:cNvPicPr/>
          <p:nvPr/>
        </p:nvPicPr>
        <p:blipFill>
          <a:blip r:embed="rId6"/>
          <a:stretch/>
        </p:blipFill>
        <p:spPr>
          <a:xfrm>
            <a:off x="4373640" y="2023920"/>
            <a:ext cx="175428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geldt het volge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e rijker de mensen, hoe meer producten zij als noodzakelijk erva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reenert.lu/files/sauna_wohl.jpg"/>
          <p:cNvPicPr/>
          <p:nvPr/>
        </p:nvPicPr>
        <p:blipFill>
          <a:blip r:embed="rId2"/>
          <a:stretch/>
        </p:blipFill>
        <p:spPr>
          <a:xfrm>
            <a:off x="455760" y="2863800"/>
            <a:ext cx="2689200" cy="1513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http://3.bp.blogspot.com/-uxNZMCsCUjI/U9Iz5ve3ojI/AAAAAAAASxg/SQDPwMnxjto/s1600/Samsung-Smart-Tv.jpg"/>
          <p:cNvPicPr/>
          <p:nvPr/>
        </p:nvPicPr>
        <p:blipFill>
          <a:blip r:embed="rId3"/>
          <a:stretch/>
        </p:blipFill>
        <p:spPr>
          <a:xfrm>
            <a:off x="3276720" y="3556080"/>
            <a:ext cx="2606400" cy="175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i.ytimg.com/vi/-QwVwFqiRGU/maxresdefault.jpg"/>
          <p:cNvPicPr/>
          <p:nvPr/>
        </p:nvPicPr>
        <p:blipFill>
          <a:blip r:embed="rId4"/>
          <a:stretch/>
        </p:blipFill>
        <p:spPr>
          <a:xfrm>
            <a:off x="6084720" y="5157720"/>
            <a:ext cx="2880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en moeten kiezen uit hun behoeften, omdat er schaarste is aan geld en tij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1 (schaarste aan geld): iemand kan met 50 euro geen nieuwe fiets én telefoon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2 (schaarste aan tijd): iemand kan niet tegelijkertijd slapen en spor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9-11T11:01:20Z</dcterms:modified>
  <cp:revision>14</cp:revision>
  <dc:subject/>
  <dc:title> </dc:title>
</cp:coreProperties>
</file>