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6.jpeg" ContentType="image/jpeg"/>
  <Override PartName="/ppt/media/image19.jpeg" ContentType="image/jpeg"/>
  <Override PartName="/ppt/media/image18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6742-995C-4785-B0A8-4E665DC1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E31E-50E1-4EB2-942A-3E8E095B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7B5E-9CD4-4052-933E-A2DCEFA1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84F4-F226-45EB-A73A-42DB283B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5D1C-1802-4C5B-B2B1-9C875FE4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87BC-C636-4795-B5EE-DA0CDF14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FBAC-9E4E-4080-864E-4035695D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AF3A-DA00-4C8F-B48F-1016790E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8825-50CD-4ED2-A362-09CCBB6F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5494-F946-4294-BABE-EDE2199B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0B01-F104-40F0-B690-98469D64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DD3E-B92F-4CF7-A6F2-F60B8381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B794-AF99-424E-B5B7-3AA48DCB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85F2-3C78-4E3C-A957-F4353411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AEFC-C75E-402E-8141-CF20F71A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C6D6-7B52-4143-94C3-5E365AAC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81C1-DB87-4856-919C-825AB1F4F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C711E-FEC4-4FB7-8CCC-A7668114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D3ED0-E519-4F62-8386-206F8552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0F1CC-F46A-491C-96D4-2354BB4F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7DB21-C089-4FBA-98FC-B56808D7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BA299-8044-4EE3-80CC-ED68E3BE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5FE0-268D-43E3-B5F8-065E0C88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64B19-2CAC-4DD0-A1C2-FD409DE0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747EF-EC94-452D-BE58-43990C4F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9A3D7-BD85-488B-B5C8-B954BA3F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BF6C4-27C4-4920-A09C-6603CF72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70EBD-4BFD-4FA1-8C7B-87EE12EC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26B1B-57B7-448A-8F7B-FC3D963B5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82B86-D5FF-466B-B3BE-E33737682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9DED7-976B-42B1-A67F-D6DA22256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67AFF-10D3-419F-BEEE-9150211D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3CEDC-C49A-4FF1-9454-99F2B538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C189-DF10-4B4E-A360-977DB313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06251-C857-4068-A688-B3531B37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AA70B-5FEC-42F1-93DA-38D8E3B4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8728C-02A4-4DA6-A079-6D9D075F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9998D-1326-4C5D-B531-CDC1C55B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AB626-E903-4647-A582-55A0D469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B70F9-53AA-4C5A-88FA-E0A4BA41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B7D5E-848A-4AF5-AC7E-F038C4FA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C6CD4-BA9F-4662-96A4-8158A52CD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34D9B-7AD1-4BF0-921C-BE439C4B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5A0C1-C578-40E9-AC81-574865EB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B484-D9F4-4B8F-B3E4-6F947EAB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18EB4-EF61-41B0-AC59-63E1CAC7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EF605-64A4-47AE-BF2F-59242649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83C6B-6B97-4E49-830B-42DD9FA3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8628F-64B2-4F7B-981D-72FC5222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E08C2-2F0A-4BB2-9CE5-5BFB80CE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D73C7-40F3-47B1-A5C3-BA60B177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23D46-352B-48F4-80CB-AA2BB80D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BFB31-FEB2-4864-BCAB-3AADBB8C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D1B43-6383-423A-9B0E-BCCA5FFF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A933E-AE3A-4156-8BE4-277E96F0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10D1-B9E5-48F8-9FFD-8D89F47A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9789D-BB2E-44F4-87CD-C1A45C863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F1C26-BBC4-4CFB-9CE1-ECC431DC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A3297-D0DF-418A-8495-667473B5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06B23-8712-485B-98C7-FBEF5532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C1B26-67E8-4C6B-AB5A-54B1B1B5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16EA2-9886-4C3C-8628-31F8DA0B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20FF9-19E2-4539-8DB7-DE05FFA9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AC9B6-E316-4363-AF60-4004D807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6F36F-A101-4AFD-A494-DD8B7705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F11EB-A6B7-4C0E-AFB8-CC5878FB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C9C1-64DD-4320-B70E-9BB12E77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11445-9B53-4B6F-9818-9E5B1FCE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D1795-5D54-4035-BA3E-9E5B77A50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06742-7800-4D4B-A972-561D6FA9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6B84B-02C2-4BB4-B3A6-A451B4E6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F37ED-2817-4C2F-AD09-6EC5EABB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FD75C-DD6B-498B-8077-80727A50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CCAB6-BBB7-4613-B4F5-F00FF0E2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EB7F6-3256-4655-9C34-73F455DD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BA252-D89E-4E9E-90D4-9DAC7B2A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FAA34-5B21-4F64-8220-FBB6A0B0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F387-01F1-4989-BA33-641E78F1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F8F09-4A0D-47D5-BA66-20D267D2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F00FD-7DA9-420F-92AD-429ACA5E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D9A30-DE72-4CF5-B24B-BCF3E7E1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89704-E6BC-430A-B5C8-2DFAE204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98AE4-1F8E-4B5D-A99E-322E659EA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CF8D1-5677-404F-8526-A9136B54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01315-884A-45EF-A122-73E89A06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8C3C0-054E-4958-852F-410A9433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5A0D8-2388-426D-A012-5325B441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037A7-4C44-429C-9A3A-E0A7F28E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80C3-30B9-48CC-B9BB-7305D335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9981B-72EA-4B61-8321-137BEE84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13A8D-E26F-4732-9CAF-3A766619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0E151-93A8-489D-B52A-8E222C18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27C1F-DFE1-4711-AF15-2ED7E67A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D5BE7-B491-4D33-9796-DC2559DE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08ED6-285E-44D2-A7A2-E9AA2576B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F37DF-1AAC-4F72-A630-9C9D23115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6CFF-EBC4-4600-946E-C2C1909AD8F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C71B-57EC-4294-A172-A79B05213EB2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7CF6-1B97-4258-814A-43B8A7CFBA8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78DF-C338-4A1B-B799-309B13A1C4F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EDC9-4731-4FC6-A24D-F2A163FF19C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3B4B-C2B7-4A01-B12F-9610C871863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875C-9C68-411D-A1FD-9CB07D5892D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B9ED-05BA-4063-9496-85F9EF38065B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11280" y="191880"/>
            <a:ext cx="7772400" cy="368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Verkopen een kuns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63360" y="-136440"/>
            <a:ext cx="699156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7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11" descr="Afbeeldingsresultaat voor 4 p's"/>
          <p:cNvPicPr/>
          <p:nvPr/>
        </p:nvPicPr>
        <p:blipFill>
          <a:blip r:embed="rId2"/>
          <a:stretch/>
        </p:blipFill>
        <p:spPr>
          <a:xfrm>
            <a:off x="3132000" y="3284640"/>
            <a:ext cx="307044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2599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en belangrijke doelstelling van bedrijven i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erhogen van de verkoopopbrengst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e kunnen ze dit bereiken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o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goed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gebruik te maken van de marketingmix (ook wel 6 p’s genoemd)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oductbeleid (bijv. alleen A-merk producten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Het productbeleid moet goed aansluiten op de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behoeften van d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Lucida Sans Unicode"/>
              </a:rPr>
              <a:t>doelgroep!!!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ijsbeleid (bijv. verleidelijke aanbiedingen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omotiebeleid (bijv. advertenties in kranten en tijdschriften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laatsbeleid (bijv. verkoop via het internet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esentatiebeleid (overzichtelijke indeling van de winkel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ersoneelsbeleid (deskundig en herkenbaar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8" name="Picture 2" descr="Gerelateerde afbeelding"/>
          <p:cNvPicPr/>
          <p:nvPr/>
        </p:nvPicPr>
        <p:blipFill>
          <a:blip r:embed="rId2"/>
          <a:stretch/>
        </p:blipFill>
        <p:spPr>
          <a:xfrm rot="2490000">
            <a:off x="5519520" y="1076400"/>
            <a:ext cx="3085920" cy="22222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http://www.fiftytoo.be/nl/local/cache-vignettes/L250xH212/arton1000-826f5.jpg"/>
          <p:cNvPicPr/>
          <p:nvPr/>
        </p:nvPicPr>
        <p:blipFill>
          <a:blip r:embed="rId3"/>
          <a:stretch/>
        </p:blipFill>
        <p:spPr>
          <a:xfrm rot="19334400">
            <a:off x="824040" y="658800"/>
            <a:ext cx="3028680" cy="2568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http://thumbs.dreamstime.com/z/psychologische-prijs-die-de-prijs-vaststelt-van-21693187.jpg"/>
          <p:cNvPicPr/>
          <p:nvPr/>
        </p:nvPicPr>
        <p:blipFill>
          <a:blip r:embed="rId4"/>
          <a:stretch/>
        </p:blipFill>
        <p:spPr>
          <a:xfrm rot="2278800">
            <a:off x="5108400" y="3778200"/>
            <a:ext cx="3405240" cy="1852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http://reclamewereld.blog.nl/files/2010/03/McD-Wifi.png"/>
          <p:cNvPicPr/>
          <p:nvPr/>
        </p:nvPicPr>
        <p:blipFill>
          <a:blip r:embed="rId5"/>
          <a:stretch/>
        </p:blipFill>
        <p:spPr>
          <a:xfrm rot="19510200">
            <a:off x="1195560" y="3663720"/>
            <a:ext cx="334476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Voor een ondernemer gaat het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rom het juist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roduct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, op de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juist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laats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, tegen de juiste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rijs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, met de juist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romotie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te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verkop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ommerciële reclam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lame die gericht is op het verhogen van de verkoop, dus doel is om meer winst te make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deële reclam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lame die een idee wil verspreiden of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drag wil veranderen zonder het doel e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ld mee te verdien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http://reclamewereld.blog.nl/files/2009/03/kitkat-benchvertising.jpg"/>
          <p:cNvPicPr/>
          <p:nvPr/>
        </p:nvPicPr>
        <p:blipFill>
          <a:blip r:embed="rId2"/>
          <a:stretch/>
        </p:blipFill>
        <p:spPr>
          <a:xfrm>
            <a:off x="6168960" y="3240"/>
            <a:ext cx="2951280" cy="19605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http://members.ziggo.nl/gvdommel/weekblad0506/small43501052-banner-sire.jpg"/>
          <p:cNvPicPr/>
          <p:nvPr/>
        </p:nvPicPr>
        <p:blipFill>
          <a:blip r:embed="rId3"/>
          <a:stretch/>
        </p:blipFill>
        <p:spPr>
          <a:xfrm>
            <a:off x="3348000" y="5840280"/>
            <a:ext cx="579600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ze is heel belangrijk voor ondernemers om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volgende reden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 hebben samen veel geld te beste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 hebben invloed op de aankopen thu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 zijn vaak trouwe klant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http://cjgbarendrecht.nl/wp-content/uploads/2013/12/Jongeren11.jpg"/>
          <p:cNvPicPr/>
          <p:nvPr/>
        </p:nvPicPr>
        <p:blipFill>
          <a:blip r:embed="rId2"/>
          <a:stretch/>
        </p:blipFill>
        <p:spPr>
          <a:xfrm>
            <a:off x="5724360" y="4562640"/>
            <a:ext cx="3419640" cy="22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09-15T10:30:01Z</dcterms:modified>
  <cp:revision>15</cp:revision>
  <dc:subject/>
  <dc:title> </dc:title>
</cp:coreProperties>
</file>