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030-8682-48BC-9A5B-CAB8C636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FD44-684C-4677-AC61-A767D1DC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A693-9711-4123-BDBA-8F1F704C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23B-3913-40DB-9F1F-E70CEE98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D070-6CC5-4602-B779-CFE158DC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EC76-7F5F-4C3C-834F-9E3EB9EB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3507-56BC-4424-B940-E7041291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1961-9370-4162-B039-4BB0C88F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B683-657C-410E-BA3D-97DD26FB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B20C-41AB-435A-8167-67311D33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E03A-9C14-4744-A985-3063BB14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8AA-72B1-4EA0-AB2F-6868A55C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F6A0-84D3-4757-A3FA-358C5BA2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7492-7393-40C0-83D8-C6D7AF82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329A-7ACD-4AEC-A92F-5916A0E9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758A-0DB7-4EA2-A914-14EE1E44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1262-5350-4637-A735-7B58F8E7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78501-C893-4E2E-A30E-6F7ADD11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8217A-F698-4011-988A-48D39AE3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2AF01-B2F1-4B8F-B43B-91988278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3D4F1-782F-4070-A51B-6EA04628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82638-C158-4BF7-8DAE-82299B44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C7E7-986C-45F5-9017-E1C8F9C5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4819D-09DA-40BB-B94C-C5F94152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B506D-A851-4B88-8F0B-E2D8508C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66976-DAF0-4068-B881-024129EC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66D09-2AAA-4641-90E8-68E74E21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6FBE1-E8D4-4E96-897C-DA8774FD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1711D-1452-4273-82DE-BAEC27DD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28828-19B2-4D87-A13C-C2A60386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5F36E-8C27-4FD2-9AC2-66E32886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714E3-7426-435A-9D81-39304193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510A4-502F-4338-BE73-28459DDD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F71D-C27D-4C83-A6BA-45F4AAD2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6179A-F499-481F-8857-79B30689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B5CAB-4FFC-4C7A-B2C7-FE67C7DD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D175B-1E28-431D-A5BE-8165DA3B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66366-60D4-4CC0-B84E-CEF62DBB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B3CBF-D337-432B-92CE-6CDCD99C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4D25F-954D-403F-B184-8DDF93EF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B2E22-70D3-4C11-A470-71CDB999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73674-2580-4A43-82EE-830D8374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D448F-1810-45A1-91DC-DDFEA887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CD498-7403-4605-B162-547EA8F8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C944-8203-4172-9CD7-5DBAC121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0EBDB-5CCA-4ABE-96B6-4A953C36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3AFF3-ECB2-4AAC-B4DE-42624CE7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9E278-5F3F-4673-A4B4-7BED3C81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9ECAE-5E26-4953-BB57-34F5FD29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E6F3C-9BD2-43E4-A73C-3B1F4497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AC7A0-8D02-47DD-B0F6-754390D6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41D1A-6733-484B-B7DF-DB6D3F33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81D42-3364-4568-80D3-4086281B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6BFFB-7FD6-4BD1-BD0E-76C75A5D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0F539-890E-43F0-9920-DBEF9C3B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61F5-D491-45EF-A613-7399CCB8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5FA12-F58E-4F42-A219-D605B8A8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5649A-3D61-4676-ABA7-50303DD0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FB478-2E0A-4177-B9E9-3F3ED941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5FA62-FA42-4E8A-994D-781A3CA1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84143-3007-41C6-9BED-144562F9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D53A4-2928-41C9-A4C1-7AF8659B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70AFD-E5A1-4A98-9593-F19F8B52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56EBA-2F9D-4EC0-95B8-20FA1507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0EBB5-04C6-4BDD-B600-24CA9172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D6166-9E06-47B7-848B-3DC2ECFC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110-511F-4F6E-80BC-2E81E3CB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CA2FC-1CF2-46EF-91E6-0E6F1211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3C2F2-A3AA-4010-A5F2-260A24CC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3D5E8-B061-4C41-AED9-EB194BFD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3CFB3-EFE4-4C65-840C-D8A84534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801D7-B4CA-4EE8-8A3D-506C1846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5B6DA-059E-4DC4-8F6B-62590DE7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0BC01-413E-4E85-B126-6CA17CEB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1EBB5-32CA-4B98-BB56-77BE2B5D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9DB9B-5F21-41DF-8ADA-FC40D722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4EEEA-375E-41CD-8429-E04B99AD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609-2B25-410F-9356-8E98918D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5D4A2-0419-418C-B30C-FE1B6860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C4336-0164-42F1-8623-5BB8B2EB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9A4B6-3825-4628-A1AE-FD6A849D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CF328-EE0B-4F2E-AE09-3DD1893F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5EA8C-CA1B-4BF8-B4B3-12AF4FEF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B9645-E803-490B-847A-F896920A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5BC59-AAA6-4F1F-9300-C3AADC32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D87B7-6560-443C-9655-530F5688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ED972-A72D-405D-94DF-2DBD42AD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07E46-85B1-4F73-8C97-3BBEFB08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C29-CE7F-43BE-A90C-0D467BEF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C0DD2-0880-4B70-A68D-EABB4AD1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9A9CD-969C-4800-9B31-98D40256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FE68C-AB0E-4842-BD0F-2B66B557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C852E-E80D-4DBD-8B89-2F588213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3F965-0F8A-4711-A8CD-268AD412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BFE45-E2FD-49A1-958E-B9505277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0578E-C92B-424D-A857-2B9C5707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A257-21B9-464D-882C-8DD8D7417AF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11F3-52BB-41F8-BB97-F7E1FB93B8C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E9B9-A13F-42A9-B1DB-DF07E73499E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7EEA-6108-4F8E-AF65-5E6F44D5EFC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2363-30FF-4A90-9822-3A38A8DF2C4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43DF-0225-4C24-92BA-7198539153E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F2BC-A9B9-4212-8A57-D9F344C4045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5BDB-3A3F-4E88-BFA4-17051F3C1D4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9640" y="26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is kiez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http://www.autismeplein.nl/wp-content/uploads/2013/01/keuzes.png"/>
          <p:cNvPicPr/>
          <p:nvPr/>
        </p:nvPicPr>
        <p:blipFill>
          <a:blip r:embed="rId2"/>
          <a:stretch/>
        </p:blipFill>
        <p:spPr>
          <a:xfrm>
            <a:off x="2627280" y="3110040"/>
            <a:ext cx="3673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hoeften = alles wat je nodig hebt of graag wilt hebb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asisbehoef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uxe (overige) behoef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ttp://www.beleefoostpoort.nl/uploaded_files/inlineitem/Genieten_eten_drinken.png"/>
          <p:cNvPicPr/>
          <p:nvPr/>
        </p:nvPicPr>
        <p:blipFill>
          <a:blip r:embed="rId2"/>
          <a:stretch/>
        </p:blipFill>
        <p:spPr>
          <a:xfrm>
            <a:off x="1403280" y="2637000"/>
            <a:ext cx="1944720" cy="1409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3" descr="http://www.houseofoutdoor.com/wp-content/uploads/2014/07/kleding-2013.jpg"/>
          <p:cNvPicPr/>
          <p:nvPr/>
        </p:nvPicPr>
        <p:blipFill>
          <a:blip r:embed="rId3"/>
          <a:stretch/>
        </p:blipFill>
        <p:spPr>
          <a:xfrm>
            <a:off x="3851280" y="263700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15"/>
          <p:cNvSpPr/>
          <p:nvPr/>
        </p:nvSpPr>
        <p:spPr>
          <a:xfrm>
            <a:off x="155520" y="-2514600"/>
            <a:ext cx="69915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7" descr="Gerelateerde afbeelding"/>
          <p:cNvPicPr/>
          <p:nvPr/>
        </p:nvPicPr>
        <p:blipFill>
          <a:blip r:embed="rId4"/>
          <a:stretch/>
        </p:blipFill>
        <p:spPr>
          <a:xfrm>
            <a:off x="6161040" y="2637000"/>
            <a:ext cx="1971720" cy="147636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9"/>
          <p:cNvSpPr/>
          <p:nvPr/>
        </p:nvSpPr>
        <p:spPr>
          <a:xfrm>
            <a:off x="155520" y="-2239920"/>
            <a:ext cx="699156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1" descr="Gerelateerde afbeelding"/>
          <p:cNvPicPr/>
          <p:nvPr/>
        </p:nvPicPr>
        <p:blipFill>
          <a:blip r:embed="rId5"/>
          <a:stretch/>
        </p:blipFill>
        <p:spPr>
          <a:xfrm>
            <a:off x="1979640" y="4680000"/>
            <a:ext cx="2448000" cy="1628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3" descr="http://www.anwb.nl/bestanden/content/gallery/anwb/portal/vakantie/etalagebeelden/reisorganisaties.jpg"/>
          <p:cNvPicPr/>
          <p:nvPr/>
        </p:nvPicPr>
        <p:blipFill>
          <a:blip r:embed="rId6"/>
          <a:stretch/>
        </p:blipFill>
        <p:spPr>
          <a:xfrm>
            <a:off x="5148360" y="4749840"/>
            <a:ext cx="309564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2514600"/>
            <a:ext cx="69915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9" descr=""/>
          <p:cNvPicPr/>
          <p:nvPr/>
        </p:nvPicPr>
        <p:blipFill>
          <a:blip r:embed="rId2"/>
          <a:stretch/>
        </p:blipFill>
        <p:spPr>
          <a:xfrm>
            <a:off x="455760" y="324000"/>
            <a:ext cx="8156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oederen zijn producten die tastbaar zijn; je kan ze dus aanra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ensten zijn producten die niet tastbaar zijn; je kan ze dus niet aanraken. De een doet iets voor de and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http://www.gortzen.eu/werkenindelogistiek/kiem/handel1e/taxi.jpg"/>
          <p:cNvPicPr/>
          <p:nvPr/>
        </p:nvPicPr>
        <p:blipFill>
          <a:blip r:embed="rId2"/>
          <a:stretch/>
        </p:blipFill>
        <p:spPr>
          <a:xfrm>
            <a:off x="1979640" y="46544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http://www.karizmabyhakan.nl/wp-content/uploads/dames-heren-kapper-hakan.jpg"/>
          <p:cNvPicPr/>
          <p:nvPr/>
        </p:nvPicPr>
        <p:blipFill>
          <a:blip r:embed="rId3"/>
          <a:stretch/>
        </p:blipFill>
        <p:spPr>
          <a:xfrm>
            <a:off x="4211640" y="4654440"/>
            <a:ext cx="2076480" cy="1384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https://encrypted-tbn3.gstatic.com/images?q=tbn:ANd9GcS-8Wd4SlTLQsZXZ8Dwu1d-hxOw7BKtqB9Tj3ZSYqViYXBNrIR1NQ"/>
          <p:cNvPicPr/>
          <p:nvPr/>
        </p:nvPicPr>
        <p:blipFill>
          <a:blip r:embed="rId4"/>
          <a:stretch/>
        </p:blipFill>
        <p:spPr>
          <a:xfrm>
            <a:off x="6732720" y="4654440"/>
            <a:ext cx="2016000" cy="13431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http://www.centrameubel.nl/media1/store%20eettafel.jpg"/>
          <p:cNvPicPr/>
          <p:nvPr/>
        </p:nvPicPr>
        <p:blipFill>
          <a:blip r:embed="rId5"/>
          <a:stretch/>
        </p:blipFill>
        <p:spPr>
          <a:xfrm>
            <a:off x="6288120" y="2039760"/>
            <a:ext cx="2435040" cy="115272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13"/>
          <p:cNvSpPr/>
          <p:nvPr/>
        </p:nvSpPr>
        <p:spPr>
          <a:xfrm>
            <a:off x="63360" y="-136440"/>
            <a:ext cx="699156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5" descr="Gerelateerde afbeelding"/>
          <p:cNvPicPr/>
          <p:nvPr/>
        </p:nvPicPr>
        <p:blipFill>
          <a:blip r:embed="rId6"/>
          <a:stretch/>
        </p:blipFill>
        <p:spPr>
          <a:xfrm>
            <a:off x="4373640" y="2023920"/>
            <a:ext cx="1754280" cy="11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geldt het volgen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oe rijker de mensen, hoe meer producten zij als noodzakelijk ervar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ttp://reenert.lu/files/sauna_wohl.jpg"/>
          <p:cNvPicPr/>
          <p:nvPr/>
        </p:nvPicPr>
        <p:blipFill>
          <a:blip r:embed="rId2"/>
          <a:stretch/>
        </p:blipFill>
        <p:spPr>
          <a:xfrm>
            <a:off x="455760" y="2863800"/>
            <a:ext cx="2689200" cy="151308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8" descr="http://3.bp.blogspot.com/-uxNZMCsCUjI/U9Iz5ve3ojI/AAAAAAAASxg/SQDPwMnxjto/s1600/Samsung-Smart-Tv.jpg"/>
          <p:cNvPicPr/>
          <p:nvPr/>
        </p:nvPicPr>
        <p:blipFill>
          <a:blip r:embed="rId3"/>
          <a:stretch/>
        </p:blipFill>
        <p:spPr>
          <a:xfrm>
            <a:off x="3276720" y="3556080"/>
            <a:ext cx="2606400" cy="1751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http://i.ytimg.com/vi/-QwVwFqiRGU/maxresdefault.jpg"/>
          <p:cNvPicPr/>
          <p:nvPr/>
        </p:nvPicPr>
        <p:blipFill>
          <a:blip r:embed="rId4"/>
          <a:stretch/>
        </p:blipFill>
        <p:spPr>
          <a:xfrm>
            <a:off x="6084720" y="5157720"/>
            <a:ext cx="288000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nsen moeten kiezen uit hun behoeften, omdat er schaarste is aan geld en tij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1 (schaarste aan geld): iemand kan met 50 euro geen nieuwe fiets én telefoon 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2 (schaarste aan tijd): iemand kan niet tegelijkertijd slapen en spor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9-11T11:01:20Z</dcterms:modified>
  <cp:revision>14</cp:revision>
  <dc:subject/>
  <dc:title> </dc:title>
</cp:coreProperties>
</file>