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1.jpeg" ContentType="image/jpeg"/>
  <Override PartName="/ppt/media/image6.jpeg" ContentType="image/jpeg"/>
  <Override PartName="/ppt/media/image19.jpeg" ContentType="image/jpeg"/>
  <Override PartName="/ppt/media/image18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225-5E0E-4F67-8449-8B8A2487A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996E-68B6-4858-BF22-B70CB173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0021-0FAC-498B-B69B-207289F3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AFD-5D52-4465-A039-DA533030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4A37-9603-4514-B2AB-09EAF264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A219-6CF7-4EDF-BDB1-A8FFCA54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A97E-A928-4E20-8818-A635BC33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C43F-5024-4AC8-AE86-E343A3A4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0552-D559-4768-B911-D646F965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D9A7-4415-49E9-BA96-B6E032E4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94A-9DF0-477E-8CC1-B3F1CD9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65C4-429E-4709-8438-29BC534C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7CB8-CD77-4F67-8F5D-311594D7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D665-CC27-444A-936D-07F34BC9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958-2875-4B65-B78B-B84CAFE9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7601-F17F-4D85-B137-8AF24195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2AB0-5901-4580-9A7A-8A864D50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1AB2-AFAC-4632-BFBD-4176AC50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E0863-9BD3-4FF2-B349-3CACB647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FDCB6-FC01-486B-8222-FA96BB5A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C96CF-3376-43CA-AED5-355E8373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37157-FA85-4CAC-B91F-7544C873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2E6-C450-41DC-90C0-63C3A08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EF361-3E3C-49EC-AE2F-3360ABEA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B3BD-9E26-45E2-A035-64299E6A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C8D15-C5CB-47D2-97C5-4564F672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ACEE6-E0D0-43FF-B9A5-A66509BC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50D5D-AACE-4312-A8DD-B97A8875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46F32-B2CE-4BDA-881A-434A9928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9914C-0E7A-4329-873E-BD54AE9AB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C299F-7AB1-47A6-95C7-368E9F6F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E3906-AF54-4C09-8AAF-9004C89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3BA9C-7CDA-4890-A6B4-367AD453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440A-78A2-482E-A9E9-96538B74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AB79-98E5-4A12-876A-ACE21067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4667B-2626-49ED-B6B6-4D75503A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81A84-8051-42F8-BA48-516BB62C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76E08-92CC-455D-BCB0-2A7ADD2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184AF-59EC-49C6-829F-2D319781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F4D4-4E9B-4687-8919-815C155C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7D3A-517D-40E9-A37C-A8194725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03DB2-6947-415E-BD6D-EA68F7A0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9EAC-024F-4AA2-ADA2-7C42FEF3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CA6E2-3DF8-4824-9EF5-585EC51A1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2CAD-6EC1-4751-A70C-0E6FAC2B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7BF21-33CD-4C42-BB6D-3873FFD9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F4A1-444C-4066-9540-8F5E2077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AE62B-C5FD-4B8D-8B95-48A9FDA2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FB92-9764-4D6F-894A-1BB3B01F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4D928-2942-4EE5-801A-95824631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7256A-BFF1-4FB3-B623-8A74E56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B2761-E8BA-43A3-B39F-862AFD0A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BD3F-D852-45C1-A393-79B087F0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E2B48-6784-495B-82E6-29CE7C66F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A9D19-0277-4A6E-9F73-4FBA6BC5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F15-7B06-4C77-8175-317000BD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3B162-9846-4CEE-96D5-16078518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BC4B-10CD-408D-9876-1C4D1553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EBAE3-7E3A-43AD-81D3-C311398A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065B-99EB-463E-BB5D-97726842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64DC9-22B1-46B8-81D7-60A2BE8D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5CD18-69B8-49BA-AFA3-A6109CAC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A3E94-C61C-4D72-B8B7-EC59F1C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DDA6E-9268-4872-B1EF-56EB2005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9322-A863-4410-BF93-03F46FA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83791-9038-46CE-BB3E-F1DC309A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1B0E-17BC-44FB-B591-C4417A01C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7450F-063F-4454-9BBB-B069CAE75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50A4-C98D-49D7-BA19-19E11FA99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A900F-CBD5-4734-821E-DE910FDD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BD11D-E50D-45A7-A758-BAF9C8B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69012-AD55-4459-8921-B71D9448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4999-AC66-43B5-B0A2-53571B46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C89B-B635-4FAF-815C-CF64E9676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87622-C6F4-4C8F-BD4C-75616564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AD00A-F81B-40C6-AF80-A328E78C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82B28-C2ED-4192-BA9C-FF6FCF0E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4C98-7717-43C7-A27F-06E0CD87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1524A5-95AA-4D4E-8FA4-01C5A68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DD5EA-CF54-45C7-A9C9-8F33A39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15C2-F3C1-4BEE-AC0C-CD5AB2C3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6D789-0D4B-4B69-BA95-5B2BC473B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C1C9F9-C2F1-4AD8-BED7-B3637F71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B4AA8-EFAC-4C08-8680-57282047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B61EF-4BA9-4B99-A0B2-B16F8830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C7EEC-EA78-47E8-A619-8C791C7D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A967B-DC0C-4DF9-9A2A-10E67B61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BC73A-3AFE-4A63-BA14-15C55891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082-95FE-42D7-BEE6-31C392BE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BB640-D44F-4597-A849-30BF9F1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59311-E154-46C7-9581-7B98E3E3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B874E-22F3-4240-96BB-01CA58219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60A6C-83EF-4EF9-B367-0A87AFEB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45E9D-9D97-4748-8167-1F07007D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ACAC2-498C-4393-9FBD-7FBBF369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8233F-A445-4B7F-BFBD-C36969AE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12EF-00D6-4A34-BEB6-548874BC8AC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5C5-1F88-4B60-89FC-5CB6F4F6EEE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5D6-6684-4AB2-9789-A87CA297220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339-7E89-4C6E-BAC4-8FE070CAAA0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A8E9E-AD58-4153-BDB2-023F8286B5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E285-3977-4371-A256-F48975521E2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7770-922D-4541-9365-79ECE08C107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1EA9-4F02-462F-A86C-79E57C667227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11280" y="191880"/>
            <a:ext cx="7772400" cy="3686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Verkopen een kuns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1" descr="Afbeeldingsresultaat voor 4 p's"/>
          <p:cNvPicPr/>
          <p:nvPr/>
        </p:nvPicPr>
        <p:blipFill>
          <a:blip r:embed="rId2"/>
          <a:stretch/>
        </p:blipFill>
        <p:spPr>
          <a:xfrm>
            <a:off x="3132000" y="3284640"/>
            <a:ext cx="307044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Een belangrijke doelstelling van bedrijven is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erhogen van de verkoopopbrengst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Hoe kunnen ze dit bereiken?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o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go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gebruik te maken van de marketingmix (ook wel 6 p’s genoemd)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ductbeleid (bijv. alleen A-merk produc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Het productbeleid moet goed aansluiten op de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behoeften van de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Sans Unicode"/>
              </a:rPr>
              <a:t>doelgroep!!!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ijsbeleid (bijv. verleidelijke aanbieding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omotiebeleid (bijv. advertenties in kranten en tijdschriften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laatsbeleid (bijv. verkoop via het interne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resentatiebeleid (overzichtelijke indeling van de winkel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Personeelsbeleid (deskundig en herkenbaar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78" name="Picture 2" descr="Gerelateerde afbeelding"/>
          <p:cNvPicPr/>
          <p:nvPr/>
        </p:nvPicPr>
        <p:blipFill>
          <a:blip r:embed="rId2"/>
          <a:stretch/>
        </p:blipFill>
        <p:spPr>
          <a:xfrm rot="2490000">
            <a:off x="5519520" y="1076400"/>
            <a:ext cx="3085920" cy="2222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http://www.fiftytoo.be/nl/local/cache-vignettes/L250xH212/arton1000-826f5.jpg"/>
          <p:cNvPicPr/>
          <p:nvPr/>
        </p:nvPicPr>
        <p:blipFill>
          <a:blip r:embed="rId3"/>
          <a:stretch/>
        </p:blipFill>
        <p:spPr>
          <a:xfrm rot="19334400">
            <a:off x="824040" y="658800"/>
            <a:ext cx="3028680" cy="256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http://thumbs.dreamstime.com/z/psychologische-prijs-die-de-prijs-vaststelt-van-21693187.jpg"/>
          <p:cNvPicPr/>
          <p:nvPr/>
        </p:nvPicPr>
        <p:blipFill>
          <a:blip r:embed="rId4"/>
          <a:stretch/>
        </p:blipFill>
        <p:spPr>
          <a:xfrm rot="2278800">
            <a:off x="5108400" y="3778200"/>
            <a:ext cx="3405240" cy="1852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http://reclamewereld.blog.nl/files/2010/03/McD-Wifi.png"/>
          <p:cNvPicPr/>
          <p:nvPr/>
        </p:nvPicPr>
        <p:blipFill>
          <a:blip r:embed="rId5"/>
          <a:stretch/>
        </p:blipFill>
        <p:spPr>
          <a:xfrm rot="19510200">
            <a:off x="1195560" y="3663720"/>
            <a:ext cx="33447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 een ondernemer gaat het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erom het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op d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laat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tegen de juis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ijs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, met de juist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Sans Unicode"/>
              </a:rPr>
              <a:t>promotie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 te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erkop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Commerci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gericht is op het verhogen van de verkoop, dus doel is om meer winst te make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deële reclam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lame die een idee wil verspreiden of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drag wil veranderen zonder het doel er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mee te verdien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http://reclamewereld.blog.nl/files/2009/03/kitkat-benchvertising.jpg"/>
          <p:cNvPicPr/>
          <p:nvPr/>
        </p:nvPicPr>
        <p:blipFill>
          <a:blip r:embed="rId2"/>
          <a:stretch/>
        </p:blipFill>
        <p:spPr>
          <a:xfrm>
            <a:off x="6168960" y="3240"/>
            <a:ext cx="2951280" cy="196056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7" descr="http://members.ziggo.nl/gvdommel/weekblad0506/small43501052-banner-sire.jpg"/>
          <p:cNvPicPr/>
          <p:nvPr/>
        </p:nvPicPr>
        <p:blipFill>
          <a:blip r:embed="rId3"/>
          <a:stretch/>
        </p:blipFill>
        <p:spPr>
          <a:xfrm>
            <a:off x="3348000" y="5840280"/>
            <a:ext cx="579600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is heel belangrijk voor ondernemers om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volgende reden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samen veel geld te bested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hebben invloed op de aankopen thu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Ze zijn vaak trouwe klant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http://cjgbarendrecht.nl/wp-content/uploads/2013/12/Jongeren11.jpg"/>
          <p:cNvPicPr/>
          <p:nvPr/>
        </p:nvPicPr>
        <p:blipFill>
          <a:blip r:embed="rId2"/>
          <a:stretch/>
        </p:blipFill>
        <p:spPr>
          <a:xfrm>
            <a:off x="5724360" y="4562640"/>
            <a:ext cx="3419640" cy="22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09-15T10:30:01Z</dcterms:modified>
  <cp:revision>15</cp:revision>
  <dc:subject/>
  <dc:title> </dc:title>
</cp:coreProperties>
</file>