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87E-7999-451D-9C23-742F89DC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FCB-4193-46B9-AE75-4ADB7FA9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F80-BB9F-4A52-8836-656F1E56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F45-2D8D-4C51-B098-5780284E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E009-D787-4430-B366-59AA6279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ECA5-0E4F-4DEB-BC21-90BAABB0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2DA1-16A6-49A7-8CE3-E3146BA9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0994-9D21-4127-8242-2698F78C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1F4A-A0B0-4373-BD7E-D6789AFE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A8D1-A76B-45DE-903C-CFC4E084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B77A-C296-4C0C-AE91-FFC0534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0EB-88CA-43C6-B978-F572DE6C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0C1B-D065-4CA0-9730-3C431F90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4EC1-375B-497D-9BCA-2F01DB04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2F9F-407E-42D1-9A9C-722F86BF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C483-95B5-4778-9851-E2CE3616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538F-7EED-4AB0-B91D-D02464AB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DBDD-5500-4880-951C-8EB070BE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7398-965C-4A2A-B73E-977FDFD9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8B9BD-434C-4FC9-8E18-44ECEDF1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69649-A4CA-4D38-929C-3B73CAF9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1877-C6CA-452B-BF43-82B73DEB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ED8-48C3-4EE7-A995-0B16D6DF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336B-BA37-4673-9426-44C0B428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F5866-BF94-43BD-8D2D-E5D2B9AF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0569-8B73-418C-A752-F264FE62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29E7-58B0-4AB8-A5A2-2072D892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DE97-0BD6-48F8-9AD7-D7D5A7B9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BC637-29B0-45ED-B101-F41FCCF1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C6A89-F5A9-4234-A309-89F70AD8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E069-132A-445C-ABED-985ACA31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EC63-BD2D-4462-AEAA-83742165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47A83-BF22-4CFB-9515-518E5D6A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D28-95D8-467A-A8CE-869D65AE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4AC5A-B2C6-4E9C-AF2D-C7804057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511F2-94FF-4C93-B9DB-E68797F8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C628-9D74-4C57-B19D-063EE131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B2697-6E5F-4322-8A6F-6550C694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2AB0-C236-4F1D-ADE9-ABBE003B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8C32-85C4-490C-B7C8-1F4C42D5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75D78-8D9E-4284-AF79-1BC751EE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479C-95A9-4909-B1B4-B491B7AE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A6718-08A7-4E29-923E-DD066874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1E97F-CBFF-4D59-ACB1-5E3F78DE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DE6-4AF4-41D6-8AB7-DFDC1BFD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75040-AD8F-4D3F-93BB-002DD711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0A408-4486-4400-883D-65431A9D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804A8-8136-458B-B99E-18634529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AE43-6BAB-492F-9B34-82D3E9C6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448AB-88CF-4C95-A303-065F36CF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FE94E-FCFB-4DC9-86E0-F592C55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49EC-95E3-4CBB-AA90-515EBB54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FF506-0DC9-4938-B668-8A0D0DC4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C0046-410E-4D1F-868E-6CF8EF7D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F4060-B256-40CA-941F-FE9D8671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73A-7402-4685-98DC-B4768626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4A36-1459-457B-BF0D-0689E11B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EB4C6-801A-42A9-87B0-CA8872F3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C4138-C3B3-496B-A14D-E20684DB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D1045-9462-48EB-84A7-CC8CB90E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1EB7D-68D7-446A-BE9F-EE75633B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A53F0-B267-46B6-89E6-DBB90D1B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3A21-825E-409F-AE51-50BC8C1C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31531-EDF3-4BFF-8483-94E86BC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844A8-5198-429A-A096-58953AFB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CE400-A1C3-47ED-AABE-4BF95777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C81-E92D-49FF-B95D-7CDB72F0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2C1A4-0A5D-411C-ADDE-CC1F81A1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C7AC9-F3E0-43AF-91A6-348A781E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B645-4138-4504-BCB8-8C1D2CC0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26838-C30C-46C0-9F1D-F6037A51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19897-0AB7-49D0-88A2-006E0E94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EA78D-D91A-4389-9B99-931A4373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8DFC7-E203-4C50-9A14-49036906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E92DD-BB2E-4446-9C07-CA6430B3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BD1C-188F-494A-8830-10B85250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64E41-8BD0-450E-9963-7F970BF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76B-925C-4B38-9B55-74F23BEF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C894E-9A28-4E88-8B54-F23C8460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AC075-FE51-48AA-B726-CDFA5001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60F50-F9C1-49E9-A284-4DC56871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EFBD7-1BEA-4A1F-8CA5-030B31A5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0BAD0-E57F-41B6-BA1F-28F263B8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0CF40-962A-4CB4-8649-3001DDC4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74D71-4069-46CC-8581-6A446D34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593CC-6F60-4564-B047-618DE7F8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95143-E45A-417F-83BC-357A57B8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5B05-09B6-4322-BFAE-91821C4E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9BA-C5C6-4E00-8494-8EF7E562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8D066-187F-4CA3-933F-44EDEC92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209F6-27C4-4C40-BD6B-8ED76B2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4B8ED-C919-4865-B8AC-0661FCA9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F038B-2101-42F3-804F-80B411FB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C74AE-8E7A-4776-941C-D8FD3F82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AECC4-2080-4924-A575-FF587C74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ED699-5B4A-4070-87F5-CF9EFB75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0E8E-7B81-4103-9388-D5DC8B395E2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F79-7047-478D-9CBB-43AF4AC46EA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2039-41DA-40D9-8064-EC852D470A6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D059-AA92-4A70-BDBB-C7B899DFD96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4243-2B60-43DE-A899-4DFB6F6D3B8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A1F4-FDB5-4EDE-9F0C-01F66401C16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E052-757A-490B-8227-F5DC7A51D36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6F16-3E0E-4804-832F-7FCFE46CF0C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64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is kiez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www.autismeplein.nl/wp-content/uploads/2013/01/keuzes.png"/>
          <p:cNvPicPr/>
          <p:nvPr/>
        </p:nvPicPr>
        <p:blipFill>
          <a:blip r:embed="rId2"/>
          <a:stretch/>
        </p:blipFill>
        <p:spPr>
          <a:xfrm>
            <a:off x="2627280" y="3110040"/>
            <a:ext cx="3673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oeften = alles wat je nodig hebt of graag wilt hebb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asis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xe (overige) 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ttp://www.beleefoostpoort.nl/uploaded_files/inlineitem/Genieten_eten_drinken.png"/>
          <p:cNvPicPr/>
          <p:nvPr/>
        </p:nvPicPr>
        <p:blipFill>
          <a:blip r:embed="rId2"/>
          <a:stretch/>
        </p:blipFill>
        <p:spPr>
          <a:xfrm>
            <a:off x="1403280" y="2637000"/>
            <a:ext cx="1944720" cy="140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http://www.houseofoutdoor.com/wp-content/uploads/2014/07/kleding-2013.jpg"/>
          <p:cNvPicPr/>
          <p:nvPr/>
        </p:nvPicPr>
        <p:blipFill>
          <a:blip r:embed="rId3"/>
          <a:stretch/>
        </p:blipFill>
        <p:spPr>
          <a:xfrm>
            <a:off x="3851280" y="2637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5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Gerelateerde afbeelding"/>
          <p:cNvPicPr/>
          <p:nvPr/>
        </p:nvPicPr>
        <p:blipFill>
          <a:blip r:embed="rId4"/>
          <a:stretch/>
        </p:blipFill>
        <p:spPr>
          <a:xfrm>
            <a:off x="6161040" y="2637000"/>
            <a:ext cx="1971720" cy="147636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9"/>
          <p:cNvSpPr/>
          <p:nvPr/>
        </p:nvSpPr>
        <p:spPr>
          <a:xfrm>
            <a:off x="155520" y="-2239920"/>
            <a:ext cx="69915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1" descr="Gerelateerde afbeelding"/>
          <p:cNvPicPr/>
          <p:nvPr/>
        </p:nvPicPr>
        <p:blipFill>
          <a:blip r:embed="rId5"/>
          <a:stretch/>
        </p:blipFill>
        <p:spPr>
          <a:xfrm>
            <a:off x="1979640" y="4680000"/>
            <a:ext cx="2448000" cy="162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3" descr="http://www.anwb.nl/bestanden/content/gallery/anwb/portal/vakantie/etalagebeelden/reisorganisaties.jpg"/>
          <p:cNvPicPr/>
          <p:nvPr/>
        </p:nvPicPr>
        <p:blipFill>
          <a:blip r:embed="rId6"/>
          <a:stretch/>
        </p:blipFill>
        <p:spPr>
          <a:xfrm>
            <a:off x="5148360" y="4749840"/>
            <a:ext cx="3095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2"/>
          <a:stretch/>
        </p:blipFill>
        <p:spPr>
          <a:xfrm>
            <a:off x="455760" y="324000"/>
            <a:ext cx="8156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oederen zijn producten die tastbaar zijn; je kan ze dus aanr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ensten zijn producten die niet tastbaar zijn; je kan ze dus niet aanraken. De een doet iets voor de and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ttp://www.gortzen.eu/werkenindelogistiek/kiem/handel1e/taxi.jpg"/>
          <p:cNvPicPr/>
          <p:nvPr/>
        </p:nvPicPr>
        <p:blipFill>
          <a:blip r:embed="rId2"/>
          <a:stretch/>
        </p:blipFill>
        <p:spPr>
          <a:xfrm>
            <a:off x="1979640" y="46544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http://www.karizmabyhakan.nl/wp-content/uploads/dames-heren-kapper-hakan.jpg"/>
          <p:cNvPicPr/>
          <p:nvPr/>
        </p:nvPicPr>
        <p:blipFill>
          <a:blip r:embed="rId3"/>
          <a:stretch/>
        </p:blipFill>
        <p:spPr>
          <a:xfrm>
            <a:off x="4211640" y="4654440"/>
            <a:ext cx="2076480" cy="138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https://encrypted-tbn3.gstatic.com/images?q=tbn:ANd9GcS-8Wd4SlTLQsZXZ8Dwu1d-hxOw7BKtqB9Tj3ZSYqViYXBNrIR1NQ"/>
          <p:cNvPicPr/>
          <p:nvPr/>
        </p:nvPicPr>
        <p:blipFill>
          <a:blip r:embed="rId4"/>
          <a:stretch/>
        </p:blipFill>
        <p:spPr>
          <a:xfrm>
            <a:off x="6732720" y="4654440"/>
            <a:ext cx="2016000" cy="13431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ttp://www.centrameubel.nl/media1/store%20eettafel.jpg"/>
          <p:cNvPicPr/>
          <p:nvPr/>
        </p:nvPicPr>
        <p:blipFill>
          <a:blip r:embed="rId5"/>
          <a:stretch/>
        </p:blipFill>
        <p:spPr>
          <a:xfrm>
            <a:off x="6288120" y="2039760"/>
            <a:ext cx="2435040" cy="115272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13"/>
          <p:cNvSpPr/>
          <p:nvPr/>
        </p:nvSpPr>
        <p:spPr>
          <a:xfrm>
            <a:off x="63360" y="-136440"/>
            <a:ext cx="69915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Gerelateerde afbeelding"/>
          <p:cNvPicPr/>
          <p:nvPr/>
        </p:nvPicPr>
        <p:blipFill>
          <a:blip r:embed="rId6"/>
          <a:stretch/>
        </p:blipFill>
        <p:spPr>
          <a:xfrm>
            <a:off x="4373640" y="2023920"/>
            <a:ext cx="175428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geldt het volgen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e rijker de mensen, hoe meer producten zij als noodzakelijk erva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reenert.lu/files/sauna_wohl.jpg"/>
          <p:cNvPicPr/>
          <p:nvPr/>
        </p:nvPicPr>
        <p:blipFill>
          <a:blip r:embed="rId2"/>
          <a:stretch/>
        </p:blipFill>
        <p:spPr>
          <a:xfrm>
            <a:off x="455760" y="2863800"/>
            <a:ext cx="2689200" cy="15130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http://3.bp.blogspot.com/-uxNZMCsCUjI/U9Iz5ve3ojI/AAAAAAAASxg/SQDPwMnxjto/s1600/Samsung-Smart-Tv.jpg"/>
          <p:cNvPicPr/>
          <p:nvPr/>
        </p:nvPicPr>
        <p:blipFill>
          <a:blip r:embed="rId3"/>
          <a:stretch/>
        </p:blipFill>
        <p:spPr>
          <a:xfrm>
            <a:off x="3276720" y="3556080"/>
            <a:ext cx="2606400" cy="175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http://i.ytimg.com/vi/-QwVwFqiRGU/maxresdefault.jpg"/>
          <p:cNvPicPr/>
          <p:nvPr/>
        </p:nvPicPr>
        <p:blipFill>
          <a:blip r:embed="rId4"/>
          <a:stretch/>
        </p:blipFill>
        <p:spPr>
          <a:xfrm>
            <a:off x="6084720" y="5157720"/>
            <a:ext cx="2880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en moeten kiezen uit hun behoeften, omdat er schaarste is aan geld en tij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1 (schaarste aan geld): iemand kan met 50 euro geen nieuwe fiets én telefoon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2 (schaarste aan tijd): iemand kan niet tegelijkertijd slapen en spor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9-11T11:01:20Z</dcterms:modified>
  <cp:revision>14</cp:revision>
  <dc:subject/>
  <dc:title> </dc:title>
</cp:coreProperties>
</file>