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6.jpeg" ContentType="image/jpeg"/>
  <Override PartName="/ppt/media/image19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DC1-EB80-417C-A499-14A366ED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A53-9B08-45E6-ABB6-4F27763A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03DF-EDE6-4355-9D83-95BD8F26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BE0-5CC0-4B39-8FA4-E156DE53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C340-D287-4DF3-B0EC-F3B6F6D0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359F-4539-44EB-AA08-5554F116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D23D-B6F9-45AA-B638-E44CB015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3E73-1D3C-4BBB-B996-5D8A1E6E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61AC-8D59-49FA-A157-8292C409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7C19-2260-4CFA-B040-681E84E0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DF33-AEF7-40EE-9D65-A3E982A6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DED-74CD-48A7-9515-1CBF4F59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E742-BAB0-4CA9-BA6F-15E1D724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5242-BF40-489F-AB77-FF9CD8D5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C590-80E8-4740-8271-B7B6C2F3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EA73-50AB-4E2B-80F4-E2907FF2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C693-3602-4E44-AF4F-FBC3A61A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0B0D4-AEE7-404A-9BC9-CD663441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68CB9-6A63-4B2B-A3CB-0C969CF2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3BA35-4C08-424A-9BD3-F26D8387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AC443-7C45-4BA6-847C-EBCE311D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FAE00-9C2E-413C-A361-84BD19B9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F08-15FE-4D4C-B29A-1F8C4633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CAA12-F9EB-444E-BC9E-6CC38941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F1D32-C007-44C7-89B2-3C95B332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63635-021F-4BF8-A38F-3165E850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DF6C7-53DD-4FB2-AA88-032C7A57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7297B-7319-4412-92CE-34B30D86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702EB-6475-4309-9930-14D3CD90A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D25E7-0592-46D6-8E48-181D934F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AE6EE-75CA-4E17-A04F-2EF24409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A2DF7-F657-4C4F-8618-9F5C7024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0EB98-4D24-4D25-AE3F-8DA61D09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B70-C67D-400C-99B1-C8801199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131E8-2D21-438F-BD6F-7BB9CDD9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B35B3-D89B-47E2-8E5D-CECA83E4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866A8-9FC9-4EF3-A9AA-2B862875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2F508-8BA5-4ADF-A9A6-2C19603A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971E1-A0B9-4574-BC44-71B1BDAF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09F30-8B28-45AE-A398-6DF96353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DF510-DBDA-4647-B741-30BDB1E4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D7885-FE03-434B-8915-18FE3A77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74E61-84EC-4BD2-B6A2-F291E21E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D0D13-5F93-4834-A1CB-5E6258EC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3E3-490B-42E9-9939-E21734DB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2E780-E8CC-4C4F-85F5-7E940380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AD535-A85E-4CCE-B99D-9AAB23AA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2AF0C-D8F4-421B-8331-D5920D06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45A5E-3546-4BB7-A93B-C4A19471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0C32E-E6F2-4501-879E-55505355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32827-241A-460D-928A-020674C6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36DED-76B8-4CC1-9064-780B598A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D5310-11D8-4ED3-B008-ED3C95E5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CB4C4-9399-4EAF-A4C1-134653DB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B0880-84D6-46BA-BEFF-D8397271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B1DE-96AA-4794-8331-A26169CD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9C57A-55A0-4E81-A44E-A01D99BC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6B6CE-52F3-438C-8FA2-C976F569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2E416-96B7-4916-B909-92542C8C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BF885-9126-4D62-92D4-9AEBF9C7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12A99-221B-43BB-98DF-472CC828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89118-2355-44DB-AC43-C4416171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B6BE3-9E2F-4152-BB09-9984745B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A03D5-1A51-49FA-807F-C770F8CD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4831B-C3C9-40B3-A535-E8312748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0E289-02CE-4461-A21E-7ABBFA3C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5F0-546B-4DAE-B2DB-8BA02273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D22F9-EFDA-478B-976F-62D57549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D1C1B-B3D0-46C3-B106-706B986C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BA79E-55A5-43A6-A370-14A59BED4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A4E68-DF3A-40A1-BC3C-5764C8B3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AFDB0-BAA6-43E0-B2AD-C980A0DD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75419-1E42-4659-8EBB-6FCB0404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B95D0-18F0-42B9-8AC1-73BD121F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47377-1368-469E-8EDB-A42CB5DE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CC53A-DEC4-4AD3-BD97-2FB736BB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2B106-68AB-413A-9E4F-75A23B76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BCCC-CCD8-49C7-A7C0-B5B2120A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FE424-BAD4-4AF3-8B70-EBAA48BB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A90AF-DE83-4030-B346-0739A4A6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E4F57-96DA-443D-825C-2FD60FF9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EF828-B5A4-4B6F-B6B3-1701865F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76084-ED8B-40F2-9F6D-64DA55F4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2CE23-0427-4BD2-A771-39392433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01C00-F0CC-4868-A53A-B106071E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EA031-F155-47D8-8C6E-F0C3A4EA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6B8B1-CAAD-480D-AE21-CCD10FF6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C4EB2-8ECE-40F8-B1B9-695283F5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4C93-812E-40EE-BA7B-06801CFB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1739E-76E3-45EF-BB04-3967A88C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94269-AA93-40BB-A6F7-BE4C9D7A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81556-BD68-433C-B80A-D0D0F03B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8E315-F9AA-4523-9CD9-BD23A045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745D8-6BB2-48E3-A23B-9FDF2370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C3958-C167-4AFA-AF94-1D829AA8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15EF2-0294-4B8B-B604-889FD199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1DCD-4394-44B9-A04C-A7AF353FE76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F500-3810-460B-BFF0-35C6759822B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4142-58E6-4049-854B-7D6A55D2E2C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8F4C-6219-4C89-91A0-6583C816B6F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0759-4B3A-4307-89C5-DF582461E85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E017-E2F1-4D2B-88B7-B048A0E229F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7896-6264-4C36-A57F-26834F4A807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3CD0-CC4E-4791-A7CB-09E9F880CF4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11280" y="19188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kopen een kuns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1" descr="Afbeeldingsresultaat voor 4 p's"/>
          <p:cNvPicPr/>
          <p:nvPr/>
        </p:nvPicPr>
        <p:blipFill>
          <a:blip r:embed="rId2"/>
          <a:stretch/>
        </p:blipFill>
        <p:spPr>
          <a:xfrm>
            <a:off x="3132000" y="3284640"/>
            <a:ext cx="307044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en belangrijke doelstelling van bedrijven i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hogen van de verkoopopbrengst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e kunnen ze dit bereike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o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oe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gebruik te maken van de marketingmix (ook wel 6 p’s genoemd)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ductbeleid (bijv. alleen A-merk product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Het productbeleid moet goed aansluiten op de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behoeften van d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doelgroep!!!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ijsbeleid (bijv. verleidelijke aanbieding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motiebeleid (bijv. advertenties in kranten en tijdschrift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laatsbeleid (bijv. verkoop via het interne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esentatiebeleid (overzichtelijke indeling van de winkel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ersoneelsbeleid (deskundig en herkenbaar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8" name="Picture 2" descr="Gerelateerde afbeelding"/>
          <p:cNvPicPr/>
          <p:nvPr/>
        </p:nvPicPr>
        <p:blipFill>
          <a:blip r:embed="rId2"/>
          <a:stretch/>
        </p:blipFill>
        <p:spPr>
          <a:xfrm rot="2490000">
            <a:off x="5519520" y="1076400"/>
            <a:ext cx="3085920" cy="2222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http://www.fiftytoo.be/nl/local/cache-vignettes/L250xH212/arton1000-826f5.jpg"/>
          <p:cNvPicPr/>
          <p:nvPr/>
        </p:nvPicPr>
        <p:blipFill>
          <a:blip r:embed="rId3"/>
          <a:stretch/>
        </p:blipFill>
        <p:spPr>
          <a:xfrm rot="19334400">
            <a:off x="824040" y="658800"/>
            <a:ext cx="3028680" cy="2568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http://thumbs.dreamstime.com/z/psychologische-prijs-die-de-prijs-vaststelt-van-21693187.jpg"/>
          <p:cNvPicPr/>
          <p:nvPr/>
        </p:nvPicPr>
        <p:blipFill>
          <a:blip r:embed="rId4"/>
          <a:stretch/>
        </p:blipFill>
        <p:spPr>
          <a:xfrm rot="2278800">
            <a:off x="5108400" y="3778200"/>
            <a:ext cx="3405240" cy="1852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http://reclamewereld.blog.nl/files/2010/03/McD-Wifi.png"/>
          <p:cNvPicPr/>
          <p:nvPr/>
        </p:nvPicPr>
        <p:blipFill>
          <a:blip r:embed="rId5"/>
          <a:stretch/>
        </p:blipFill>
        <p:spPr>
          <a:xfrm rot="19510200">
            <a:off x="1195560" y="3663720"/>
            <a:ext cx="33447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oor een ondernemer gaat het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rom het 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oduct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op d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laats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tegen de juist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ijs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met de 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omotie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t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erkop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mmerciële reclam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lame die gericht is op het verhogen van de verkoop, dus doel is om meer winst te make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deële reclam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lame die een idee wil verspreiden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drag wil veranderen zonder het doel 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 mee te verdien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http://reclamewereld.blog.nl/files/2009/03/kitkat-benchvertising.jpg"/>
          <p:cNvPicPr/>
          <p:nvPr/>
        </p:nvPicPr>
        <p:blipFill>
          <a:blip r:embed="rId2"/>
          <a:stretch/>
        </p:blipFill>
        <p:spPr>
          <a:xfrm>
            <a:off x="6168960" y="3240"/>
            <a:ext cx="2951280" cy="1960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http://members.ziggo.nl/gvdommel/weekblad0506/small43501052-banner-sire.jpg"/>
          <p:cNvPicPr/>
          <p:nvPr/>
        </p:nvPicPr>
        <p:blipFill>
          <a:blip r:embed="rId3"/>
          <a:stretch/>
        </p:blipFill>
        <p:spPr>
          <a:xfrm>
            <a:off x="3348000" y="5840280"/>
            <a:ext cx="57960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ze is heel belangrijk voor ondernemers om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olgende red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hebben samen veel geld te beste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hebben invloed op de aankopen thu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zijn vaak trouwe klan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http://cjgbarendrecht.nl/wp-content/uploads/2013/12/Jongeren11.jpg"/>
          <p:cNvPicPr/>
          <p:nvPr/>
        </p:nvPicPr>
        <p:blipFill>
          <a:blip r:embed="rId2"/>
          <a:stretch/>
        </p:blipFill>
        <p:spPr>
          <a:xfrm>
            <a:off x="5724360" y="4562640"/>
            <a:ext cx="3419640" cy="22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15T10:30:01Z</dcterms:modified>
  <cp:revision>15</cp:revision>
  <dc:subject/>
  <dc:title> </dc:title>
</cp:coreProperties>
</file>