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0D8-B215-47F5-964A-355667B1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3AC-3B7A-4263-AD40-5FC3AB1D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DEA-E8FD-4768-8D73-435D83EC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C69E-8A28-48BE-8CC1-6505898D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3E19-AE8B-450B-83F7-AF0EBA92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6803-FF42-4597-A286-ED49D575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4C62-A97F-4FEF-ABFF-5F09BEA2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8960-4BE4-44C7-B9D1-0282BEDB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2E76-FA09-4533-8887-12952812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0CEA-7AFF-48A4-90A0-2F4A81D0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F85D-73F2-4506-8DFE-49BEE8CB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499-B9C6-4D97-A7B6-3E9D673F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73C6-8E70-4493-8984-97BA382E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3A59-1758-4788-8CCE-A930F106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691D-074E-406C-A436-54F75B37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9326-08AA-4600-9F27-AC65C737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346B-6CD7-4F5D-949C-C7C45A5C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95C3D-E8BA-483C-8659-21EBB20C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61BC8-03EF-4BE4-9CE0-AB0BC92C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E4AAD-03AD-427F-AD08-78907547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CA361-8F93-4E8A-AA7B-460637A6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D747C-159D-4091-B93E-D35A7512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750C-6A81-4561-BABE-3D5CEB47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2DB58-5BAE-4625-B02F-58D81DC2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1D2E2-A64B-46D2-8803-C8D09BB5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7524D-E65F-43D2-9656-B7E083AA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F5081-D710-4545-9E65-0632211A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4E7F8-02FF-442A-922C-B2715561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6DF17-BBB2-4D5D-8289-2020730B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9FCD2-EBB4-4E48-AE24-884C5677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6645A-8A6A-474C-B233-8179E184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BD43E-F3AD-4A2E-B9E3-41E23283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DC0A0-A753-4256-B554-EB49E325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004-F2EC-4253-91ED-5E58B52C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CE849-1BEB-4FD4-A61F-B1A8FB74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7E5C1-25D8-43E7-9DB5-4D269347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C8F2B-A0A9-4FE3-B268-F60B502A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D3BEF-CC3C-4909-8AF9-8A38C62B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A65CB-A0D2-464C-A0D2-32984088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0116E-080A-4657-99CF-A50B745C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28E82-8474-4841-8959-E14433FE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0B695-C0C4-49B6-8CED-53CA62C9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7C3BA-163E-4B4A-9A99-12ADB1C3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F244C-E3D0-4A11-9D79-19705B65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C78-5F1F-4A97-9DDB-912613E4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01343-4821-4B4B-95F7-7B31A128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2C3B4-FEAF-4333-8D28-1DEB2942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EB7D6-7F8B-40CF-9D1B-02E5FB39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9D526-0FA5-4100-AD57-7ED432E3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FD25A-7B7C-4A3A-958F-04DBDDAF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2134D-2215-4195-8A59-0E73D0BC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24047-FF49-4445-A8B2-1BD65E92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D811C-12F7-4D6C-98FD-B0F3A8C0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1FDB6-5C6E-418E-A530-E49F1B48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E58A0-353E-4F51-A478-E9B0387C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E338-A961-4537-A54D-14082A95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04EB1-263F-415D-9DFB-75802CF2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DC4FD-D7BE-4A22-95C7-5B517012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F6061-7438-4A34-8EDA-060287D5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697A0-B443-4F95-B52D-7A5DB17F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3DE62-2DB6-4C00-9E35-885EEF2A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69DC3-C752-4025-BEB5-DCC6061C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B1088-6CA6-477E-8D77-A8C859B5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C9AF5-DE1C-4855-877D-7C181B43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F21AE-930F-456F-B06F-F0937A7B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5D3D2-3B78-49BD-8730-62810EF2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EB91-5301-48AF-B16F-0D7AE780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1BD72-49E2-4274-B7BF-3A8B9BFF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CB8BF-E662-46E3-B0D3-D6B4E64B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32073-A63E-4319-919C-BA65D993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1D1A9-C206-4629-B539-1E5D9D5F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69990-2243-4BF6-9639-E83999F6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A0791-8C9E-4CFB-9547-AF50ED37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DBCF2-E778-46B2-A6B3-E06FC0B1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1A7F9-BD13-4AEF-B0CE-4A79C99A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4A986-D386-41B4-B286-B6447338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35D26-A141-42E4-80B2-A7D31D6F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7363-3CC7-4C48-BD19-7E272DAB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BE8CB-85F1-4CD1-B06F-771101DF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E0714-6F59-4415-B388-9A6DE10E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B2712-B430-42E3-BD59-9370A731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22652-762A-474B-AE81-32D723F9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35A8D-12B5-43DD-B4E9-24D6F4B9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3F7BB-75E4-4AF4-A0D0-E2F14D4E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3FC47-A200-48CD-A68E-74BECD18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B2059-106B-4894-9FB0-672A769C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6219E-AC47-49FB-B7F0-CC5B08F3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36442-A03D-46C6-BB23-B14E623D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924-FB97-48B9-9CD8-7318B039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D2FEE-007C-4EBC-A622-CBFCF9B9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DE21E-E530-4FFA-AB33-94540B88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08492-B26D-4431-9BE8-A88457DB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AD658-EAFF-43EA-BEE0-BA29FE1A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CCA82-5770-4BA8-8176-F8A05F94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497C9-1EFC-409E-A0E9-B69B1CFD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6A13A-8041-4F7E-AC59-48CB5CF3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982E-8AD5-400A-94D3-F4BA1BABBC5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4D86-530F-49F6-8155-0536B24D9D1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E689-0A3F-4DEE-A51E-6F250A2472F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CC73-1CF8-4134-B63F-08ED2CCA221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1E19-922C-4B10-BF14-165EE9A19A3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2271-A20B-47DE-8A74-BAEEDFD2147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5899-A060-4545-B645-C22B8E34E93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C025-4168-411C-857E-F292DE7092B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Spijt achteraf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bonnenprinten.nl/images/algemene-voorwaarden.jpg"/>
          <p:cNvPicPr/>
          <p:nvPr/>
        </p:nvPicPr>
        <p:blipFill>
          <a:blip r:embed="rId2"/>
          <a:stretch/>
        </p:blipFill>
        <p:spPr>
          <a:xfrm>
            <a:off x="0" y="0"/>
            <a:ext cx="2997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per en verkoper sluiten een koopovereenkomst af. Dit kan zowel schriftelijk als mondeling. Een koopovereenkomst kan niet zomaar worden opgezeg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opovereenkomst = overeenstemming over de aankoop van een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it de koopovereenkomst vloeien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recht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licht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oort voor zowel de koper als de verkoper (= algemene voorwaard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Rechten van de koper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levering van een deugdelijk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ugdelijk product = product dat bij normaa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bruikt voldoet aan de verwachting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lichten van de koper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het op tijd betalen van het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een ondeugdelijk product heeft de koper recht op (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el in deze volgorde!!!)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reparati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nder exemplaar (= vervanging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geld terug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4" descr="http://ww2.autoscout24.nl/advies/koopcontract/173967/148486/as24.ratgeber.sell.handling.contract.png"/>
          <p:cNvPicPr/>
          <p:nvPr/>
        </p:nvPicPr>
        <p:blipFill>
          <a:blip r:embed="rId1"/>
          <a:stretch/>
        </p:blipFill>
        <p:spPr>
          <a:xfrm>
            <a:off x="4586400" y="5273640"/>
            <a:ext cx="4572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portagew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schermt de consument tegen aankopen aan de deur of tijdens houseparty’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erkoper moet een schriftelijk contract opgeven bij de Kamer van Koophand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enktijd om de koop op te zeggen is 14 dagen, tenzij het bedrag € 50 of minder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ttp://psfm.nl/wp-content/uploads/2012/08/KPN-g.jpg"/>
          <p:cNvPicPr/>
          <p:nvPr/>
        </p:nvPicPr>
        <p:blipFill>
          <a:blip r:embed="rId2"/>
          <a:stretch/>
        </p:blipFill>
        <p:spPr>
          <a:xfrm>
            <a:off x="6448320" y="0"/>
            <a:ext cx="2695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5280" y="76500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t koop op afstan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ze wet beschermt de consument voor aankopen via internet, telefoon of pos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verkoper moet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óór de koop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ldoende informatie over zichzelf en het product gev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verkoper moet het product binnen 30 dagen lever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koper heeft bedenktijd om de koop op te zeggen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4 dagen na 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leveri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 v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goederen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4 dagen na 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bestelling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dienst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Picture 4" descr="http://tilburgers.nl/wp-content/uploads/2014/06/jongeren-vaker-slachtoffer-online-winkelfraude-300x168.jpg"/>
          <p:cNvPicPr/>
          <p:nvPr/>
        </p:nvPicPr>
        <p:blipFill>
          <a:blip r:embed="rId1"/>
          <a:stretch/>
        </p:blipFill>
        <p:spPr>
          <a:xfrm>
            <a:off x="6910560" y="17640"/>
            <a:ext cx="2233440" cy="12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een meningsverschil tussen koper en verkoper kan de kop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zaak aan een geschillencommissie voorleg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zaak een rechter voorleg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m hulp en advies vragen aan een consumentenorganisatie (zoals de Consumentenbond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overeenkomst kan door de rechter ongeldig worden als er sprake is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en minderjarige koper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dit is alleen het geval als de verkoper kan weten dat de ouders het niet eens zijn met de koop!!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en koper die onder curatele is gesteld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bijv. iemand met een zware verslaving of verstandelijke beperking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dreiging, bedrog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= met kwade opzet iemand oplichten),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waling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= verkeerde voorstelling van iets wat je gekocht hebt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4" descr="Afbeeldingsresultaat voor rechter"/>
          <p:cNvPicPr/>
          <p:nvPr/>
        </p:nvPicPr>
        <p:blipFill>
          <a:blip r:embed="rId1"/>
          <a:stretch/>
        </p:blipFill>
        <p:spPr>
          <a:xfrm>
            <a:off x="7218360" y="5611680"/>
            <a:ext cx="18702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20T09:32:51Z</dcterms:modified>
  <cp:revision>26</cp:revision>
  <dc:subject/>
  <dc:title> </dc:title>
</cp:coreProperties>
</file>