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883E4-15DA-487C-92F7-75577906A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BF5EF-75C1-43F3-9CED-074191F78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BFE35-26E9-41B0-A024-4F77B8163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196E9-E86D-4265-929E-FC405EE41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63957-8F53-42D1-9DE0-8AF8FEBE8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1980B-8B9D-4C01-9B7F-19F1DC69D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E9CC9-8E1A-4A92-80C1-57BE00031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08BCB-CE90-43EB-ADC2-C356406FD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4FB60-1BA7-4D9C-B6EC-2E5A17197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52273-A7B6-47B2-A9C9-E4E4B93CC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48963-1458-403D-9E5A-12B155515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90EB7-1F04-4476-942C-53D0D8379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02A74-8C5A-4DCF-8FF4-9DB8A16C3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D1C53-E26E-4645-86B0-A2747BEA2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D0C19-3923-4749-B82A-BAF30640B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9CDE7-B6BE-4C7F-9BEB-DAC58AC75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1F453-424F-4E68-BEB6-6944E0591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10317A-2433-4641-A358-8893A8A62F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984011-0F65-4727-A407-AC4AE659A2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D2FC08-D630-43AD-ACE8-D7BA08DCF3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9C8BA1-859D-48E6-A451-A94F8A4CA4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BCCFD5-10C0-4169-897A-5DC3275BF4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817D4-2026-4AC4-AB5A-62B1DED26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2D383C-C9C5-4D67-AF88-E64955896F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76467-8C31-4EF1-8C37-272E009BC1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08794-2B42-4DC5-B2B8-49275B878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0F6FC6-95DA-423D-B454-AD1CF5D17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EE3699-7607-4C9D-80C5-525F2530F4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A76DE4-010E-4AE1-8EEF-156EDA8731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4A066D-3E8E-4DDE-8756-83A734F66A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B0F4B2-CAD6-498F-BA19-D7C6B4D87B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23EE86-5E09-4918-8B16-33B65E7B0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470FA-BCC3-452D-AC99-D78BDC24C1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CAA4C-E369-474F-9AF5-D5856AD2E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6429F0-69E7-42BE-9E11-E686E1479F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070F5-6A24-4C27-A5BD-685FD94773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854B2C-3CE2-4129-BE16-D61F40F0B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6609BE-9D4E-4172-9E22-D99640D1D7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CE81D-FE75-4005-94EB-BD739429C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47403-213C-420A-A3DC-B2745AEC6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E99DE0-5F28-42AA-A7CA-BA96657DD4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5CF6C9-2340-4A60-8709-4669BBED4C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64D486-30D5-41B5-8B61-A699781B20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176FC5-BFB6-41A2-9A68-5FC71C11D2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03778-B6A9-4DFE-BCBB-A86E352B9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C1766D-8AD1-4351-80D6-BCE8E8C35F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26557F-E3DE-4803-9739-02F9BEFBE9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980DF5-79A4-4D5D-B80E-0B1E5E665B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81996E-DC4A-479D-AC55-DD09E2A98B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90D6A2-7EEB-462D-B535-EE787DF8B5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1F7F30-58B2-4EC3-8E19-3DB809B344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D06519-772D-45B4-A780-191101C53E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8B98D9-AA0B-4180-9AEF-E679272AC2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01B395-7300-449B-A8CD-F3BFD95A68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8BB76A-A78B-47C0-828D-95C23C2323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EA1EB-2FDF-4808-9280-850597B62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F27732-E9EA-499C-885C-5BA1575BE1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CF3876-6B01-4468-AFBF-F9B7411DD0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22E5C2-E982-4761-A916-9F8E938863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4BB6BD-FC85-493F-BB22-D405E1915F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04B172-4177-4C16-9F75-4B5DBE8CDA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39BA70-B598-4B1D-B707-F34EF3C060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8F4DBA-62BA-4804-B30F-A04EED222A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478E8-F8DD-4504-9601-FAD117443E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B37BDA-B8AA-4D9A-AED9-0D8063651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F6F64F-0685-4ABB-9488-19A208BA0C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4E698-D97E-4EBC-A537-051D2132A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EB0F4B-3BAA-4B2E-AE80-DACF477730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E8BFBE-1F7E-473A-BA70-A8871BDAC5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99A213-973D-4AE0-8FDE-EEF9D8DA7D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0E8A04-DE34-40A0-A73C-F970DAA383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205B3C-3007-4048-B0B4-8634AE2BC1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67A86A-2E4C-4A4E-A9C8-F7C6E6C615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38AC46-C5ED-49BC-B743-0158A78236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396F9B-95CC-4138-B0CC-8D9952D4A3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CE1BF3-E8B1-4553-9AC4-4D56CE14E9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13DAC5-E29A-4D3F-BBDB-CCD55AD83D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7BB1E-FC28-4ED5-BA88-7D4DF8F77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B7646-08D7-4115-A6BB-D37EC899E4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18650B-A755-4CEA-8040-BE17EBB9DF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17AA7B-D836-429F-A88A-C5A63A583C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0CA95A-203E-44A1-B5F8-66957F43DD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7A56CF-3DE7-45D1-983A-C18C6918AD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639FDC-EC06-4302-8C66-17882037E4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5EA212-8537-43F1-9122-04F25ACE55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038028-5582-41D1-9072-6297FCF9A0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3C44D3-453C-4226-BE59-027E7E5512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C07062-F79C-407E-A899-CC88702C20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7BCFE-B3C5-4C90-BD23-153857465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239F4A-0516-4957-8819-3801C6DC7E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049A7F-4E7B-498F-9452-A8F2C7E758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1BCC19-8296-4E60-987F-E0B32D79D7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A58AC6-4BBD-4E9D-BE73-48C1D4525B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2729DE-3DEC-4CF9-A235-A1D93CE482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4299F5-A798-4D92-A409-2F19C1D095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E74B40-7BA2-4325-9587-5E3CA81A0EC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echthoekige driehoek 13"/>
          <p:cNvGrpSpPr/>
          <p:nvPr/>
        </p:nvGrpSpPr>
        <p:grpSpPr>
          <a:xfrm>
            <a:off x="-6480" y="5791320"/>
            <a:ext cx="3402000" cy="1079280"/>
            <a:chOff x="-6480" y="5791320"/>
            <a:chExt cx="3402000" cy="1079280"/>
          </a:xfrm>
        </p:grpSpPr>
        <p:pic>
          <p:nvPicPr>
            <p:cNvPr id="3" name="Rechthoekige driehoek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Rechte verbindingslijn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3403-CB56-4B22-B849-207611DEE728}"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hthoekige driehoek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ep 15"/>
          <p:cNvGrpSpPr/>
          <p:nvPr/>
        </p:nvGrpSpPr>
        <p:grpSpPr>
          <a:xfrm>
            <a:off x="-3240" y="4952880"/>
            <a:ext cx="9147240" cy="1911600"/>
            <a:chOff x="-3240" y="4952880"/>
            <a:chExt cx="9147240" cy="1911600"/>
          </a:xfrm>
        </p:grpSpPr>
        <p:sp>
          <p:nvSpPr>
            <p:cNvPr id="49" name="Vrije v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Vrije v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Vrije vorm 19"/>
            <p:cNvGrpSpPr/>
            <p:nvPr/>
          </p:nvGrpSpPr>
          <p:grpSpPr>
            <a:xfrm>
              <a:off x="8640" y="4998600"/>
              <a:ext cx="9135360" cy="1865880"/>
              <a:chOff x="8640" y="4998600"/>
              <a:chExt cx="9135360" cy="1865880"/>
            </a:xfrm>
          </p:grpSpPr>
          <p:pic>
            <p:nvPicPr>
              <p:cNvPr id="52" name="Vrije v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Rechte verbindingslijn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AF43-DE51-4F1C-8F70-6CC7F0CA5EF7}"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echthoekige driehoek 13"/>
          <p:cNvGrpSpPr/>
          <p:nvPr/>
        </p:nvGrpSpPr>
        <p:grpSpPr>
          <a:xfrm>
            <a:off x="-6480" y="5791320"/>
            <a:ext cx="3402000" cy="1079280"/>
            <a:chOff x="-6480" y="5791320"/>
            <a:chExt cx="3402000" cy="1079280"/>
          </a:xfrm>
        </p:grpSpPr>
        <p:pic>
          <p:nvPicPr>
            <p:cNvPr id="99" name="Rechthoekige driehoek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Rechte verbindingslijn 14" descr=""/>
          <p:cNvPicPr/>
          <p:nvPr/>
        </p:nvPicPr>
        <p:blipFill>
          <a:blip r:embed="rId4"/>
          <a:stretch/>
        </p:blipFill>
        <p:spPr>
          <a:xfrm>
            <a:off x="-19080" y="5778360"/>
            <a:ext cx="3414600" cy="1098720"/>
          </a:xfrm>
          <a:prstGeom prst="rect">
            <a:avLst/>
          </a:prstGeom>
          <a:ln w="0">
            <a:noFill/>
          </a:ln>
        </p:spPr>
      </p:pic>
      <p:sp>
        <p:nvSpPr>
          <p:cNvPr id="102" name="Punthaak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unthaak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DC8E-96FD-47DE-A999-4DE7D8EDD010}"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echthoekige driehoek 13"/>
          <p:cNvGrpSpPr/>
          <p:nvPr/>
        </p:nvGrpSpPr>
        <p:grpSpPr>
          <a:xfrm>
            <a:off x="-6480" y="5791320"/>
            <a:ext cx="3402000" cy="1079280"/>
            <a:chOff x="-6480" y="5791320"/>
            <a:chExt cx="3402000" cy="1079280"/>
          </a:xfrm>
        </p:grpSpPr>
        <p:pic>
          <p:nvPicPr>
            <p:cNvPr id="148" name="Rechthoekige driehoek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Rechte verbindingslijn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095D7-83FC-49CC-A4B1-7398461893BC}"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20A3-9FE3-478D-9DAC-265C2FF69F76}"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echthoekige driehoek 13"/>
          <p:cNvGrpSpPr/>
          <p:nvPr/>
        </p:nvGrpSpPr>
        <p:grpSpPr>
          <a:xfrm>
            <a:off x="-6480" y="5791320"/>
            <a:ext cx="3402000" cy="1079280"/>
            <a:chOff x="-6480" y="5791320"/>
            <a:chExt cx="3402000" cy="1079280"/>
          </a:xfrm>
        </p:grpSpPr>
        <p:pic>
          <p:nvPicPr>
            <p:cNvPr id="236" name="Rechthoekige driehoek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Rechte verbindingslijn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25D8-8E93-4E35-811F-80140477C7E3}"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FC4B-12A1-4CCB-90DE-71DFD8580542}"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Vrije v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Vrije v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echthoekige driehoek 16"/>
          <p:cNvGrpSpPr/>
          <p:nvPr/>
        </p:nvGrpSpPr>
        <p:grpSpPr>
          <a:xfrm>
            <a:off x="-6480" y="5791320"/>
            <a:ext cx="3402000" cy="1079280"/>
            <a:chOff x="-6480" y="5791320"/>
            <a:chExt cx="3402000" cy="1079280"/>
          </a:xfrm>
        </p:grpSpPr>
        <p:pic>
          <p:nvPicPr>
            <p:cNvPr id="324" name="Rechthoekige driehoek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Rechte verbindingslijn 18" descr=""/>
          <p:cNvPicPr/>
          <p:nvPr/>
        </p:nvPicPr>
        <p:blipFill>
          <a:blip r:embed="rId4"/>
          <a:stretch/>
        </p:blipFill>
        <p:spPr>
          <a:xfrm>
            <a:off x="-19080" y="5778360"/>
            <a:ext cx="3414600" cy="1098720"/>
          </a:xfrm>
          <a:prstGeom prst="rect">
            <a:avLst/>
          </a:prstGeom>
          <a:ln w="0">
            <a:noFill/>
          </a:ln>
        </p:spPr>
      </p:pic>
      <p:sp>
        <p:nvSpPr>
          <p:cNvPr id="327" name="Punthaak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unthaak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66D3-6E38-4B1B-8F95-3F35BE3D3502}"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el 1" descr=""/>
          <p:cNvPicPr/>
          <p:nvPr/>
        </p:nvPicPr>
        <p:blipFill>
          <a:blip r:embed="rId1"/>
          <a:stretch/>
        </p:blipFill>
        <p:spPr>
          <a:xfrm>
            <a:off x="689040" y="1755720"/>
            <a:ext cx="7772400" cy="1828800"/>
          </a:xfrm>
          <a:prstGeom prst="rect">
            <a:avLst/>
          </a:prstGeom>
          <a:ln w="0">
            <a:noFill/>
          </a:ln>
        </p:spPr>
      </p:pic>
      <p:sp>
        <p:nvSpPr>
          <p:cNvPr id="371" name="PlaceHolder 1"/>
          <p:cNvSpPr>
            <a:spLocks noGrp="1"/>
          </p:cNvSpPr>
          <p:nvPr>
            <p:ph type="subTitle"/>
          </p:nvPr>
        </p:nvSpPr>
        <p:spPr>
          <a:xfrm>
            <a:off x="755640" y="1125360"/>
            <a:ext cx="7772400" cy="368640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ECONOMIE</a:t>
            </a:r>
            <a:endParaRPr b="0" lang="en-US" sz="4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Paragraaf 1.7</a:t>
            </a:r>
            <a:endParaRPr b="0" lang="en-US" sz="36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Zomerkoninkjes</a:t>
            </a:r>
            <a:endParaRPr b="0" lang="en-US" sz="3600" spc="-1" strike="noStrike">
              <a:solidFill>
                <a:srgbClr val="000000"/>
              </a:solidFill>
              <a:latin typeface="Lucida Sans Unicode"/>
            </a:endParaRPr>
          </a:p>
        </p:txBody>
      </p:sp>
      <p:pic>
        <p:nvPicPr>
          <p:cNvPr id="372" name="Picture 8" descr="https://encrypted-tbn2.gstatic.com/images?q=tbn:ANd9GcQywFEmLI54InjjGeBmoMYhLLMR9yarLN62OpysM4XyqVmrWprxuA"/>
          <p:cNvPicPr/>
          <p:nvPr/>
        </p:nvPicPr>
        <p:blipFill>
          <a:blip r:embed="rId2"/>
          <a:stretch/>
        </p:blipFill>
        <p:spPr>
          <a:xfrm>
            <a:off x="0" y="0"/>
            <a:ext cx="3135240" cy="23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5280" y="980640"/>
            <a:ext cx="8229600" cy="473868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 prijs van een product wordt bepaald door </a:t>
            </a:r>
            <a:r>
              <a:rPr b="1" lang="en-US" sz="2700" spc="-1" strike="noStrike">
                <a:solidFill>
                  <a:srgbClr val="000000"/>
                </a:solidFill>
                <a:latin typeface="Lucida Sans Unicode"/>
              </a:rPr>
              <a:t>de vraag </a:t>
            </a:r>
            <a:r>
              <a:rPr b="0" lang="en-US" sz="2700" spc="-1" strike="noStrike">
                <a:solidFill>
                  <a:srgbClr val="000000"/>
                </a:solidFill>
                <a:latin typeface="Lucida Sans Unicode"/>
              </a:rPr>
              <a:t>naar en </a:t>
            </a:r>
            <a:r>
              <a:rPr b="1" lang="en-US" sz="2700" spc="-1" strike="noStrike">
                <a:solidFill>
                  <a:srgbClr val="000000"/>
                </a:solidFill>
                <a:latin typeface="Lucida Sans Unicode"/>
              </a:rPr>
              <a:t>het aanbod </a:t>
            </a:r>
            <a:r>
              <a:rPr b="0" lang="en-US" sz="2700" spc="-1" strike="noStrike">
                <a:solidFill>
                  <a:srgbClr val="000000"/>
                </a:solidFill>
                <a:latin typeface="Lucida Sans Unicode"/>
              </a:rPr>
              <a:t>van het product, maar ook door je eigen smaak, reclame, mode en inkomen.</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raag = de hoeveelheid van een product die kopers (consumenten of bedrijven) willen kopen bij verschillende prijzen.</a:t>
            </a:r>
            <a:endParaRPr b="0" lang="en-US" sz="27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anbod = de hoeveelheid van een product die verkopers willen verkopen bij verschillende prijzen.</a:t>
            </a:r>
            <a:endParaRPr b="0" lang="en-US" sz="2700" spc="-1" strike="noStrike">
              <a:solidFill>
                <a:srgbClr val="000000"/>
              </a:solidFill>
              <a:latin typeface="Lucida Sans Unicode"/>
            </a:endParaRPr>
          </a:p>
        </p:txBody>
      </p:sp>
      <p:pic>
        <p:nvPicPr>
          <p:cNvPr id="374" name="Titel 2" descr=""/>
          <p:cNvPicPr/>
          <p:nvPr/>
        </p:nvPicPr>
        <p:blipFill>
          <a:blip r:embed="rId1"/>
          <a:stretch/>
        </p:blipFill>
        <p:spPr>
          <a:xfrm>
            <a:off x="139680" y="30240"/>
            <a:ext cx="8486640" cy="124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125360"/>
            <a:ext cx="8229600" cy="4881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kleiner</a:t>
            </a:r>
            <a:r>
              <a:rPr b="0" lang="en-US" sz="2700" spc="-1" strike="noStrike">
                <a:solidFill>
                  <a:srgbClr val="000000"/>
                </a:solidFill>
                <a:latin typeface="Lucida Sans Unicode"/>
              </a:rPr>
              <a:t> is dan het aanbod, dan dalen de prijzen vaak. </a:t>
            </a:r>
            <a:r>
              <a:rPr b="0" i="1" lang="en-US" sz="2700" spc="-1" strike="noStrike">
                <a:solidFill>
                  <a:srgbClr val="000000"/>
                </a:solidFill>
                <a:latin typeface="Lucida Sans Unicode"/>
              </a:rPr>
              <a:t>(m.a.w. er zijn weinig kopers die het product willen kopen, maar er is juist veel van dat product te koo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groter </a:t>
            </a:r>
            <a:r>
              <a:rPr b="0" lang="en-US" sz="2700" spc="-1" strike="noStrike">
                <a:solidFill>
                  <a:srgbClr val="000000"/>
                </a:solidFill>
                <a:latin typeface="Lucida Sans Unicode"/>
              </a:rPr>
              <a:t>is dan het aanbod, dan stijgen de prijzen vaak. Kopers willen meer kopen bij een bepaalde prijs, waardoor bedrijven hun producten duurder maken. Ze raken hun producten toch wel kwijt en maken meer win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Titel 2" descr=""/>
          <p:cNvPicPr/>
          <p:nvPr/>
        </p:nvPicPr>
        <p:blipFill>
          <a:blip r:embed="rId1"/>
          <a:stretch/>
        </p:blipFill>
        <p:spPr>
          <a:xfrm>
            <a:off x="201600" y="212760"/>
            <a:ext cx="848520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196640"/>
            <a:ext cx="822960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t betreft niet alleen de Bos en Lommermarkt of de Plein 40-45 markt, maar we bedoelen met de markt iets an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tekenis = het geheel van de vraag naar en aanbod van een product bij elka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oorbeelden: de automarkt, de aardappelmarkt, de huizenmarkt, de arbeidsmarkt enz.</a:t>
            </a:r>
            <a:endParaRPr b="0" lang="en-US" sz="2700" spc="-1" strike="noStrike">
              <a:solidFill>
                <a:srgbClr val="000000"/>
              </a:solidFill>
              <a:latin typeface="Lucida Sans Unicode"/>
            </a:endParaRPr>
          </a:p>
        </p:txBody>
      </p:sp>
      <p:pic>
        <p:nvPicPr>
          <p:cNvPr id="378" name="Titel 2" descr=""/>
          <p:cNvPicPr/>
          <p:nvPr/>
        </p:nvPicPr>
        <p:blipFill>
          <a:blip r:embed="rId1"/>
          <a:stretch/>
        </p:blipFill>
        <p:spPr>
          <a:xfrm>
            <a:off x="201600" y="249120"/>
            <a:ext cx="848520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1T14:51:49Z</dcterms:created>
  <dc:creator>rachid</dc:creator>
  <dc:description/>
  <dc:language>en-US</dc:language>
  <cp:lastModifiedBy>Rachid Hamdi</cp:lastModifiedBy>
  <dcterms:modified xsi:type="dcterms:W3CDTF">2016-09-27T08:23:49Z</dcterms:modified>
  <cp:revision>30</cp:revision>
  <dc:subject/>
  <dc:title> </dc:title>
</cp:coreProperties>
</file>