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DFA-ADDF-49A6-BAD0-74306ADD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4AF-4F8E-40B0-88E0-97547CAF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4AB-4201-4143-B954-B3B50B14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FE0-68C2-4036-907A-E95D255B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7650-ED48-49F0-BE58-28AFCBB3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4244-FDAE-4CDC-860E-83544DAB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E7C0-2754-47CE-879E-4274AEC5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E8C9-1A2C-44B8-841D-3BEEE4A7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C2F3-42A8-463B-9E28-4FF5832E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9E10-6CCF-4AC1-A31B-452EC2F0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FE58-F3B4-4855-810E-18B5EF2F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2C0-982E-44A5-B73C-D67D3E85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98F4-51F8-48D1-904C-AF440D72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7C63-F7AA-4DB9-A5AF-85746D9F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53AE-5BD5-4D42-A858-C8B38223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ED77-9B1E-4523-B9BD-5552009A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0E2C-45EC-4BBF-9696-FFD8975A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66A0-5177-4A4D-AFD5-33EEB63D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8FE5-0DE3-4DA0-B51C-996AE1A6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9EF9F-25A3-4B16-9F37-363503C8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0531-AF7F-41E0-8E10-17D0FF60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1C7C6-9B36-49A8-885B-6B5591EE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19F-432E-41B4-9DBC-A3E2F959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7BA8-6460-4D23-B6BB-589D6981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5B4AD-AB1A-4CF1-9ABA-B80C1ED7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BDBA-6389-4BC7-BC10-960E3D35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FCDE-EE58-4349-9059-14FCD4A1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E175-4672-445B-8C1C-B5470638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4A5D-F40D-41E4-8569-D6A1676E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CCBE-2B5B-43C3-B0A8-75A45098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555D-D652-446F-994F-35EB53FC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E2E1F-D6C7-40C9-AFD8-3CB6AC48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18CE-E705-48C3-831E-6B7C4BA6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E3D-4C33-4E2C-933F-975238C6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18AE-DA61-4A48-BD14-00842236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BB11-62F5-4D5C-8CEF-42451C71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C57F3-C87E-4C5A-8EAC-A30C1335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B374B-2A82-48C7-8EA3-3E726A87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390CF-9BA8-4E37-B2BE-C889D08D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B26C-1798-47D9-8E5F-4399B71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68B27-576B-464C-BF9A-FF01B540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850C-6C47-479D-9354-2D9A4564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F153-58FF-4114-A17A-30D5A7F4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9A896-6284-40B9-8665-04F4B474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080-85AC-4E38-B4EF-7C8AE095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E1AA5-6E5A-4E90-A05C-2C07335B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C7E56-A69F-46F3-94AC-B57FB3A7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D2819-133A-487F-B685-CA9D3BB0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E4BAE-6490-47AB-836E-60EFDBC4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DDFB5-355B-4850-BB4D-DB812070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DE44D-4FBA-4FD5-AC6D-72823E91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4B19F-E3C1-4480-BA86-F034D81B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1DC6-465E-44D8-89A0-54548E9F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91DA9-7F51-47C0-859F-5F6E6312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F8229-CB30-4421-8449-A6A3C0C9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6D5-2C2D-4F85-8B16-057C149F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9F2D5-69E4-4AEF-A07A-5B11E419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CA9F5-A7B1-4508-ADD0-DBC04C74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C315E-CC7E-44AC-8EA3-9726401C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49D9F-EFFB-4DF4-AA6F-70D317A4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DD908-8B07-4DA4-9448-9E2C7820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AC7E3-1E20-41FC-A234-51C36C24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3F171-CFD5-4FE6-84A3-A49D3197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F3698-BF44-4468-8693-01017210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D28DF-D607-413D-9CD9-52047FB9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2C160-77A0-4998-A219-7DCE05AE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6F9-69D9-423B-8952-1AA3EBB2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B1216-4129-441F-9BC4-1BABA833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ABC3B-DA3B-4AE2-9E4A-C17A0526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9267B-3DC7-43FC-B86A-949BF146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8863C-18D4-4FFD-B2A1-3D320F1E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211B4-E82C-4AD4-BC30-920423DF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CE430-5791-4A75-8A7A-407F0E1B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3B08B-C34D-4CFB-B851-3EBEB2CB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E0143-EE9F-4A87-ACBB-BA05D5A2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2A997-B619-4E18-993E-28E1B22B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8CD57-EB0C-4CE3-888C-A51B4F05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23C-543F-46A8-86F3-DB6D8FE6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FC22-04FD-4245-ACED-D4EAB578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512F8-292B-42A1-9780-7F352C30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2B435-B0B3-4B82-94C4-D88D9E94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7981B-0629-4542-B703-2108F19F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EA7EF-121C-4634-886B-279C2DBD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E8CD4-CE26-4945-AE88-C0C585F7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9F943-F64D-404A-9D66-2E212650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7761F-7EBD-4752-9561-6BD75BDF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B928E-DEFD-4315-BD61-34FC4055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0765D-3078-4589-9A6B-2B9C8D7B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F79-2B5E-4545-BE8B-89493B6C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8B1B2-FBC7-4288-BB10-0ECE26EB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E60BD-ACCE-4B3A-B150-AF4FCFDF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1FD71-FC49-45D4-9033-9A8D1AE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98C35-7040-4050-A4F0-91EB2E2B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5F807-0C05-41A9-A13A-91BFAF83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921EF-C676-4DCF-B86E-A539463D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F7A2B-8087-4553-8259-0E360AB5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9F24-A2DD-42A8-93DC-4BED7E62E84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2213-397D-4A00-8951-F6876B7F3BE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FFDB-529D-4BED-B3C3-FAA30CEA7E5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C90C-37B7-4638-8E6E-F78650FC0EB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8A85-6693-4A1F-A20D-2159B10DD0D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57D3-5A37-491E-8C0A-6AEE329774C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5985-5BA6-4AE1-8ED8-DC552A549AA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A764-4187-4373-B1C3-DEC7843B683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64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is kiez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www.autismeplein.nl/wp-content/uploads/2013/01/keuzes.png"/>
          <p:cNvPicPr/>
          <p:nvPr/>
        </p:nvPicPr>
        <p:blipFill>
          <a:blip r:embed="rId2"/>
          <a:stretch/>
        </p:blipFill>
        <p:spPr>
          <a:xfrm>
            <a:off x="2627280" y="3110040"/>
            <a:ext cx="3673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oeften = alles wat je nodig hebt of graag wilt hebb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asis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xe (overige) 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ttp://www.beleefoostpoort.nl/uploaded_files/inlineitem/Genieten_eten_drinken.png"/>
          <p:cNvPicPr/>
          <p:nvPr/>
        </p:nvPicPr>
        <p:blipFill>
          <a:blip r:embed="rId2"/>
          <a:stretch/>
        </p:blipFill>
        <p:spPr>
          <a:xfrm>
            <a:off x="1403280" y="2637000"/>
            <a:ext cx="1944720" cy="140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http://www.houseofoutdoor.com/wp-content/uploads/2014/07/kleding-2013.jpg"/>
          <p:cNvPicPr/>
          <p:nvPr/>
        </p:nvPicPr>
        <p:blipFill>
          <a:blip r:embed="rId3"/>
          <a:stretch/>
        </p:blipFill>
        <p:spPr>
          <a:xfrm>
            <a:off x="3851280" y="2637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5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Gerelateerde afbeelding"/>
          <p:cNvPicPr/>
          <p:nvPr/>
        </p:nvPicPr>
        <p:blipFill>
          <a:blip r:embed="rId4"/>
          <a:stretch/>
        </p:blipFill>
        <p:spPr>
          <a:xfrm>
            <a:off x="6161040" y="2637000"/>
            <a:ext cx="1971720" cy="147636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9"/>
          <p:cNvSpPr/>
          <p:nvPr/>
        </p:nvSpPr>
        <p:spPr>
          <a:xfrm>
            <a:off x="155520" y="-2239920"/>
            <a:ext cx="69915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1" descr="Gerelateerde afbeelding"/>
          <p:cNvPicPr/>
          <p:nvPr/>
        </p:nvPicPr>
        <p:blipFill>
          <a:blip r:embed="rId5"/>
          <a:stretch/>
        </p:blipFill>
        <p:spPr>
          <a:xfrm>
            <a:off x="1979640" y="4680000"/>
            <a:ext cx="2448000" cy="162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3" descr="http://www.anwb.nl/bestanden/content/gallery/anwb/portal/vakantie/etalagebeelden/reisorganisaties.jpg"/>
          <p:cNvPicPr/>
          <p:nvPr/>
        </p:nvPicPr>
        <p:blipFill>
          <a:blip r:embed="rId6"/>
          <a:stretch/>
        </p:blipFill>
        <p:spPr>
          <a:xfrm>
            <a:off x="5148360" y="4749840"/>
            <a:ext cx="3095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2"/>
          <a:stretch/>
        </p:blipFill>
        <p:spPr>
          <a:xfrm>
            <a:off x="455760" y="324000"/>
            <a:ext cx="8156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oederen zijn producten die tastbaar zijn; je kan ze dus aanr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ensten zijn producten die niet tastbaar zijn; je kan ze dus niet aanraken. De een doet iets voor de and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ttp://www.gortzen.eu/werkenindelogistiek/kiem/handel1e/taxi.jpg"/>
          <p:cNvPicPr/>
          <p:nvPr/>
        </p:nvPicPr>
        <p:blipFill>
          <a:blip r:embed="rId2"/>
          <a:stretch/>
        </p:blipFill>
        <p:spPr>
          <a:xfrm>
            <a:off x="1979640" y="46544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http://www.karizmabyhakan.nl/wp-content/uploads/dames-heren-kapper-hakan.jpg"/>
          <p:cNvPicPr/>
          <p:nvPr/>
        </p:nvPicPr>
        <p:blipFill>
          <a:blip r:embed="rId3"/>
          <a:stretch/>
        </p:blipFill>
        <p:spPr>
          <a:xfrm>
            <a:off x="4211640" y="4654440"/>
            <a:ext cx="2076480" cy="138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https://encrypted-tbn3.gstatic.com/images?q=tbn:ANd9GcS-8Wd4SlTLQsZXZ8Dwu1d-hxOw7BKtqB9Tj3ZSYqViYXBNrIR1NQ"/>
          <p:cNvPicPr/>
          <p:nvPr/>
        </p:nvPicPr>
        <p:blipFill>
          <a:blip r:embed="rId4"/>
          <a:stretch/>
        </p:blipFill>
        <p:spPr>
          <a:xfrm>
            <a:off x="6732720" y="4654440"/>
            <a:ext cx="2016000" cy="13431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ttp://www.centrameubel.nl/media1/store%20eettafel.jpg"/>
          <p:cNvPicPr/>
          <p:nvPr/>
        </p:nvPicPr>
        <p:blipFill>
          <a:blip r:embed="rId5"/>
          <a:stretch/>
        </p:blipFill>
        <p:spPr>
          <a:xfrm>
            <a:off x="6288120" y="2039760"/>
            <a:ext cx="2435040" cy="115272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13"/>
          <p:cNvSpPr/>
          <p:nvPr/>
        </p:nvSpPr>
        <p:spPr>
          <a:xfrm>
            <a:off x="63360" y="-136440"/>
            <a:ext cx="69915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Gerelateerde afbeelding"/>
          <p:cNvPicPr/>
          <p:nvPr/>
        </p:nvPicPr>
        <p:blipFill>
          <a:blip r:embed="rId6"/>
          <a:stretch/>
        </p:blipFill>
        <p:spPr>
          <a:xfrm>
            <a:off x="4373640" y="2023920"/>
            <a:ext cx="175428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geldt het volgen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e rijker de mensen, hoe meer producten zij als noodzakelijk erva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reenert.lu/files/sauna_wohl.jpg"/>
          <p:cNvPicPr/>
          <p:nvPr/>
        </p:nvPicPr>
        <p:blipFill>
          <a:blip r:embed="rId2"/>
          <a:stretch/>
        </p:blipFill>
        <p:spPr>
          <a:xfrm>
            <a:off x="455760" y="2863800"/>
            <a:ext cx="2689200" cy="15130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http://3.bp.blogspot.com/-uxNZMCsCUjI/U9Iz5ve3ojI/AAAAAAAASxg/SQDPwMnxjto/s1600/Samsung-Smart-Tv.jpg"/>
          <p:cNvPicPr/>
          <p:nvPr/>
        </p:nvPicPr>
        <p:blipFill>
          <a:blip r:embed="rId3"/>
          <a:stretch/>
        </p:blipFill>
        <p:spPr>
          <a:xfrm>
            <a:off x="3276720" y="3556080"/>
            <a:ext cx="2606400" cy="175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http://i.ytimg.com/vi/-QwVwFqiRGU/maxresdefault.jpg"/>
          <p:cNvPicPr/>
          <p:nvPr/>
        </p:nvPicPr>
        <p:blipFill>
          <a:blip r:embed="rId4"/>
          <a:stretch/>
        </p:blipFill>
        <p:spPr>
          <a:xfrm>
            <a:off x="6084720" y="5157720"/>
            <a:ext cx="2880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en moeten kiezen uit hun behoeften, omdat er schaarste is aan geld en tij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1 (schaarste aan geld): iemand kan met 50 euro geen nieuwe fiets én telefoon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2 (schaarste aan tijd): iemand kan niet tegelijkertijd slapen en spor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9-11T11:01:20Z</dcterms:modified>
  <cp:revision>14</cp:revision>
  <dc:subject/>
  <dc:title> </dc:title>
</cp:coreProperties>
</file>