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media/image10.png" ContentType="image/png"/>
  <Override PartName="/ppt/media/image1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F99D-6F30-43A2-B544-F48A0408B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CC73-44EA-4DA9-9198-FA928559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DB0E-307A-4B14-85F6-BA3727C9B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F770-0DF2-43EF-897F-43DEA21E5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EEA4-8B80-4693-AFD1-31A244999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68B0-2480-4545-8373-94A81E99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55BD-B53A-46A3-8BD7-4617B045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7095-CF2D-4C5F-B9AB-E1523B1C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43E8-2BF7-416D-8B87-968B15F6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35C47-7E80-44E8-A907-5D25AF26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813B-8006-4212-86CF-A10FDB43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5D0C-21A1-4F53-8F9C-04FE9657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0435-DCA6-413A-B8D3-D3866043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E335C-0F5F-490B-A59E-D73449B1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47A3-C1EA-4C82-ADD6-054C4DAE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CAA1-92EC-4889-822F-4F59737C9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0DD5-7205-49A1-8EAA-0D47108C6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AFED3-4A28-4911-BAC8-638DA3E88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291F0-73CF-4D11-A78E-DBF17377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1D392-0C80-4AA8-84EA-27C4898A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06197-CCE5-4911-AD9F-C83E83B3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7B7C3-B487-4FB7-9874-1A1EC0ED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6654-EA4E-4405-A14C-A713BD7B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76743-F260-4354-8693-8060BCCE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6E605-5270-420E-BD4E-8919EBFD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8AFBC-6789-44DD-9E7C-C1288AF3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84E34-201D-47D8-AEC4-7A3EE529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7B95C-E01D-45F8-A79B-3DC25FDA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26500-2C5B-4D43-987E-4F47AC73E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B9236-72FA-4C63-98DE-CC85F1876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EDA61-DAD8-46DE-918F-15AAD3FA1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56AB4-CCF4-41BB-A2F6-22C17A24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37D7D-0522-4177-BECC-97D3A2A6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B6A8-EC38-48E0-8F6F-9C201B18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32F9A-5F4C-47E0-9E59-2B27B369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15459-F731-4429-83F1-7238857D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B84B2-074F-4ABB-883D-21778916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85EA4-9AB7-4180-B88A-AA0C7F43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3044A-FBD9-42B9-9113-E3D48666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EC515-5AE2-48DD-B77B-F001DDB2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6D79C-A620-4C82-B206-029F3C28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6A445-CC49-4AC7-9E9C-C2609519A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144B5-4DF1-43E8-A8AD-40057BFBF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C0D69-D01C-43E6-A3D4-EB4CE777F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19FB-6EF1-4B92-B5B5-3D91B57D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4B9AA-7056-41A9-B682-7464E5CE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C8821-D96F-4D91-A6EA-99A45E6F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B2A1E-5323-41A1-AF71-37B9C821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A4EB0-CA83-4761-87D7-7BD2C1E8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B721B-BE25-4803-A0B5-C0FE39F7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EFA75-0734-4B2F-82BE-FA542CD4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1F07D-9979-4CA6-BA32-43F97A19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AE9AA-70E5-42B8-AB0E-5B3EC79B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06AEC-C46B-4506-8C82-967E9369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82508-576A-41C2-8CA8-B5FC292E3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E32F-282D-4D4C-AC35-220F62EA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12BEB-08FD-4B07-AAAC-1AF6CF4FE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C2503-04B8-4696-94FD-D80F3E7E0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FCFAE-5EFC-47D2-9CD7-F24B40CB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28712-57AA-4181-879A-C07606FF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31593-1829-4986-B6EE-74E94358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3EADE-8979-4026-8FC0-DC841FCA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1EF42-7779-4397-BF89-22208567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24A11-C2CE-4D1F-A1B9-2A6E2165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294A3-72E7-4A3D-A294-9284DA3B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B8E58-A372-4C40-8EEB-66DA08B6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A3A6-D21A-417D-8F64-F9780DC4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AB184-7D23-44D0-8C0A-8BBB7B5D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81865-EF19-45D3-90F3-2B4583280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D366C-8F7B-4383-9364-8A91D8984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DAD95-A128-4C12-9D21-28C7BC38C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16E28-6A36-4B9C-B27B-5549F8E0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60052-E483-4BA8-B31C-9A20949C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2FAA1-B29A-4793-90B6-103292CD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1D84A-9678-40AD-A14C-06E33E05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23A96-E189-4CE6-8CDC-3B78F944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2C663-2A83-41A2-89A8-1F8E97A4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144B-3D0C-4D08-8BE6-FC6A8B87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119A5-5740-482B-B625-8FCB4625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E29B1-13B8-4724-B9D1-C8E9E41E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8655D-4656-4B33-BC51-FA633EE9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406BC-79D1-4D7A-9CB5-C607E2AA9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FC934-66C6-4D57-9BEB-4A405D988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88BBE-6FD0-4C83-87B2-234044D78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EC36A-8496-46A5-9677-E91FC76A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2EE7A-11CA-445F-84D0-6569E06D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85ABE-BDA7-438C-B003-53D83D25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D9750-1EF4-4239-9BE1-4C4E5F13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6CFE-06B9-42CC-A638-0CE4ABEA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82D90-5D4E-4A03-B658-15478112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7AB23-B873-4D81-B05F-5A269AD7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CB9B1-B98E-4079-A21D-0E58C710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9297F-0177-43D5-8A05-83FEE1DE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22B2C-D7C3-4D7A-823B-4A9255DE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ED6CC-9832-47EA-BC5C-BD85EB5D2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B021F-8DBF-4A73-90F2-5EFF3C11C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C521A-296A-493B-A930-5770C76D444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B091-81E1-406E-948E-27CB316A16D4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3476-86FE-45DD-AAB7-5477EB43981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60AD-9D41-473C-8079-573B3547E22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F7C5-B646-4836-A6FC-6360C61E753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6E9E-E5AE-43DB-B93D-5EA0AF6EE69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3BF0-B411-4493-9D8C-104C3F3068D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D2B5-3C93-484F-B35B-859BB77FC706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1.5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Spijt achteraf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www.bonnenprinten.nl/images/algemene-voorwaarden.jpg"/>
          <p:cNvPicPr/>
          <p:nvPr/>
        </p:nvPicPr>
        <p:blipFill>
          <a:blip r:embed="rId2"/>
          <a:stretch/>
        </p:blipFill>
        <p:spPr>
          <a:xfrm>
            <a:off x="0" y="0"/>
            <a:ext cx="299736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54936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oper en verkoper sluiten een koopovereenkomst af. Dit kan zowel schriftelijk als mondeling. Een koopovereenkomst kan niet zomaar worden opgezeg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oopovereenkomst = overeenstemming over de aankoop van een produc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it de koopovereenkomst vloeien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 rechten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plichte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voort voor zowel de koper als de verkoper (= algemene voorwaard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54936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Rechten van de koper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jv. levering van een deugdelijk produc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ugdelijk product = product dat bij normaal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ebruikt voldoet aan de verwachting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Plichten van de koper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jv. het op tijd betalen van het produc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j een ondeugdelijk product heeft de koper recht op (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wel in deze volgorde!!!)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reparatie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ander exemplaar (= vervanging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geld terug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Picture 4" descr="http://ww2.autoscout24.nl/advies/koopcontract/173967/148486/as24.ratgeber.sell.handling.contract.png"/>
          <p:cNvPicPr/>
          <p:nvPr/>
        </p:nvPicPr>
        <p:blipFill>
          <a:blip r:embed="rId1"/>
          <a:stretch/>
        </p:blipFill>
        <p:spPr>
          <a:xfrm>
            <a:off x="4586400" y="5273640"/>
            <a:ext cx="45720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19664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lportagewe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schermt de consument tegen aankopen aan de deur of tijdens houseparty’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verkoper moet een schriftelijk contract opgeven bij de Kamer van Koophand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denktijd om de koop op te zeggen is 14 dagen, tenzij het bedrag € 50 of minder 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el 2" descr=""/>
          <p:cNvPicPr/>
          <p:nvPr/>
        </p:nvPicPr>
        <p:blipFill>
          <a:blip r:embed="rId1"/>
          <a:stretch/>
        </p:blipFill>
        <p:spPr>
          <a:xfrm>
            <a:off x="201600" y="176040"/>
            <a:ext cx="8485200" cy="11592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http://psfm.nl/wp-content/uploads/2012/08/KPN-g.jpg"/>
          <p:cNvPicPr/>
          <p:nvPr/>
        </p:nvPicPr>
        <p:blipFill>
          <a:blip r:embed="rId2"/>
          <a:stretch/>
        </p:blipFill>
        <p:spPr>
          <a:xfrm>
            <a:off x="6448320" y="0"/>
            <a:ext cx="2695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95280" y="76500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t koop op afstan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ze wet beschermt de consument voor aankopen via internet, telefoon of post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 verkoper moet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vóór de koop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oldoende informatie over zichzelf en het product gev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 verkoper moet het product binnen 30 dagen lever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 koper heeft bedenktijd om de koop op te zeggen: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14 dagen na d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leveri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 va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 goederen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14 dagen na d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bestelling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v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dienste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Picture 4" descr="http://tilburgers.nl/wp-content/uploads/2014/06/jongeren-vaker-slachtoffer-online-winkelfraude-300x168.jpg"/>
          <p:cNvPicPr/>
          <p:nvPr/>
        </p:nvPicPr>
        <p:blipFill>
          <a:blip r:embed="rId1"/>
          <a:stretch/>
        </p:blipFill>
        <p:spPr>
          <a:xfrm>
            <a:off x="6910560" y="17640"/>
            <a:ext cx="2233440" cy="125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539640" y="54936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j een meningsverschil tussen koper en verkoper kan de koper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zaak aan een geschillencommissie voorleg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zaak een rechter voorleg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m hulp en advies vragen aan een consumentenorganisatie (zoals de Consumentenbond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40464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overeenkomst kan door de rechter ongeldig worden als er sprake is va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en minderjarige koper </a:t>
            </a:r>
            <a:r>
              <a:rPr b="0" i="1" lang="en-US" sz="2300" spc="-1" strike="noStrike">
                <a:solidFill>
                  <a:srgbClr val="000000"/>
                </a:solidFill>
                <a:latin typeface="Lucida Sans Unicode"/>
              </a:rPr>
              <a:t>(dit is alleen het geval als de verkoper kan weten dat de ouders het niet eens zijn met de koop!!!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en koper die onder curatele is gesteld </a:t>
            </a:r>
            <a:r>
              <a:rPr b="0" i="1" lang="en-US" sz="2300" spc="-1" strike="noStrike">
                <a:solidFill>
                  <a:srgbClr val="000000"/>
                </a:solidFill>
                <a:latin typeface="Lucida Sans Unicode"/>
              </a:rPr>
              <a:t>(bijv. iemand met een zware verslaving of verstandelijke beperking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edreiging, bedrog </a:t>
            </a:r>
            <a:r>
              <a:rPr b="0" i="1" lang="en-US" sz="2300" spc="-1" strike="noStrike">
                <a:solidFill>
                  <a:srgbClr val="000000"/>
                </a:solidFill>
                <a:latin typeface="Lucida Sans Unicode"/>
              </a:rPr>
              <a:t>(= met kwade opzet iemand oplichten),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waling </a:t>
            </a:r>
            <a:r>
              <a:rPr b="0" i="1" lang="en-US" sz="2300" spc="-1" strike="noStrike">
                <a:solidFill>
                  <a:srgbClr val="000000"/>
                </a:solidFill>
                <a:latin typeface="Lucida Sans Unicode"/>
              </a:rPr>
              <a:t>(= verkeerde voorstelling van iets wat je gekocht hebt)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Picture 4" descr="Afbeeldingsresultaat voor rechter"/>
          <p:cNvPicPr/>
          <p:nvPr/>
        </p:nvPicPr>
        <p:blipFill>
          <a:blip r:embed="rId1"/>
          <a:stretch/>
        </p:blipFill>
        <p:spPr>
          <a:xfrm>
            <a:off x="7218360" y="5611680"/>
            <a:ext cx="187020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09-20T09:32:51Z</dcterms:modified>
  <cp:revision>26</cp:revision>
  <dc:subject/>
  <dc:title> </dc:title>
</cp:coreProperties>
</file>