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png" ContentType="image/png"/>
  <Override PartName="/ppt/media/image18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5652-CB38-4545-99B6-A53CFB703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4541-7A35-4037-BE53-11DDE2D4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C953-FC1F-4D9F-80BC-1E7D44306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5C73-4FE8-4FF7-A1B0-B3AA0914D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5B92-3A9F-483B-9B19-27C8B2DB0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236C-2204-422B-996F-899F7773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FA95-C679-4DCF-A891-63F410F0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1FE9-D5E0-40BF-84C1-3EA5AC59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8712-B17F-47F1-B559-FED03924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D80D-6284-4910-AC1A-E662F85C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8BF2-3939-4FF0-BC85-476D40BF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62DD-B3E3-4B86-9D19-8D3E9211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CC1A-0DDE-4A2B-BE09-2183825C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6592-EF66-4D90-81CA-AB882061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78B9-4A13-4B35-B902-C1599118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6C9A-252E-4200-80E6-F017743B7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05E1-7B3D-43FB-BD0C-6E453DE14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D6F68-86CF-42E7-B47D-9B45988F3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A27A0-B01E-4AF1-BF25-55F5D7AE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69576-73A2-4E90-8601-B3945E78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3A3DE-F9EE-4D6B-BA22-9EA82A30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26954-22AE-4448-9716-766780C3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EA79-9298-444D-B8A5-92848D4F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83CAE-9EBF-416E-9BD3-326873D6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C769E-57D2-42DC-B641-D85769F2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37249-5744-44C3-A98D-D2509CC1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F7F6B-5CB2-4C62-B55E-95A60EC8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838B7-FD7D-4A9A-9662-C4F9157F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059F2-B67F-4D53-A14E-B7F8EDAFD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B7A18-DEC6-49DB-B75E-005288E98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69C70-7AA9-4F5D-84AD-3FA069C8F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B7A8B-FE08-4AD6-B748-51C6D8CE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81A49-6EF8-4124-AA8E-4D51EFC3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C59D-0C96-47DD-B8E2-DC363541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F8B83-368E-40C2-86A5-4BCA5D5D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275CE-209F-4120-BF0C-546E92F7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CFE35-1E98-4DD2-8393-41303969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E6A87-DEE3-4FEA-88A9-A6C56329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5B012-61CC-4A53-B9F1-C5F82321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87CFE-8989-4386-8443-79DD2333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1FC12-54F5-4FA3-A9E0-C8037E42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5C791-DD92-4AC8-B3FD-7D607FD75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87187-B1F2-4CCB-A9B9-ACBFDC0C2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38D06-7978-41F6-B7AE-A5A8A1D70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FE44-00CF-4B13-BF9E-0B46C3B2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9F99A-E46D-4562-9AA8-0C731BD0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34997-2AC4-4B3D-A420-E69C63C7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4E3E3-C1B4-48E4-A068-3C7B9F66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41B82-1EBB-4F02-9CC8-27021823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D394C-B1A5-4EA1-B9A4-031932E4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A176B-6D11-4900-B080-7DACA4FA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139EE-422F-4CF3-92A3-C2D0660E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EF404-EA31-414E-9AE1-7429F82F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8B40D-74F6-4172-BE64-6F419F7C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1D11B-7BFC-418E-9654-F8DDB2C9B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B974-6078-4674-80EC-D6419044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6072D-2B46-4C9D-B726-938E970E0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9C3BC-DFF6-43D9-A1E2-2C1E9CC5F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8B4CD-AB9C-40AF-B7C7-15130348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B0556-A133-4B51-81C5-03F30B5D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65D24-E054-4951-AEEC-A8C969C3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35007-FAE0-43B7-91AB-C4C1E286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A695E-B358-46E6-AD99-424D064A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A85ED-6960-4C43-B7A8-465AD987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943D9-B60E-495E-AC32-38B63195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3C220-7AE9-46AF-9C4C-C350EF0C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7111-6EC9-4F65-9E7A-A130D35C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3603B-C763-4CC0-A9C6-A2FE115B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17AA3-9F70-4DDF-AD46-A5A0BE992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12B96-2E29-4D57-AECE-5B03A2108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9E2AC-E612-4274-B8DB-ED9B59D7E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47781-1C46-4C3F-BBBF-31AA0E04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E85FE-922D-4A7B-9471-32EA606E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9596D-8598-467B-8C5D-308704C2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1C25B-E860-4F64-80B1-028BE25E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6BE2A-BDBD-48F0-9961-EC8DF33F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03101-6BF1-4CA3-AB5B-1AA1EB07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6F77-1CAC-4D71-911E-60883FAF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31129-89AD-47AF-89B4-5D0F3D1D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35B8D-0DBE-486B-A78E-8C40840D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8431F-D5ED-4075-A8CB-2B8A022F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4DD88-B55F-472B-88B9-A7D75F2A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7DE06-BA0B-498C-B9D4-0F85BF344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C1885-8AAF-469D-AEA6-A7D94165D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499C4-1F0F-43AE-8ACE-923CAE32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F52A3-C281-4143-AD1C-0292C12E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85531-9065-40B2-A9DE-FCCB3397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75794-184F-4501-BB57-E8163F8B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0EAD-AC70-499E-9EF6-FC3277F2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841AC-C9FD-44C6-BA0A-BB691FCD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6DD47-0B35-4615-B1F5-C7EFB398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DAD51-A631-4EBB-A091-EF08B279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BF644-E50F-434C-9CF0-E5692E4A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FD3AF-5090-460C-AD3D-7AD989CC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E08D7-E9C6-460E-AA23-38A2125D6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EE0C0-5D0D-4535-A8EB-D8CB8C434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1C53-E840-4503-A0A7-F940E20C2D9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7473-9289-4CEA-86AE-E61FDBED3DF0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F7FF-D54E-4DBB-8921-242C615DF7C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333F-118F-416C-8475-C0D0A1B9C9E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BAD6-F76A-493A-9382-18A9E8619AE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4CFC-95A9-4A89-8CD9-89E08FFF4EE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30DE-AB90-4DE4-A7C8-1E3CD8A8103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6C48-AA51-4582-B3CE-E840FDDBC687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emistvoornmt.nl/a.aspx/1337189400/1" TargetMode="Externa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1.4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Kopen een kuns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www.samuraihorloge.nl/files/3486/editor/images/lewinklewagen.png"/>
          <p:cNvPicPr/>
          <p:nvPr/>
        </p:nvPicPr>
        <p:blipFill>
          <a:blip r:embed="rId2"/>
          <a:stretch/>
        </p:blipFill>
        <p:spPr>
          <a:xfrm>
            <a:off x="0" y="0"/>
            <a:ext cx="220500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ilie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8" name="Picture 6" descr="http://www.seniorennet.be/Images/Magazine/7/original/spaarlamp1.jpg"/>
          <p:cNvPicPr/>
          <p:nvPr/>
        </p:nvPicPr>
        <p:blipFill>
          <a:blip r:embed="rId1"/>
          <a:stretch/>
        </p:blipFill>
        <p:spPr>
          <a:xfrm>
            <a:off x="895320" y="2008080"/>
            <a:ext cx="3384720" cy="25131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8" descr="http://www.wageningenur.nl/upload_mm/6/f/4/b421c075-dd8d-48d3-a079-eaf72f9e7d4d_Bio%2B%20Appelstroop_490x330.jpg"/>
          <p:cNvPicPr/>
          <p:nvPr/>
        </p:nvPicPr>
        <p:blipFill>
          <a:blip r:embed="rId2"/>
          <a:stretch/>
        </p:blipFill>
        <p:spPr>
          <a:xfrm>
            <a:off x="3276720" y="4568760"/>
            <a:ext cx="2849400" cy="19195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0" descr="http://www.want.nl/wp-content/uploads/2015/04/AUTODOCK-WANT.jpg"/>
          <p:cNvPicPr/>
          <p:nvPr/>
        </p:nvPicPr>
        <p:blipFill>
          <a:blip r:embed="rId3"/>
          <a:stretch/>
        </p:blipFill>
        <p:spPr>
          <a:xfrm>
            <a:off x="4307040" y="2008080"/>
            <a:ext cx="431928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e hoger het inkomen, hoe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meer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luxe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producten zijn die een consument ka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p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68360" y="765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uden vergelijkende warenonderzoeken (= tests van verschillende merken en typen van hetzelfde product;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info over prijs en kwalitei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ven voorlicht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arschuwen tegen misleidende recla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lpen bij klacht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ijzen op de risico’s van e-commerce (= de koop en verkoop van producten via het interne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gemistvoornmt.nl/a.aspx/1337189400/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el 2" descr=""/>
          <p:cNvPicPr/>
          <p:nvPr/>
        </p:nvPicPr>
        <p:blipFill>
          <a:blip r:embed="rId2"/>
          <a:stretch/>
        </p:blipFill>
        <p:spPr>
          <a:xfrm>
            <a:off x="237960" y="189000"/>
            <a:ext cx="844884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06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http://images0.tcdn.nl/incoming/article21277273.ece/BINARY/u/consumentenbond3.jpg"/>
          <p:cNvPicPr/>
          <p:nvPr/>
        </p:nvPicPr>
        <p:blipFill>
          <a:blip r:embed="rId3"/>
          <a:stretch/>
        </p:blipFill>
        <p:spPr>
          <a:xfrm>
            <a:off x="395280" y="1341360"/>
            <a:ext cx="3495600" cy="23288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http://www.bandenserviceflakkee.nl/content/news_messages/32/lightbox/Anwb.jpg"/>
          <p:cNvPicPr/>
          <p:nvPr/>
        </p:nvPicPr>
        <p:blipFill>
          <a:blip r:embed="rId4"/>
          <a:stretch/>
        </p:blipFill>
        <p:spPr>
          <a:xfrm>
            <a:off x="611280" y="3987720"/>
            <a:ext cx="2881080" cy="20574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6" descr="logo-old"/>
          <p:cNvPicPr/>
          <p:nvPr/>
        </p:nvPicPr>
        <p:blipFill>
          <a:blip r:embed="rId5"/>
          <a:stretch/>
        </p:blipFill>
        <p:spPr>
          <a:xfrm>
            <a:off x="4572000" y="1427040"/>
            <a:ext cx="3870360" cy="21560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8" descr="https://www.eigenhuis.nl/static/images/content/logo.gif"/>
          <p:cNvPicPr/>
          <p:nvPr/>
        </p:nvPicPr>
        <p:blipFill>
          <a:blip r:embed="rId6"/>
          <a:stretch/>
        </p:blipFill>
        <p:spPr>
          <a:xfrm>
            <a:off x="4716360" y="4149720"/>
            <a:ext cx="395928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40464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 het consumeren kan een consument beïnvloed worden door verschillende zak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de mening van vrienden, kennissen en famili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Picture 3" descr=""/>
          <p:cNvPicPr/>
          <p:nvPr/>
        </p:nvPicPr>
        <p:blipFill>
          <a:blip r:embed="rId1"/>
          <a:stretch/>
        </p:blipFill>
        <p:spPr>
          <a:xfrm>
            <a:off x="2268360" y="2421000"/>
            <a:ext cx="518652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Reclame (veelal merkreclam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7" name="Picture 2" descr="http://oudwww.bonhoeffer.nl/economie/reclame01.JPG"/>
          <p:cNvPicPr/>
          <p:nvPr/>
        </p:nvPicPr>
        <p:blipFill>
          <a:blip r:embed="rId1"/>
          <a:stretch/>
        </p:blipFill>
        <p:spPr>
          <a:xfrm>
            <a:off x="2700360" y="1989000"/>
            <a:ext cx="446400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Kennis van producten en dienst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0" name="Picture 2" descr="http://static.apparata.nl/images/2014/cat-b15q-telefoon.jpg"/>
          <p:cNvPicPr/>
          <p:nvPr/>
        </p:nvPicPr>
        <p:blipFill>
          <a:blip r:embed="rId1"/>
          <a:stretch/>
        </p:blipFill>
        <p:spPr>
          <a:xfrm>
            <a:off x="1547640" y="2492280"/>
            <a:ext cx="604872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eigen smaak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3" name="Picture 2" descr="http://i1195.photobucket.com/albums/aa383/Kaiotje/ASSEM/Smaakbanner.jpg"/>
          <p:cNvPicPr/>
          <p:nvPr/>
        </p:nvPicPr>
        <p:blipFill>
          <a:blip r:embed="rId1"/>
          <a:stretch/>
        </p:blipFill>
        <p:spPr>
          <a:xfrm>
            <a:off x="1258920" y="2421000"/>
            <a:ext cx="699120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leeftij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1619280" y="2421000"/>
            <a:ext cx="587520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amenstelling van het gez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ld (=financiële mogelijkhed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1619280" y="2637000"/>
            <a:ext cx="6070680" cy="35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chnische ontwikkel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646776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ilighei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671832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5-09-01T11:44:13Z</dcterms:modified>
  <cp:revision>24</cp:revision>
  <dc:subject/>
  <dc:title> </dc:title>
</cp:coreProperties>
</file>