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E48-591E-471A-98A0-C0BB00E9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A4B-36BB-483B-944A-E18E877E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591-774A-4B16-A51E-08279E62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34C-BE29-41E7-938A-60D395AA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C1FB-89E7-4259-9C66-55DB2F5D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CDC6-8E00-4976-B466-037DA807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A578-F548-449A-A0AD-EBBCF7BA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8793-B7A1-40FE-B6FE-08C5112B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48FA-9FB9-4F62-9E70-4E7843F6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EBFF-C36F-4E21-8B6A-48F8C7DC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5762-6E97-4974-B969-3BB77508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2BA-5E86-46ED-862E-E35E8996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2541-F211-4859-ADAC-4C6500A8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7F3F-02FA-4F45-8727-5D05782B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5FFA-4F4E-4DD3-B7AD-A4BF146A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D401-36A8-48F2-AECF-C6648963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1A48-6101-4B05-A480-BC181B9A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187D4-2C42-4A9D-A24D-CF7AEDE2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E977-CBFC-486E-BD40-CB377B09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4494-6124-47BD-B019-EA9CCD6C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41E8-DFC4-4CF3-9C49-D0E915E1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023CD-C655-47DA-A116-EAE0C004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796-C0F8-4B47-AC9B-5B7BCD16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3C473-C7D7-4D9E-9016-996BD951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C9B9-B692-4CB0-9145-7B0EF392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31399-E02D-4B63-BF71-C6CEF3AA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D913-47A9-43A0-8125-8E65FA5F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A89A1-8255-4432-B385-A0EA7312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0B7B8-FB9E-4DB2-B67D-DA4E7D18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3BA2-AF6D-421F-AF8A-99AC7A6F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716E3-8D48-4488-8733-8D80A168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15E0-E169-44AD-A1DA-D1546D03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C989-14E1-48C8-A8D7-6C816A1D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144-5587-4F19-BB74-1D29B6B3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3090-E7DE-4617-BE48-01E3F941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2C9AC-9138-4466-8CD1-4320A2CD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6673-BEA2-4736-AB2B-E8876385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FCDA-A8AE-4999-AF65-06B5B3AC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6DFB5-FEC2-4CD8-A889-EB79493E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4253-C831-4332-9984-B98F4481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17C49-8E7F-46FC-A57E-B3FDFBE5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B3461-2111-48FF-94BE-743D3D4E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252B4-720B-4352-9A33-42DEA9B3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41E91-FABE-4A07-8109-1AA0A8EC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3D7-A865-44C9-9F10-BCCC04F8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74D0B-84C5-4E6A-A84C-8C6FAEE1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C4AEB-272F-4DFD-8F89-28A9A188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A65FC-E975-48E0-8BB3-D287D72E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5E577-DDC1-4762-95F3-2D45388D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95EC3-F0C0-4A82-9CE1-E60EFE01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081A0-133C-4BED-994C-CE7D9F80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CA63E-7CE4-4C1B-AE8E-0AB4D338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16902-66DB-4952-A927-83007BD3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22683-0EDA-45FE-B8CF-4B80200C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64B82-3C56-4CF0-BF76-639FA817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144-EC23-4ED6-858E-58DCD0FC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4641F-1C2F-4223-B5CB-74E0D0DE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2969A-B096-43B6-B9B1-BAB0233A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C7598-94A9-4D2A-8AE2-9521082C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31664-F970-4CCD-8A82-04592B49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A2D88-6AB0-48DE-AA03-58EF3D39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F2BE1-C017-4D92-8E2B-861B32E5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486BB-DA3D-493A-A591-5B0ECE15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36395-E564-4A73-8451-DA84900A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89F10-1D3A-4B8D-A54E-7625E9EC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EE3D0-72AA-466C-AB6E-97A9D067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A2E-01FB-4DC1-ABBE-E9C3F41B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7B7B6-67E4-4F83-B97E-10AEC526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6BA22-4471-45BB-9F73-D0A15FFF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1BAB8-7122-4BBC-B1EF-4C373084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79D8F-3587-4273-9383-B416472E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E6215-6449-4726-AC7F-0349E7D5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82A12-BF8B-4A1A-9259-774663E0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CD3B4-EE1A-4925-9808-4B043F4A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FF052-0AC0-4DF0-9F6D-9BADD16E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E2BD0-2448-405F-966C-B2D83571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AE21D-9F0C-4C6B-9765-1143B022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F5C-8757-4100-88B8-2EF70769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36A61-A4F6-4EBF-BE0F-11FE5AB0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26A67-7C2C-4A51-A8EB-06A66D82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DE03A-0E63-4F8A-9946-A30A6B82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B5F0-F421-4CCE-9CB3-759CA9E1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549A5-F323-4534-91E8-D24BDBEF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E6055-9FCE-4A24-BF57-EF281F22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C5792-E4A5-4C23-9259-9B112E67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6B647-9014-4B72-ABAE-31A651E6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BE51F-1DFE-4044-8744-71CAC1CB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E4CC2-9B76-44B6-AAE8-86F105DB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99B-7F70-4CAC-9635-C9FF6372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E8607-2495-43CA-8171-5A490D7F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10828-0EA3-41A2-80EB-C2663064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8C6B1-0AC1-45A4-AE2A-3E854406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04CD5-97A9-4942-AA3B-F374DAFE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15D93-34A5-44FD-810B-5452B79A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D1BDC-FBE6-4BF8-880F-00DB9F50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9F1D4-FE85-44B4-82D4-57FD6BAB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1FD1-0664-4340-9593-C195DCF5665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28C0-672E-47F9-BBAA-9A3BF9BFB5F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268D-4246-492D-911B-1CEFBB70040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4043-68D5-4543-9907-54479FCEB31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E1DB-89F1-4A63-A308-8E3D291647B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7207-73F4-41A6-964C-526309244B9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FA04-76F4-4F6D-A058-661EA7F88E9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0924-D77D-4CCC-8376-2CDB8924F7D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Consumeren met en zonder gel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api.ning.com/files/ZHWSihFB0iaaEh*TmU-m-bqiVlpVvERMW4*gwP4iL4XU0Is-qNuDMNMJGfdW0aNpE-Sd1qkvdvWaYcnV1ahRqAO0HfSP4oAw/IMG_0235.jpg"/>
          <p:cNvPicPr/>
          <p:nvPr/>
        </p:nvPicPr>
        <p:blipFill>
          <a:blip r:embed="rId2"/>
          <a:stretch/>
        </p:blipFill>
        <p:spPr>
          <a:xfrm>
            <a:off x="4932360" y="3149640"/>
            <a:ext cx="2497320" cy="1874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http://www.ed.nl/polopoly_fs/1.2152199.1350572418%21/image/image.jpg_gen/derivatives/landscape_800_600/image-2152199.jpg"/>
          <p:cNvPicPr/>
          <p:nvPr/>
        </p:nvPicPr>
        <p:blipFill>
          <a:blip r:embed="rId3"/>
          <a:stretch/>
        </p:blipFill>
        <p:spPr>
          <a:xfrm>
            <a:off x="1908000" y="3149640"/>
            <a:ext cx="2617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behoeften bevredig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je behoeften voorzi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iets te kopen bij een bedrijf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zelfvoorziening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zelf (</a:t>
            </a:r>
            <a:r>
              <a:rPr b="0" lang="en-US" sz="3500" spc="-1" strike="noStrike" u="sng">
                <a:solidFill>
                  <a:srgbClr val="105766"/>
                </a:solidFill>
                <a:uFillTx/>
                <a:latin typeface="Lucida Sans Unicode"/>
              </a:rPr>
              <a:t>dus gratis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) een gerecht bereide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de natuur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genieten van de zo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gebruik te maken van collectieve voorzieningen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fietsen op een fietspad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213.206.66.232/gfx/page/visual/86ht0622.jpg"/>
          <p:cNvPicPr/>
          <p:nvPr/>
        </p:nvPicPr>
        <p:blipFill>
          <a:blip r:embed="rId2"/>
          <a:stretch/>
        </p:blipFill>
        <p:spPr>
          <a:xfrm>
            <a:off x="7566120" y="4508640"/>
            <a:ext cx="1577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collectieve voorziening is een voorziening die geheel of grotendeels is betaald van belasting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het gebruik ervan vraagt de overhe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oms een eigen bijdra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Denk bijvoorbeel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 openbaar vervoer en onderw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Thomson Memorial Park.JPG"/>
          <p:cNvPicPr/>
          <p:nvPr/>
        </p:nvPicPr>
        <p:blipFill>
          <a:blip r:embed="rId1"/>
          <a:stretch/>
        </p:blipFill>
        <p:spPr>
          <a:xfrm>
            <a:off x="684360" y="2205000"/>
            <a:ext cx="1730160" cy="129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https://upload.wikimedia.org/wikipedia/commons/thumb/b/bb/Straat_in_woonwijk_Delft.jpg/250px-Straat_in_woonwijk_Delft.jpg"/>
          <p:cNvPicPr/>
          <p:nvPr/>
        </p:nvPicPr>
        <p:blipFill>
          <a:blip r:embed="rId2"/>
          <a:stretch/>
        </p:blipFill>
        <p:spPr>
          <a:xfrm>
            <a:off x="2446200" y="2235240"/>
            <a:ext cx="1730520" cy="1299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3" descr="http://www.hilversumbeterbereikbaar.nl/files/Impressie%20Fietspad%20Langs%20de%20Lijn%20640px.jpg"/>
          <p:cNvPicPr/>
          <p:nvPr/>
        </p:nvPicPr>
        <p:blipFill>
          <a:blip r:embed="rId3"/>
          <a:stretch/>
        </p:blipFill>
        <p:spPr>
          <a:xfrm>
            <a:off x="4184640" y="2235240"/>
            <a:ext cx="1749600" cy="1312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https://upload.wikimedia.org/wikipedia/commons/1/1a/Logo_Portaal_Openbaar_Vervoer_2.jpg"/>
          <p:cNvPicPr/>
          <p:nvPr/>
        </p:nvPicPr>
        <p:blipFill>
          <a:blip r:embed="rId4"/>
          <a:stretch/>
        </p:blipFill>
        <p:spPr>
          <a:xfrm>
            <a:off x="2405160" y="3535200"/>
            <a:ext cx="3529080" cy="1130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7" descr="http://www.leusden.nl/624/onderwijsinspectie/files/onderwijs.jpg"/>
          <p:cNvPicPr/>
          <p:nvPr/>
        </p:nvPicPr>
        <p:blipFill>
          <a:blip r:embed="rId5"/>
          <a:stretch/>
        </p:blipFill>
        <p:spPr>
          <a:xfrm>
            <a:off x="5929200" y="2195640"/>
            <a:ext cx="20844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rmule i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(nieuw – oud) : oud x 100 = ……%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1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0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2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5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€ 35.000 - € 30.000) : € 30.000 x 100 = 16,67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78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8-27T07:10:59Z</dcterms:modified>
  <cp:revision>11</cp:revision>
  <dc:subject/>
  <dc:title> </dc:title>
</cp:coreProperties>
</file>