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jpeg" ContentType="image/jpeg"/>
  <Override PartName="/ppt/media/image6.jpeg" ContentType="image/jpeg"/>
  <Override PartName="/ppt/media/image7.png" ContentType="image/png"/>
  <Override PartName="/ppt/media/image9.png" ContentType="image/png"/>
  <Override PartName="/ppt/media/image10.png" ContentType="image/png"/>
  <Override PartName="/ppt/media/image11.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BB5EC8-9220-4328-89BC-9309823D12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67D09F-6F94-4E8F-8DC5-0A78781CE8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8E23CC-7130-470C-9583-98E69BF390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3F4F2A-92C0-42BF-8418-4231A93EF8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E0294B-6A77-43E2-ACD0-93EE5F6614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FFD2A1-F1A2-4716-973E-514FB8061D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4E6FB4-A72D-4CB2-98C6-CF468688E6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4D92A0-9176-4927-9B5A-9D97E58FCA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D04A6D-DF49-4849-8839-BB0AD49220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6BEBC5-3234-4084-8F8F-E057A59D14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7453CE-84B3-4BC1-B78C-CD2BB5CDAE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CC7BD7-43F0-4DA7-8EB4-92F80BDF23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65C634-66C1-4612-98B8-EFF60C5BD3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864ECA-A822-4405-A52D-0812A359EC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C18019-2987-465D-9727-9B2243CF52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949BF4-62F9-4CBC-A23B-440DEA3DEF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B79ABD-06F8-4CB9-B9F5-DBA3046B20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7678465-7753-4FF4-947D-CC371AB744E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CA4F41A-1A51-480A-AC39-CA74B2FBDE8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07532D5-E1A5-4BD4-BDEE-443DA131FA5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83CB3AA-1B61-4204-9674-0D391DDC34F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0A2DA7F-0FFF-4A9E-A534-7A82E334240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A4A91E-7A8C-4E54-A417-DDAFE389C4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F7BF7EC-E1FF-4FA5-B60A-1B9AA548D21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5411E3C-ED94-4267-8971-9E334C4B99E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D4C11F8-3D23-4FC7-AC60-107E8A5D291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560354B-0580-40E9-8CF9-533BF1D41CF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44F4E15-52D1-45B9-B99B-23633C8CE89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EA55D24-2B69-4B1A-A63A-C71F9AC5158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B42CB60-3234-4FAC-A60A-F5E4C444997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0C8AB04-2AF5-470F-BA90-2DADB582BF8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7DDF945-DE67-44AC-AFD3-FA6C2FE5C77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66BE13E-0D7A-4679-9583-EC1EBBE8E7C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49AB32-8EF3-4F21-9903-86195CDF58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DD8572C-7327-42BF-9C22-0D3834D7B73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0A4B4FD-68F9-4791-AA98-631DD57D335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36F98B6-A83C-4AC9-B9ED-243CFA972C0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51BCEFB-8656-4ECC-835F-A0273236600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1726A72-3710-49D1-BDA5-A759BC747C6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AB03FA8-444F-4C2D-A937-ABBA8693D6A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F0F09C1-5612-4606-AA2C-FBA3B0ADD9F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7FE2111-54E0-436B-A544-CCB604D5641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CDBAAF8-E502-4E4F-BFF0-98CDF11C474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B65DDF3-4829-4FB8-A2BC-3FF89574356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82B04C-2BA7-40B0-ACBE-496ABA71CA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BBD2D71-6E0E-4BC8-AF6D-334EDD8CCE9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9E25A72-C909-4373-9E9C-D024EEC28D3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04938E6-BD5F-4EC8-A21A-2E10DDC416B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6F21CD4-D797-4859-9A22-E15DF0D719F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4FB75A3-DD08-44A8-8EEE-05D27BD9DDC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A053D83-3361-4605-BB0E-B30CDEFD2F2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5C6405E-1345-4237-AC2C-DADFAA409D4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5C3FC09-25CE-4AFE-A4FD-517DC326C2C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4071FA7-90CD-455B-BFCD-CD4FEEECB41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6E41641-EAA6-40D4-B279-808EAB926F3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36C74C-6BF7-44CF-865C-015B47D1F7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5FBFA57-435F-4DD8-84C8-D70B7876C1B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91939BF-2255-4E1B-8D82-6DDCCB42D36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07E6FC7-FE78-4B6A-9AA5-AE8735215A0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DBD9ECF-FFB5-4BB2-A2CE-A77240C8D93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60C783C-C768-40C0-B0AF-8FCDFB3231B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42B205F-1EEB-45A4-A1E2-BB18C7CD362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732ACC6-2F4B-487F-8606-1F98E9A3D9D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F808E54-11E6-461C-8586-F4374998B12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65883ED-FFA3-4524-B00E-3932E345BC1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71F2176-2FDB-461D-A698-9B0B27CF00E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325E87-C50C-48D5-9CD7-C42DECEF98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885FEFE-91C6-4E1D-83A5-F1CBF7E6670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9A99511-8EEB-4C8B-8E31-BCA6600C398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C903040-F5A6-47FE-81F6-1210265CD4D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B473B6E-38FF-4507-B46E-393D0D7A243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F862681-BD5D-457E-9049-7A06C37EEAD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9BBAB78-81EE-4564-B96F-EEA2F66D741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0AF8FA0-3786-467D-84FC-E0CF02C1BA6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926D402-D0D7-43DE-81C3-94619FE7888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8A6EC73-2CF4-4E5F-B76A-453F22E0B71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197D356-7AE9-45D1-AA34-3FD11CEE7BA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1D3A32-2A58-48FE-805D-EFF622623A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E98810B-4AA9-4B58-8515-C91E519E98D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0537C85-A789-4E86-9B88-CF7673FC8BE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7E7AFC5-CC8C-421C-BB74-382108417D4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91379BE-62FD-4FEF-BDA1-BEA95CB9CEE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B252680-70F4-484D-8EC3-15C17500EA3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DED4A62-15A8-436E-96BE-B28D055E864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413CBA9-0F59-4290-B239-45671F94B59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2F345E9-814B-44E3-9D5E-C92EB1FDA9B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512AC1B-9B52-4FEF-B8DF-62C5D4CA3A9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23CF4DA-B51C-423B-BA25-C2B7C491632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14B4F2-DCF0-4560-BEFC-E856A55D39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4B6F755-58A6-4C4B-863B-7C41B4CA848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C3829B8-F443-4CCD-B302-93F41A78EF0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E5B1F1A-BBC3-40CC-BE0A-F0D7A120E1E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2DFDBDA-589F-44B6-B778-9C211EB44EE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70017BD-53A6-47EB-95C9-82002EB5CCF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3F82C8F-9E03-4759-9F00-D91AED469BC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3037331-0B6A-4451-AB07-1B107E8278E4}"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Vrije v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Vrije v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 name="Rechthoekige driehoek 13"/>
          <p:cNvGrpSpPr/>
          <p:nvPr/>
        </p:nvGrpSpPr>
        <p:grpSpPr>
          <a:xfrm>
            <a:off x="-6480" y="5791320"/>
            <a:ext cx="3402000" cy="1079280"/>
            <a:chOff x="-6480" y="5791320"/>
            <a:chExt cx="3402000" cy="1079280"/>
          </a:xfrm>
        </p:grpSpPr>
        <p:pic>
          <p:nvPicPr>
            <p:cNvPr id="3" name="Rechthoekige driehoek 13" descr=""/>
            <p:cNvPicPr/>
            <p:nvPr/>
          </p:nvPicPr>
          <p:blipFill>
            <a:blip r:embed="rId2"/>
            <a:stretch/>
          </p:blipFill>
          <p:spPr>
            <a:xfrm>
              <a:off x="-6480" y="5791320"/>
              <a:ext cx="3402000" cy="107928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Rechte verbindingslijn 14" descr=""/>
          <p:cNvPicPr/>
          <p:nvPr/>
        </p:nvPicPr>
        <p:blipFill>
          <a:blip r:embed="rId3"/>
          <a:stretch/>
        </p:blipFill>
        <p:spPr>
          <a:xfrm>
            <a:off x="-19080" y="5778360"/>
            <a:ext cx="3414600" cy="10987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24B08-DE7D-40DB-95FC-97373F3C5205}" type="slidenum">
              <a:rPr b="0" lang="nl-NL"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hthoekige driehoek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Groep 15"/>
          <p:cNvGrpSpPr/>
          <p:nvPr/>
        </p:nvGrpSpPr>
        <p:grpSpPr>
          <a:xfrm>
            <a:off x="-3240" y="4952880"/>
            <a:ext cx="9147240" cy="1911600"/>
            <a:chOff x="-3240" y="4952880"/>
            <a:chExt cx="9147240" cy="1911600"/>
          </a:xfrm>
        </p:grpSpPr>
        <p:sp>
          <p:nvSpPr>
            <p:cNvPr id="49" name="Vrije vorm 16"/>
            <p:cNvSpPr/>
            <p:nvPr/>
          </p:nvSpPr>
          <p:spPr>
            <a:xfrm>
              <a:off x="1694520" y="4952880"/>
              <a:ext cx="7449480" cy="487440"/>
            </a:xfrm>
            <a:custGeom>
              <a:avLst/>
              <a:gdLst>
                <a:gd name="textAreaLeft" fmla="*/ 0 w 7449480"/>
                <a:gd name="textAreaRight" fmla="*/ 7449840 w 7449480"/>
                <a:gd name="textAreaTop" fmla="*/ 0 h 487440"/>
                <a:gd name="textAreaBottom" fmla="*/ 487800 h 48744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Vrije vorm 18"/>
            <p:cNvSpPr/>
            <p:nvPr/>
          </p:nvSpPr>
          <p:spPr>
            <a:xfrm>
              <a:off x="45360" y="5236920"/>
              <a:ext cx="9098640" cy="789120"/>
            </a:xfrm>
            <a:custGeom>
              <a:avLst/>
              <a:gdLst>
                <a:gd name="textAreaLeft" fmla="*/ 0 w 9098640"/>
                <a:gd name="textAreaRight" fmla="*/ 9099000 w 9098640"/>
                <a:gd name="textAreaTop" fmla="*/ 0 h 789120"/>
                <a:gd name="textAreaBottom" fmla="*/ 789480 h 78912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 name="Vrije vorm 19"/>
            <p:cNvGrpSpPr/>
            <p:nvPr/>
          </p:nvGrpSpPr>
          <p:grpSpPr>
            <a:xfrm>
              <a:off x="8640" y="4998600"/>
              <a:ext cx="9135360" cy="1865880"/>
              <a:chOff x="8640" y="4998600"/>
              <a:chExt cx="9135360" cy="1865880"/>
            </a:xfrm>
          </p:grpSpPr>
          <p:pic>
            <p:nvPicPr>
              <p:cNvPr id="52" name="Vrije vorm 19" descr=""/>
              <p:cNvPicPr/>
              <p:nvPr/>
            </p:nvPicPr>
            <p:blipFill>
              <a:blip r:embed="rId2"/>
              <a:stretch/>
            </p:blipFill>
            <p:spPr>
              <a:xfrm>
                <a:off x="8640" y="4998600"/>
                <a:ext cx="9135360" cy="1865880"/>
              </a:xfrm>
              <a:prstGeom prst="rect">
                <a:avLst/>
              </a:prstGeom>
              <a:ln w="0">
                <a:noFill/>
              </a:ln>
            </p:spPr>
          </p:pic>
          <p:sp>
            <p:nvSpPr>
              <p:cNvPr id="53" name=""/>
              <p:cNvSpPr/>
              <p:nvPr/>
            </p:nvSpPr>
            <p:spPr>
              <a:xfrm>
                <a:off x="9000" y="500076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Rechte verbindingslijn 20" descr=""/>
            <p:cNvPicPr/>
            <p:nvPr/>
          </p:nvPicPr>
          <p:blipFill>
            <a:blip r:embed="rId3"/>
            <a:stretch/>
          </p:blipFill>
          <p:spPr>
            <a:xfrm>
              <a:off x="-3240" y="4992480"/>
              <a:ext cx="9147240" cy="80496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C0B7C-C113-49B8-8599-893E0A03B17B}" type="slidenum">
              <a:rPr b="0" lang="nl-NL"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Vrije v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Vrije v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8" name="Rechthoekige driehoek 13"/>
          <p:cNvGrpSpPr/>
          <p:nvPr/>
        </p:nvGrpSpPr>
        <p:grpSpPr>
          <a:xfrm>
            <a:off x="-6480" y="5791320"/>
            <a:ext cx="3402000" cy="1079280"/>
            <a:chOff x="-6480" y="5791320"/>
            <a:chExt cx="3402000" cy="1079280"/>
          </a:xfrm>
        </p:grpSpPr>
        <p:pic>
          <p:nvPicPr>
            <p:cNvPr id="99" name="Rechthoekige driehoek 13" descr=""/>
            <p:cNvPicPr/>
            <p:nvPr/>
          </p:nvPicPr>
          <p:blipFill>
            <a:blip r:embed="rId3"/>
            <a:stretch/>
          </p:blipFill>
          <p:spPr>
            <a:xfrm>
              <a:off x="-6480" y="5791320"/>
              <a:ext cx="3402000" cy="107928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Rechte verbindingslijn 14" descr=""/>
          <p:cNvPicPr/>
          <p:nvPr/>
        </p:nvPicPr>
        <p:blipFill>
          <a:blip r:embed="rId4"/>
          <a:stretch/>
        </p:blipFill>
        <p:spPr>
          <a:xfrm>
            <a:off x="-19080" y="5778360"/>
            <a:ext cx="3414600" cy="1098720"/>
          </a:xfrm>
          <a:prstGeom prst="rect">
            <a:avLst/>
          </a:prstGeom>
          <a:ln w="0">
            <a:noFill/>
          </a:ln>
        </p:spPr>
      </p:pic>
      <p:sp>
        <p:nvSpPr>
          <p:cNvPr id="102" name="Punthaak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Punthaak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B72EB-38F1-4E77-A1B8-4F37D6155000}" type="slidenum">
              <a:rPr b="0" lang="nl-NL"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Vrije v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Vrije v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7" name="Rechthoekige driehoek 13"/>
          <p:cNvGrpSpPr/>
          <p:nvPr/>
        </p:nvGrpSpPr>
        <p:grpSpPr>
          <a:xfrm>
            <a:off x="-6480" y="5791320"/>
            <a:ext cx="3402000" cy="1079280"/>
            <a:chOff x="-6480" y="5791320"/>
            <a:chExt cx="3402000" cy="1079280"/>
          </a:xfrm>
        </p:grpSpPr>
        <p:pic>
          <p:nvPicPr>
            <p:cNvPr id="148" name="Rechthoekige driehoek 13" descr=""/>
            <p:cNvPicPr/>
            <p:nvPr/>
          </p:nvPicPr>
          <p:blipFill>
            <a:blip r:embed="rId3"/>
            <a:stretch/>
          </p:blipFill>
          <p:spPr>
            <a:xfrm>
              <a:off x="-6480" y="5791320"/>
              <a:ext cx="3402000" cy="107928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0" name="Rechte verbindingslijn 14" descr=""/>
          <p:cNvPicPr/>
          <p:nvPr/>
        </p:nvPicPr>
        <p:blipFill>
          <a:blip r:embed="rId4"/>
          <a:stretch/>
        </p:blipFill>
        <p:spPr>
          <a:xfrm>
            <a:off x="-19080" y="5778360"/>
            <a:ext cx="3414600" cy="10987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97C46-7E8B-4C2C-9DD7-99AA8509CD12}" type="slidenum">
              <a:rPr b="0" lang="nl-NL"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06560-93E7-421C-83BA-F339C057EEB3}" type="slidenum">
              <a:rPr b="0" lang="nl-NL"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Vrije v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Vrije v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5" name="Rechthoekige driehoek 13"/>
          <p:cNvGrpSpPr/>
          <p:nvPr/>
        </p:nvGrpSpPr>
        <p:grpSpPr>
          <a:xfrm>
            <a:off x="-6480" y="5791320"/>
            <a:ext cx="3402000" cy="1079280"/>
            <a:chOff x="-6480" y="5791320"/>
            <a:chExt cx="3402000" cy="1079280"/>
          </a:xfrm>
        </p:grpSpPr>
        <p:pic>
          <p:nvPicPr>
            <p:cNvPr id="236" name="Rechthoekige driehoek 13" descr=""/>
            <p:cNvPicPr/>
            <p:nvPr/>
          </p:nvPicPr>
          <p:blipFill>
            <a:blip r:embed="rId3"/>
            <a:stretch/>
          </p:blipFill>
          <p:spPr>
            <a:xfrm>
              <a:off x="-6480" y="5791320"/>
              <a:ext cx="3402000" cy="107928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38" name="Rechte verbindingslijn 14" descr=""/>
          <p:cNvPicPr/>
          <p:nvPr/>
        </p:nvPicPr>
        <p:blipFill>
          <a:blip r:embed="rId4"/>
          <a:stretch/>
        </p:blipFill>
        <p:spPr>
          <a:xfrm>
            <a:off x="-19080" y="5778360"/>
            <a:ext cx="3414600" cy="10987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A6CF0-B297-4ACF-BC49-30E75A340851}" type="slidenum">
              <a:rPr b="0" lang="nl-NL"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D0401-125C-4965-9F3D-A599208C2F41}" type="slidenum">
              <a:rPr b="0" lang="nl-NL"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Vrije vorm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Vrije vorm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3" name="Rechthoekige driehoek 16"/>
          <p:cNvGrpSpPr/>
          <p:nvPr/>
        </p:nvGrpSpPr>
        <p:grpSpPr>
          <a:xfrm>
            <a:off x="-6480" y="5791320"/>
            <a:ext cx="3402000" cy="1079280"/>
            <a:chOff x="-6480" y="5791320"/>
            <a:chExt cx="3402000" cy="1079280"/>
          </a:xfrm>
        </p:grpSpPr>
        <p:pic>
          <p:nvPicPr>
            <p:cNvPr id="324" name="Rechthoekige driehoek 16" descr=""/>
            <p:cNvPicPr/>
            <p:nvPr/>
          </p:nvPicPr>
          <p:blipFill>
            <a:blip r:embed="rId3"/>
            <a:stretch/>
          </p:blipFill>
          <p:spPr>
            <a:xfrm>
              <a:off x="-6480" y="5791320"/>
              <a:ext cx="3402000" cy="107928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26" name="Rechte verbindingslijn 18" descr=""/>
          <p:cNvPicPr/>
          <p:nvPr/>
        </p:nvPicPr>
        <p:blipFill>
          <a:blip r:embed="rId4"/>
          <a:stretch/>
        </p:blipFill>
        <p:spPr>
          <a:xfrm>
            <a:off x="-19080" y="5778360"/>
            <a:ext cx="3414600" cy="1098720"/>
          </a:xfrm>
          <a:prstGeom prst="rect">
            <a:avLst/>
          </a:prstGeom>
          <a:ln w="0">
            <a:noFill/>
          </a:ln>
        </p:spPr>
      </p:pic>
      <p:sp>
        <p:nvSpPr>
          <p:cNvPr id="327" name="Punthaak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Punthaak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17E1E-0B66-4CC4-A890-3CD8F93F35E0}" type="slidenum">
              <a:rPr b="0" lang="nl-NL"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Titel 1" descr=""/>
          <p:cNvPicPr/>
          <p:nvPr/>
        </p:nvPicPr>
        <p:blipFill>
          <a:blip r:embed="rId1"/>
          <a:stretch/>
        </p:blipFill>
        <p:spPr>
          <a:xfrm>
            <a:off x="689040" y="1755720"/>
            <a:ext cx="7772400" cy="1828800"/>
          </a:xfrm>
          <a:prstGeom prst="rect">
            <a:avLst/>
          </a:prstGeom>
          <a:ln w="0">
            <a:noFill/>
          </a:ln>
        </p:spPr>
      </p:pic>
      <p:sp>
        <p:nvSpPr>
          <p:cNvPr id="371" name="PlaceHolder 1"/>
          <p:cNvSpPr>
            <a:spLocks noGrp="1"/>
          </p:cNvSpPr>
          <p:nvPr>
            <p:ph type="subTitle"/>
          </p:nvPr>
        </p:nvSpPr>
        <p:spPr>
          <a:xfrm>
            <a:off x="755640" y="1125360"/>
            <a:ext cx="7772400" cy="3686400"/>
          </a:xfrm>
          <a:prstGeom prst="rect">
            <a:avLst/>
          </a:prstGeom>
          <a:noFill/>
          <a:ln w="0">
            <a:noFill/>
          </a:ln>
        </p:spPr>
        <p:txBody>
          <a:bodyPr lIns="45720" rIns="4572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Lucida Sans Unicode"/>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64646"/>
                </a:solidFill>
                <a:latin typeface="Lucida Sans Unicode"/>
              </a:rPr>
              <a:t>ECONOMIE</a:t>
            </a:r>
            <a:endParaRPr b="0" lang="en-US" sz="4000" spc="-1" strike="noStrike">
              <a:solidFill>
                <a:srgbClr val="000000"/>
              </a:solidFill>
              <a:latin typeface="Lucida Sans Unicode"/>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46"/>
                </a:solidFill>
                <a:latin typeface="Lucida Sans Unicode"/>
              </a:rPr>
              <a:t>Paragraaf 1.7</a:t>
            </a:r>
            <a:endParaRPr b="0" lang="en-US" sz="3600" spc="-1" strike="noStrike">
              <a:solidFill>
                <a:srgbClr val="000000"/>
              </a:solidFill>
              <a:latin typeface="Lucida Sans Unicode"/>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Lucida Sans Unicode"/>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64646"/>
                </a:solidFill>
                <a:latin typeface="Lucida Sans Unicode"/>
              </a:rPr>
              <a:t>Zomerkoninkjes</a:t>
            </a:r>
            <a:endParaRPr b="0" lang="en-US" sz="3600" spc="-1" strike="noStrike">
              <a:solidFill>
                <a:srgbClr val="000000"/>
              </a:solidFill>
              <a:latin typeface="Lucida Sans Unicode"/>
            </a:endParaRPr>
          </a:p>
        </p:txBody>
      </p:sp>
      <p:pic>
        <p:nvPicPr>
          <p:cNvPr id="372" name="Picture 8" descr="https://encrypted-tbn2.gstatic.com/images?q=tbn:ANd9GcQywFEmLI54InjjGeBmoMYhLLMR9yarLN62OpysM4XyqVmrWprxuA"/>
          <p:cNvPicPr/>
          <p:nvPr/>
        </p:nvPicPr>
        <p:blipFill>
          <a:blip r:embed="rId2"/>
          <a:stretch/>
        </p:blipFill>
        <p:spPr>
          <a:xfrm>
            <a:off x="0" y="0"/>
            <a:ext cx="3135240" cy="2349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txBox="1"/>
          <p:nvPr/>
        </p:nvSpPr>
        <p:spPr>
          <a:xfrm>
            <a:off x="395280" y="980640"/>
            <a:ext cx="8229600" cy="4738680"/>
          </a:xfrm>
          <a:prstGeom prst="rect">
            <a:avLst/>
          </a:prstGeom>
          <a:noFill/>
          <a:ln w="0">
            <a:noFill/>
          </a:ln>
        </p:spPr>
        <p:txBody>
          <a:bodyPr anchor="t">
            <a:normAutofit fontScale="92000"/>
          </a:bodyPr>
          <a:p>
            <a:pPr marL="335520" indent="-23508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De prijs van een product wordt bepaald door </a:t>
            </a:r>
            <a:r>
              <a:rPr b="1" lang="en-US" sz="2700" spc="-1" strike="noStrike">
                <a:solidFill>
                  <a:srgbClr val="000000"/>
                </a:solidFill>
                <a:latin typeface="Lucida Sans Unicode"/>
              </a:rPr>
              <a:t>de vraag </a:t>
            </a:r>
            <a:r>
              <a:rPr b="0" lang="en-US" sz="2700" spc="-1" strike="noStrike">
                <a:solidFill>
                  <a:srgbClr val="000000"/>
                </a:solidFill>
                <a:latin typeface="Lucida Sans Unicode"/>
              </a:rPr>
              <a:t>naar en </a:t>
            </a:r>
            <a:r>
              <a:rPr b="1" lang="en-US" sz="2700" spc="-1" strike="noStrike">
                <a:solidFill>
                  <a:srgbClr val="000000"/>
                </a:solidFill>
                <a:latin typeface="Lucida Sans Unicode"/>
              </a:rPr>
              <a:t>het aanbod </a:t>
            </a:r>
            <a:r>
              <a:rPr b="0" lang="en-US" sz="2700" spc="-1" strike="noStrike">
                <a:solidFill>
                  <a:srgbClr val="000000"/>
                </a:solidFill>
                <a:latin typeface="Lucida Sans Unicode"/>
              </a:rPr>
              <a:t>van het product, maar ook door je eigen smaak, reclame, mode en inkomen.</a:t>
            </a:r>
            <a:endParaRPr b="0" lang="en-US" sz="2700" spc="-1" strike="noStrike">
              <a:solidFill>
                <a:srgbClr val="000000"/>
              </a:solidFill>
              <a:latin typeface="Lucida Sans Unicode"/>
            </a:endParaRPr>
          </a:p>
          <a:p>
            <a:pPr marL="335520" indent="-23508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35520" indent="-23508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Vraag = de hoeveelheid van een product die kopers (consumenten of bedrijven) willen kopen bij verschillende prijzen.</a:t>
            </a:r>
            <a:endParaRPr b="0" lang="en-US" sz="2700" spc="-1" strike="noStrike">
              <a:solidFill>
                <a:srgbClr val="000000"/>
              </a:solidFill>
              <a:latin typeface="Lucida Sans Unicode"/>
            </a:endParaRPr>
          </a:p>
          <a:p>
            <a:pPr marL="335520" indent="-235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35520" indent="-23508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anbod = de hoeveelheid van een product die verkopers willen verkopen bij verschillende prijzen.</a:t>
            </a:r>
            <a:endParaRPr b="0" lang="en-US" sz="2700" spc="-1" strike="noStrike">
              <a:solidFill>
                <a:srgbClr val="000000"/>
              </a:solidFill>
              <a:latin typeface="Lucida Sans Unicode"/>
            </a:endParaRPr>
          </a:p>
        </p:txBody>
      </p:sp>
      <p:pic>
        <p:nvPicPr>
          <p:cNvPr id="374" name="Titel 2" descr=""/>
          <p:cNvPicPr/>
          <p:nvPr/>
        </p:nvPicPr>
        <p:blipFill>
          <a:blip r:embed="rId1"/>
          <a:stretch/>
        </p:blipFill>
        <p:spPr>
          <a:xfrm>
            <a:off x="139680" y="30240"/>
            <a:ext cx="8486640" cy="1244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txBox="1"/>
          <p:nvPr/>
        </p:nvSpPr>
        <p:spPr>
          <a:xfrm>
            <a:off x="457200" y="1125360"/>
            <a:ext cx="8229600" cy="488160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ls de vraag </a:t>
            </a:r>
            <a:r>
              <a:rPr b="1" lang="en-US" sz="2700" spc="-1" strike="noStrike">
                <a:solidFill>
                  <a:srgbClr val="000000"/>
                </a:solidFill>
                <a:latin typeface="Lucida Sans Unicode"/>
              </a:rPr>
              <a:t>kleiner</a:t>
            </a:r>
            <a:r>
              <a:rPr b="0" lang="en-US" sz="2700" spc="-1" strike="noStrike">
                <a:solidFill>
                  <a:srgbClr val="000000"/>
                </a:solidFill>
                <a:latin typeface="Lucida Sans Unicode"/>
              </a:rPr>
              <a:t> is dan het aanbod, dan dalen de prijzen vaak. </a:t>
            </a:r>
            <a:r>
              <a:rPr b="0" i="1" lang="en-US" sz="2700" spc="-1" strike="noStrike">
                <a:solidFill>
                  <a:srgbClr val="000000"/>
                </a:solidFill>
                <a:latin typeface="Lucida Sans Unicode"/>
              </a:rPr>
              <a:t>(m.a.w. er zijn weinig kopers die het product willen kopen, maar er is juist veel van dat product te koop).</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ls de vraag </a:t>
            </a:r>
            <a:r>
              <a:rPr b="1" lang="en-US" sz="2700" spc="-1" strike="noStrike">
                <a:solidFill>
                  <a:srgbClr val="000000"/>
                </a:solidFill>
                <a:latin typeface="Lucida Sans Unicode"/>
              </a:rPr>
              <a:t>groter </a:t>
            </a:r>
            <a:r>
              <a:rPr b="0" lang="en-US" sz="2700" spc="-1" strike="noStrike">
                <a:solidFill>
                  <a:srgbClr val="000000"/>
                </a:solidFill>
                <a:latin typeface="Lucida Sans Unicode"/>
              </a:rPr>
              <a:t>is dan het aanbod, dan stijgen de prijzen vaak. Kopers willen meer kopen bij een bepaalde prijs, waardoor bedrijven hun producten duurder maken. Ze raken hun producten toch wel kwijt en maken meer winst.</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76" name="Titel 2" descr=""/>
          <p:cNvPicPr/>
          <p:nvPr/>
        </p:nvPicPr>
        <p:blipFill>
          <a:blip r:embed="rId1"/>
          <a:stretch/>
        </p:blipFill>
        <p:spPr>
          <a:xfrm>
            <a:off x="201600" y="212760"/>
            <a:ext cx="8485200" cy="1158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txBox="1"/>
          <p:nvPr/>
        </p:nvSpPr>
        <p:spPr>
          <a:xfrm>
            <a:off x="457200" y="1196640"/>
            <a:ext cx="8229600" cy="480996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Dit betreft niet alleen de Bos en Lommermarkt of de Plein 40-45 markt, maar we bedoelen met de markt iets ander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Betekenis = het geheel van de vraag naar en aanbod van een product bij elkaar.</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Voorbeelden: de automarkt, de aardappelmarkt, de huizenmarkt, de arbeidsmarkt enz.</a:t>
            </a:r>
            <a:endParaRPr b="0" lang="en-US" sz="2700" spc="-1" strike="noStrike">
              <a:solidFill>
                <a:srgbClr val="000000"/>
              </a:solidFill>
              <a:latin typeface="Lucida Sans Unicode"/>
            </a:endParaRPr>
          </a:p>
        </p:txBody>
      </p:sp>
      <p:pic>
        <p:nvPicPr>
          <p:cNvPr id="378" name="Titel 2" descr=""/>
          <p:cNvPicPr/>
          <p:nvPr/>
        </p:nvPicPr>
        <p:blipFill>
          <a:blip r:embed="rId1"/>
          <a:stretch/>
        </p:blipFill>
        <p:spPr>
          <a:xfrm>
            <a:off x="201600" y="249120"/>
            <a:ext cx="8485200" cy="1158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31T14:51:49Z</dcterms:created>
  <dc:creator>rachid</dc:creator>
  <dc:description/>
  <dc:language>en-US</dc:language>
  <cp:lastModifiedBy>Rachid Hamdi</cp:lastModifiedBy>
  <dcterms:modified xsi:type="dcterms:W3CDTF">2016-09-27T08:23:49Z</dcterms:modified>
  <cp:revision>30</cp:revision>
  <dc:subject/>
  <dc:title> </dc:title>
</cp:coreProperties>
</file>