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media/image9.png" ContentType="image/png"/>
  <Override PartName="/ppt/media/image10.png" ContentType="image/png"/>
  <Override PartName="/ppt/media/image11.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82EE35-89A9-4BD1-A11F-89DF59C8C5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C2BE3A-9468-4DE8-9832-1E3EFAD46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66D731-A8F1-4FE2-B309-70A191A56C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A5B55B-4D1D-48B2-9191-42C3402D03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9D5129-109C-4E5C-B4B1-0CDA061FF7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1EF723-4CE0-4817-9103-9A173A8392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79ECEE-4668-4DF8-8A77-62D2D717CD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95DAAA-80AD-4C04-AA65-425CF5D31B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FAF82F-4A29-4B8B-B512-9ABC74794D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29A9FE-F5C9-4E63-BF31-0243DC4649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F9938E-F653-4E3D-97C6-58F0833191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9086D-6012-4726-9317-F7CA37CE5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B2248-D6F0-4896-A15C-BC3B431339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E98E01-26EF-4DF4-84AF-ED90E1941F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0706C6-D09C-4F7E-A353-C235CB3466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A331EF-5166-449C-AC8C-EDAB599B8B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91EB18-54F1-40DB-9FDA-F3C3415641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CDC69D-DEDE-41F8-AEB1-3307569914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DF88BF-CC92-464D-8E74-9AFA4AD240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775E96-6C9C-4D3E-B8CC-ABB27E6D6E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E5554F-08D2-4502-B7CE-C7CCCFB55A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AE4739-B748-4D2A-BF69-12A0106D99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6E7B1-D16C-4DDC-9B00-43A438409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F18009-2BB8-4523-B87A-6A7E9EC646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C58A2C-466C-4D4F-AFD1-56C642C0DA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DE1856-C5CB-48C1-8E12-8D8628090E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70447D-1B97-44EC-895D-2B91885CA6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6A2293-6D8B-496D-8410-195D4AAD23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82467F-FA67-413C-9253-345B3AF2C2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88D598-C910-44DA-9EBC-C5EA4808B1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81BBBD-1977-41C7-AB8C-AD335E316D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50ADA9-0A8D-4BC2-B548-F4E3C866D3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75E46D-95F3-48BE-865F-D36523C0F3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7095B-B1BF-4BEB-B25B-143F41404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976C5D-24C7-4C6E-9CB8-C1A7426967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7361BC-28C2-4FAF-8A54-C466AA30EA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33901D-3666-484C-A987-2B8BEB405C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F79A49-E20A-4CAB-B82D-408D70C579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4CD2D4-EBFF-4FBB-8204-DBA0E32F50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6C5368-3E8D-425E-8685-367CBB2CF7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501367-6FA9-40AC-A5BD-773F60CD22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95435A-F32E-45B7-A6E0-F116F2D8AE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3A4B9B-149C-45EF-92CD-D66C5B4E91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ADD798D-9764-44A3-B09B-B0DF78E101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BFC95-2E5D-4828-899F-AE8FB2781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4F8761-62B8-4315-9404-A0D588CEDA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8A47B1-3651-4DAB-B673-4BC66B80C0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C2DECA-895E-44CD-8053-8D490A16F6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BEC9A4-8413-46C0-8481-6982DDA963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8FB68D-78B6-4227-956B-FF819F0BAE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D52317-A9E0-4F40-8AE8-B8C85CC8AA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59AC0F-8AE2-4874-BD6F-BF1F47987C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934D22-36A7-4DA8-8666-BF287FB490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7C8774-7503-4229-BF2D-9E45E567F4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16FFE41-E64A-4B10-A5A1-8F1061D96E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280C1-45C9-4D68-8716-C0139CCF3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DB01EF-18AC-4ED8-BCF8-1AECD17EB8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E7486AF-E1B3-4E3C-B648-574546CEEB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B7FED3-055B-44FC-9EC6-97BFA28FE5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EA91AA-3541-4FB2-A32F-273B1078B6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50033A-483A-4C6A-8806-14E4652DDE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E38B7B-95F1-443D-8DED-86AB6F043C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FA36D8-60B5-4E37-B986-A9E053848E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F96876-6744-487A-90D7-0DDB8BFBFC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1DADCD-071E-447F-B06A-92C497DC54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7DFE4B-7919-420B-8783-C724354F1E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5F0F4-F123-40E4-91A9-E18C861CA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6FD0FB-932C-4B49-B7D8-C14FDAD671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DF688E1-A22A-46DF-A86F-2B90D074478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D151A99-1D6C-4D77-966C-96D253A41A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8961B74-34CC-42FC-874D-2B96012851E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83B920-2B50-41CE-AE2F-B66F1FE92A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087B48-CDB9-4113-99DB-35C06D37AD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5F80E3-964F-4E84-880B-553F456486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888CF5-F4B2-4F2F-BCD4-BA7033C496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01B9D6-F83E-437F-BDC5-C938668DE3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BEE169-D42D-41EF-AA67-C7890CCA0B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EF448-AF85-4004-AEF1-AD1D5A8A3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11F629-38C8-4D3C-852D-37D9F1D002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633A61-4662-4F71-889F-D2CBD91594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566808-6334-4131-9960-81BB2D248D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690D9BB-AC2A-4871-A718-AE1C6AAE4D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BB19348-A69D-4F38-A2B0-931B55421D8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AD7362D-FB5D-4E2F-9F00-D69749AF649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9C28DD-041B-4A73-9F50-5B49EEA822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1BDEFE-CB7E-4DDB-860F-EB8BF69DD3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566CB6-6E40-4ADD-BB11-369791366E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018DC6-9133-4D9C-B503-DA2E7CEACE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0D33B-4894-4BD1-9CF6-86232322D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88370C-8FD3-402A-B8E5-23CBA9F193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244C21-B785-4B20-9C8D-233D443565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A2CB14-E33F-4ABE-B7F6-94E613DA05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C08A6E-FAAD-457A-A194-6FEB772033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EA7AD6-20EF-4744-B7DF-A9E8AB4346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60B56A5-EC9F-48E3-925A-F27DE0A4101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7FD2D34-27A6-48CB-AB06-EBA4DC6313E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Vrije v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Vrije v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echthoekige driehoek 13"/>
          <p:cNvGrpSpPr/>
          <p:nvPr/>
        </p:nvGrpSpPr>
        <p:grpSpPr>
          <a:xfrm>
            <a:off x="-6480" y="5791320"/>
            <a:ext cx="3402000" cy="1079280"/>
            <a:chOff x="-6480" y="5791320"/>
            <a:chExt cx="3402000" cy="1079280"/>
          </a:xfrm>
        </p:grpSpPr>
        <p:pic>
          <p:nvPicPr>
            <p:cNvPr id="3" name="Rechthoekige driehoek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Rechte verbindingslijn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6B8F1-BA11-42AC-996F-C8531097E748}" type="slidenum">
              <a:rPr b="0" lang="nl-N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hthoekige driehoek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ep 15"/>
          <p:cNvGrpSpPr/>
          <p:nvPr/>
        </p:nvGrpSpPr>
        <p:grpSpPr>
          <a:xfrm>
            <a:off x="-3240" y="4952880"/>
            <a:ext cx="9147240" cy="1911600"/>
            <a:chOff x="-3240" y="4952880"/>
            <a:chExt cx="9147240" cy="1911600"/>
          </a:xfrm>
        </p:grpSpPr>
        <p:sp>
          <p:nvSpPr>
            <p:cNvPr id="49" name="Vrije vorm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Vrije vorm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Vrije vorm 19"/>
            <p:cNvGrpSpPr/>
            <p:nvPr/>
          </p:nvGrpSpPr>
          <p:grpSpPr>
            <a:xfrm>
              <a:off x="8640" y="4998600"/>
              <a:ext cx="9135360" cy="1865880"/>
              <a:chOff x="8640" y="4998600"/>
              <a:chExt cx="9135360" cy="1865880"/>
            </a:xfrm>
          </p:grpSpPr>
          <p:pic>
            <p:nvPicPr>
              <p:cNvPr id="52" name="Vrije vorm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Rechte verbindingslijn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869AD-DE09-4A78-94D3-CCF01F66F13E}" type="slidenum">
              <a:rPr b="0" lang="nl-NL"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Vrije v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Vrije v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echthoekige driehoek 13"/>
          <p:cNvGrpSpPr/>
          <p:nvPr/>
        </p:nvGrpSpPr>
        <p:grpSpPr>
          <a:xfrm>
            <a:off x="-6480" y="5791320"/>
            <a:ext cx="3402000" cy="1079280"/>
            <a:chOff x="-6480" y="5791320"/>
            <a:chExt cx="3402000" cy="1079280"/>
          </a:xfrm>
        </p:grpSpPr>
        <p:pic>
          <p:nvPicPr>
            <p:cNvPr id="99" name="Rechthoekige driehoek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Rechte verbindingslijn 14" descr=""/>
          <p:cNvPicPr/>
          <p:nvPr/>
        </p:nvPicPr>
        <p:blipFill>
          <a:blip r:embed="rId4"/>
          <a:stretch/>
        </p:blipFill>
        <p:spPr>
          <a:xfrm>
            <a:off x="-19080" y="5778360"/>
            <a:ext cx="3414600" cy="1098720"/>
          </a:xfrm>
          <a:prstGeom prst="rect">
            <a:avLst/>
          </a:prstGeom>
          <a:ln w="0">
            <a:noFill/>
          </a:ln>
        </p:spPr>
      </p:pic>
      <p:sp>
        <p:nvSpPr>
          <p:cNvPr id="102" name="Punthaak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unthaak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DE7CF-1589-4C49-BEAA-FC51628827AF}" type="slidenum">
              <a:rPr b="0" lang="nl-N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Vrije v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Vrije v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echthoekige driehoek 13"/>
          <p:cNvGrpSpPr/>
          <p:nvPr/>
        </p:nvGrpSpPr>
        <p:grpSpPr>
          <a:xfrm>
            <a:off x="-6480" y="5791320"/>
            <a:ext cx="3402000" cy="1079280"/>
            <a:chOff x="-6480" y="5791320"/>
            <a:chExt cx="3402000" cy="1079280"/>
          </a:xfrm>
        </p:grpSpPr>
        <p:pic>
          <p:nvPicPr>
            <p:cNvPr id="148" name="Rechthoekige driehoek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Rechte verbindingslijn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A6F4D-41D4-4351-8F17-5FC723B68262}" type="slidenum">
              <a:rPr b="0" lang="nl-N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637E9-14C6-4BA9-AF2E-B2DC7FCD93ED}" type="slidenum">
              <a:rPr b="0" lang="nl-N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Vrije v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Vrije v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echthoekige driehoek 13"/>
          <p:cNvGrpSpPr/>
          <p:nvPr/>
        </p:nvGrpSpPr>
        <p:grpSpPr>
          <a:xfrm>
            <a:off x="-6480" y="5791320"/>
            <a:ext cx="3402000" cy="1079280"/>
            <a:chOff x="-6480" y="5791320"/>
            <a:chExt cx="3402000" cy="1079280"/>
          </a:xfrm>
        </p:grpSpPr>
        <p:pic>
          <p:nvPicPr>
            <p:cNvPr id="236" name="Rechthoekige driehoek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Rechte verbindingslijn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9F7AF-4B69-4F0F-8BD6-5A534059DA6F}" type="slidenum">
              <a:rPr b="0" lang="nl-N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0DB70-2C4D-4D5D-A974-7BC438FA951C}" type="slidenum">
              <a:rPr b="0" lang="nl-N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Vrije v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Vrije v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echthoekige driehoek 16"/>
          <p:cNvGrpSpPr/>
          <p:nvPr/>
        </p:nvGrpSpPr>
        <p:grpSpPr>
          <a:xfrm>
            <a:off x="-6480" y="5791320"/>
            <a:ext cx="3402000" cy="1079280"/>
            <a:chOff x="-6480" y="5791320"/>
            <a:chExt cx="3402000" cy="1079280"/>
          </a:xfrm>
        </p:grpSpPr>
        <p:pic>
          <p:nvPicPr>
            <p:cNvPr id="324" name="Rechthoekige driehoek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Rechte verbindingslijn 18" descr=""/>
          <p:cNvPicPr/>
          <p:nvPr/>
        </p:nvPicPr>
        <p:blipFill>
          <a:blip r:embed="rId4"/>
          <a:stretch/>
        </p:blipFill>
        <p:spPr>
          <a:xfrm>
            <a:off x="-19080" y="5778360"/>
            <a:ext cx="3414600" cy="1098720"/>
          </a:xfrm>
          <a:prstGeom prst="rect">
            <a:avLst/>
          </a:prstGeom>
          <a:ln w="0">
            <a:noFill/>
          </a:ln>
        </p:spPr>
      </p:pic>
      <p:sp>
        <p:nvSpPr>
          <p:cNvPr id="327" name="Punthaak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Punthaak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DDD94-D84E-411F-98F0-8DAD1282E3F9}" type="slidenum">
              <a:rPr b="0" lang="nl-NL"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el 1" descr=""/>
          <p:cNvPicPr/>
          <p:nvPr/>
        </p:nvPicPr>
        <p:blipFill>
          <a:blip r:embed="rId1"/>
          <a:stretch/>
        </p:blipFill>
        <p:spPr>
          <a:xfrm>
            <a:off x="689040" y="1755720"/>
            <a:ext cx="7772400" cy="1828800"/>
          </a:xfrm>
          <a:prstGeom prst="rect">
            <a:avLst/>
          </a:prstGeom>
          <a:ln w="0">
            <a:noFill/>
          </a:ln>
        </p:spPr>
      </p:pic>
      <p:sp>
        <p:nvSpPr>
          <p:cNvPr id="371" name="PlaceHolder 1"/>
          <p:cNvSpPr>
            <a:spLocks noGrp="1"/>
          </p:cNvSpPr>
          <p:nvPr>
            <p:ph type="subTitle"/>
          </p:nvPr>
        </p:nvSpPr>
        <p:spPr>
          <a:xfrm>
            <a:off x="755640" y="1125360"/>
            <a:ext cx="7772400" cy="3686400"/>
          </a:xfrm>
          <a:prstGeom prst="rect">
            <a:avLst/>
          </a:prstGeom>
          <a:noFill/>
          <a:ln w="0">
            <a:noFill/>
          </a:ln>
        </p:spPr>
        <p:txBody>
          <a:bodyPr lIns="45720" rIns="4572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Lucida Sans Unicode"/>
              </a:rPr>
              <a:t>ECONOMIE</a:t>
            </a:r>
            <a:endParaRPr b="0" lang="en-US" sz="40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Lucida Sans Unicode"/>
              </a:rPr>
              <a:t>Paragraaf 1.7</a:t>
            </a:r>
            <a:endParaRPr b="0" lang="en-US" sz="36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Lucida Sans Unicode"/>
              </a:rPr>
              <a:t>Zomerkoninkjes</a:t>
            </a:r>
            <a:endParaRPr b="0" lang="en-US" sz="3600" spc="-1" strike="noStrike">
              <a:solidFill>
                <a:srgbClr val="000000"/>
              </a:solidFill>
              <a:latin typeface="Lucida Sans Unicode"/>
            </a:endParaRPr>
          </a:p>
        </p:txBody>
      </p:sp>
      <p:pic>
        <p:nvPicPr>
          <p:cNvPr id="372" name="Picture 8" descr="https://encrypted-tbn2.gstatic.com/images?q=tbn:ANd9GcQywFEmLI54InjjGeBmoMYhLLMR9yarLN62OpysM4XyqVmrWprxuA"/>
          <p:cNvPicPr/>
          <p:nvPr/>
        </p:nvPicPr>
        <p:blipFill>
          <a:blip r:embed="rId2"/>
          <a:stretch/>
        </p:blipFill>
        <p:spPr>
          <a:xfrm>
            <a:off x="0" y="0"/>
            <a:ext cx="3135240" cy="234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95280" y="980640"/>
            <a:ext cx="8229600" cy="4738680"/>
          </a:xfrm>
          <a:prstGeom prst="rect">
            <a:avLst/>
          </a:prstGeom>
          <a:noFill/>
          <a:ln w="0">
            <a:noFill/>
          </a:ln>
        </p:spPr>
        <p:txBody>
          <a:bodyPr anchor="t">
            <a:normAutofit fontScale="92000"/>
          </a:bodyPr>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 prijs van een product wordt bepaald door </a:t>
            </a:r>
            <a:r>
              <a:rPr b="1" lang="en-US" sz="2700" spc="-1" strike="noStrike">
                <a:solidFill>
                  <a:srgbClr val="000000"/>
                </a:solidFill>
                <a:latin typeface="Lucida Sans Unicode"/>
              </a:rPr>
              <a:t>de vraag </a:t>
            </a:r>
            <a:r>
              <a:rPr b="0" lang="en-US" sz="2700" spc="-1" strike="noStrike">
                <a:solidFill>
                  <a:srgbClr val="000000"/>
                </a:solidFill>
                <a:latin typeface="Lucida Sans Unicode"/>
              </a:rPr>
              <a:t>naar en </a:t>
            </a:r>
            <a:r>
              <a:rPr b="1" lang="en-US" sz="2700" spc="-1" strike="noStrike">
                <a:solidFill>
                  <a:srgbClr val="000000"/>
                </a:solidFill>
                <a:latin typeface="Lucida Sans Unicode"/>
              </a:rPr>
              <a:t>het aanbod </a:t>
            </a:r>
            <a:r>
              <a:rPr b="0" lang="en-US" sz="2700" spc="-1" strike="noStrike">
                <a:solidFill>
                  <a:srgbClr val="000000"/>
                </a:solidFill>
                <a:latin typeface="Lucida Sans Unicode"/>
              </a:rPr>
              <a:t>van het product, maar ook door je eigen smaak, reclame, mode en inkomen.</a:t>
            </a: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Vraag = de hoeveelheid van een product die kopers (consumenten of bedrijven) willen kopen bij verschillende prijzen.</a:t>
            </a:r>
            <a:endParaRPr b="0" lang="en-US" sz="2700" spc="-1" strike="noStrike">
              <a:solidFill>
                <a:srgbClr val="000000"/>
              </a:solidFill>
              <a:latin typeface="Lucida Sans Unicode"/>
            </a:endParaRPr>
          </a:p>
          <a:p>
            <a:pPr marL="335520" indent="-235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anbod = de hoeveelheid van een product die verkopers willen verkopen bij verschillende prijzen.</a:t>
            </a:r>
            <a:endParaRPr b="0" lang="en-US" sz="2700" spc="-1" strike="noStrike">
              <a:solidFill>
                <a:srgbClr val="000000"/>
              </a:solidFill>
              <a:latin typeface="Lucida Sans Unicode"/>
            </a:endParaRPr>
          </a:p>
        </p:txBody>
      </p:sp>
      <p:pic>
        <p:nvPicPr>
          <p:cNvPr id="374" name="Titel 2" descr=""/>
          <p:cNvPicPr/>
          <p:nvPr/>
        </p:nvPicPr>
        <p:blipFill>
          <a:blip r:embed="rId1"/>
          <a:stretch/>
        </p:blipFill>
        <p:spPr>
          <a:xfrm>
            <a:off x="139680" y="30240"/>
            <a:ext cx="8486640" cy="1244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57200" y="1125360"/>
            <a:ext cx="8229600" cy="4881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ls de vraag </a:t>
            </a:r>
            <a:r>
              <a:rPr b="1" lang="en-US" sz="2700" spc="-1" strike="noStrike">
                <a:solidFill>
                  <a:srgbClr val="000000"/>
                </a:solidFill>
                <a:latin typeface="Lucida Sans Unicode"/>
              </a:rPr>
              <a:t>kleiner</a:t>
            </a:r>
            <a:r>
              <a:rPr b="0" lang="en-US" sz="2700" spc="-1" strike="noStrike">
                <a:solidFill>
                  <a:srgbClr val="000000"/>
                </a:solidFill>
                <a:latin typeface="Lucida Sans Unicode"/>
              </a:rPr>
              <a:t> is dan het aanbod, dan dalen de prijzen vaak. </a:t>
            </a:r>
            <a:r>
              <a:rPr b="0" i="1" lang="en-US" sz="2700" spc="-1" strike="noStrike">
                <a:solidFill>
                  <a:srgbClr val="000000"/>
                </a:solidFill>
                <a:latin typeface="Lucida Sans Unicode"/>
              </a:rPr>
              <a:t>(m.a.w. er zijn weinig kopers die het product willen kopen, maar er is juist veel van dat product te koop).</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ls de vraag </a:t>
            </a:r>
            <a:r>
              <a:rPr b="1" lang="en-US" sz="2700" spc="-1" strike="noStrike">
                <a:solidFill>
                  <a:srgbClr val="000000"/>
                </a:solidFill>
                <a:latin typeface="Lucida Sans Unicode"/>
              </a:rPr>
              <a:t>groter </a:t>
            </a:r>
            <a:r>
              <a:rPr b="0" lang="en-US" sz="2700" spc="-1" strike="noStrike">
                <a:solidFill>
                  <a:srgbClr val="000000"/>
                </a:solidFill>
                <a:latin typeface="Lucida Sans Unicode"/>
              </a:rPr>
              <a:t>is dan het aanbod, dan stijgen de prijzen vaak. Kopers willen meer kopen bij een bepaalde prijs, waardoor bedrijven hun producten duurder maken. Ze raken hun producten toch wel kwijt en maken meer wins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6" name="Titel 2" descr=""/>
          <p:cNvPicPr/>
          <p:nvPr/>
        </p:nvPicPr>
        <p:blipFill>
          <a:blip r:embed="rId1"/>
          <a:stretch/>
        </p:blipFill>
        <p:spPr>
          <a:xfrm>
            <a:off x="201600" y="212760"/>
            <a:ext cx="848520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7200" y="1196640"/>
            <a:ext cx="8229600" cy="4809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it betreft niet alleen de Bos en Lommermarkt of de Plein 40-45 markt, maar we bedoelen met de markt iets and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tekenis = het geheel van de vraag naar en aanbod van een product bij elkaa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Voorbeelden: de automarkt, de aardappelmarkt, de huizenmarkt, de arbeidsmarkt enz.</a:t>
            </a:r>
            <a:endParaRPr b="0" lang="en-US" sz="2700" spc="-1" strike="noStrike">
              <a:solidFill>
                <a:srgbClr val="000000"/>
              </a:solidFill>
              <a:latin typeface="Lucida Sans Unicode"/>
            </a:endParaRPr>
          </a:p>
        </p:txBody>
      </p:sp>
      <p:pic>
        <p:nvPicPr>
          <p:cNvPr id="378" name="Titel 2" descr=""/>
          <p:cNvPicPr/>
          <p:nvPr/>
        </p:nvPicPr>
        <p:blipFill>
          <a:blip r:embed="rId1"/>
          <a:stretch/>
        </p:blipFill>
        <p:spPr>
          <a:xfrm>
            <a:off x="201600" y="249120"/>
            <a:ext cx="848520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31T14:51:49Z</dcterms:created>
  <dc:creator>rachid</dc:creator>
  <dc:description/>
  <dc:language>en-US</dc:language>
  <cp:lastModifiedBy>Rachid Hamdi</cp:lastModifiedBy>
  <dcterms:modified xsi:type="dcterms:W3CDTF">2016-09-27T08:23:49Z</dcterms:modified>
  <cp:revision>30</cp:revision>
  <dc:subject/>
  <dc:title> </dc:title>
</cp:coreProperties>
</file>