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.png" ContentType="image/png"/>
  <Override PartName="/ppt/media/image3.png" ContentType="image/png"/>
  <Override PartName="/ppt/media/image25.jpeg" ContentType="image/jpe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1E84-1D97-462A-9508-48284935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F2CC-5FE4-40DD-A451-74062BEB9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D349-A9A2-41AE-8906-9F95921E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DEDA-A96F-4FE1-AA09-D883C34A1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79C6-D0E7-45F1-845B-F7FC50EA5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F716-2FED-4D6F-A125-9F527A96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1211-65D3-4661-A9BE-38A24A23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ADB7-BD98-475C-AEBA-F7DE1A11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E9F9E-B0F8-4C4D-B736-904637E3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46FF-D037-47A8-B4DA-D161C783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67DA-C90A-4A6F-8FCD-6139A1C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4EF-EEAA-45E0-9039-5FAA8F18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E46DE-26D7-4D65-8ABF-2D39D875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F362-9ADC-41B4-BB19-57792087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580D-8A82-4B03-A7AF-28E41C6E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D1A8-9FA1-43AC-A614-B9D4D5F78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4604-CBDE-40B5-9852-7AEEDD5CC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4D18C-B5D8-4A30-80C1-3839621D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F9DBA-35BB-498D-976F-D318E070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E6E7D-CF89-4F05-97C0-EAC1C872F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DAC77-746F-4E98-A99F-BD7EC095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3B076-48D1-4481-BF90-4C42BCB79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46C-8E56-4840-9D87-3FE36781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179D-FE5E-4CFD-B890-0256DE81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3CFD-ACBB-4542-8E49-B6ABA64C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B1230-C67A-4C0F-B88C-508EC0E9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857EB-7BE3-4125-9586-EE21ADF4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83FDA-BD6B-4004-B0B3-119D44AC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194FC-24F4-4724-8959-E64F6FAF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D8234-AC02-4B71-85A4-45835B29E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DCEE4-0F7E-4B55-A32D-1665D5E4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70C2C-A80A-4252-9D9F-EDEA7490D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91CAB-7E60-4C1E-A00F-DD991BE3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F673-9224-4E3F-8D9B-310B465E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959B0-3866-4A72-B88D-C651CECC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FE5B1-87C5-499C-B6C0-C6BED1FA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D433F-C1B7-4C95-AE4E-CE26CE1E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3F0D0-B54C-4677-9374-39C1BCB4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94107-DB05-47A7-B3BC-964C1707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7851C-FB1B-4741-9538-6D9DF04F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F8C55-C215-43FA-8A50-6FFD229A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561AE-184B-4E8B-9A08-2F95C704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21049-BADF-4B24-9A3A-BFE5BFDF5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9C7B9-0E07-4B48-9CDA-22B0FEB83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336-8D04-4F6B-BF20-E57B4CEA2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75E70-4E0E-4F21-9AEC-A356F92E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DCB91-5338-4551-A4BF-CBC5E00E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BB0B7-AF3B-4CEE-A9F8-66746516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C2F6C-5D47-44DB-BB5D-1BCD25AE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BBC66-DB40-4041-BC25-F95CB6C9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D9D5B-7BCA-4D0C-ACB4-2580CC61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C2ACC-598A-400B-80B1-914ED079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EC904-A041-435B-B396-0C4C9466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A31E6-983C-4E19-82D2-9C59A842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9CEA2-F58C-4FD8-9562-EDE7EC76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C3F-68BE-4F2A-B571-71FEEDC8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D680F-98B1-4619-A035-B0E3F55B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88485-C6B1-4AFE-8193-D1A4C1D6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6662D-85BF-46B9-A270-B0D2EE91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75D71-AD9C-4689-962B-33EDAE15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019CE-755A-4474-A700-BD8E51320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0A4F86-A79D-4F16-87C7-62C5AE02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6A57E-CA59-42E3-8C83-2020F12C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9B7B2-15BD-4606-AA86-C71486E6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6973B-3776-478A-8244-2A1211E5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EB146-E5AD-4856-B5BB-494D04A9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89FD-A42A-4501-8ED2-1DAD95F2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53248-6772-4B5B-829C-260248C6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60572-9224-4C5A-ACDF-DD247BFC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81A02-824B-45BB-80BD-995E0C0E0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95DC1-40ED-4667-9CA9-185529DF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337E5-601C-49B1-9226-BD9FCB1C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C5B1D-AB88-4E49-894D-D8479A11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9EBC5-6D95-4EE4-9BD4-66F0720B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32A8A-FEDF-46DF-94B0-2AC6B260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F5104-E7E3-4A1B-9720-DC93D24F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BAEB8-DEB3-4E42-BE13-314B9C0F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A08-C43E-4C2C-BCFC-81335B75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2FD77-AAC3-4BA0-BB11-36B473CD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F68DC-9D81-480B-B668-AF7274AF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09B5E-556F-4077-8B8C-7F134E9F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769BD-C943-4998-ACA6-29BC7E40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57E76-3F7D-4102-989C-7D89591E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96323-6CDC-42E8-814C-05244CC5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8307D-179F-4EEA-8D80-512188C1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85E36-556F-4445-B501-7A2E5C0C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A1CE2-2449-4332-9473-48C5D629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3FFA9-FDD7-4BB8-ACB3-FBA92BCB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070-04F4-42EC-978F-B3040406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54E58-B46A-40C6-99A3-9F30DCBD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7D50E-B8D4-4180-97A9-504318C5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15F29-F8DD-4C6D-9DEA-9940EF87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0DC78-7BB5-499E-8ACB-D700B411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D2869-159D-4D76-919B-087A8FDAD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DF88A8-D9DF-4798-A14F-2FF390F82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DE48E-2C67-49AC-B382-0B5EE436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BB15-639B-4056-B72D-35E5C45D0AE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8FCD-FBBF-4F2B-AFCD-EF9E12E3473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383EA-58A0-4E6B-9B0D-AD649F1B230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8AD1-4F2D-45E4-A0A0-B1FBFA260AD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7971-CBBD-4DF4-9751-17A4F29CF82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8C49-FAB7-4384-BEF5-F00E37E75095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9D49-5598-4D38-ADD9-328ED426C49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79A5-DA1D-4EE9-BB72-6A5B78FD1A1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9640" y="26028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1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is kiez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5" descr="http://www.autismeplein.nl/wp-content/uploads/2013/01/keuzes.png"/>
          <p:cNvPicPr/>
          <p:nvPr/>
        </p:nvPicPr>
        <p:blipFill>
          <a:blip r:embed="rId2"/>
          <a:stretch/>
        </p:blipFill>
        <p:spPr>
          <a:xfrm>
            <a:off x="2627280" y="3110040"/>
            <a:ext cx="3673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ehoeften = alles wat je nodig hebt of graag wilt hebb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Basis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35120" indent="-343080"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Luxe (overige) behoeft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14624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ttp://www.beleefoostpoort.nl/uploaded_files/inlineitem/Genieten_eten_drinken.png"/>
          <p:cNvPicPr/>
          <p:nvPr/>
        </p:nvPicPr>
        <p:blipFill>
          <a:blip r:embed="rId2"/>
          <a:stretch/>
        </p:blipFill>
        <p:spPr>
          <a:xfrm>
            <a:off x="1403280" y="2637000"/>
            <a:ext cx="1944720" cy="14094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http://www.houseofoutdoor.com/wp-content/uploads/2014/07/kleding-2013.jpg"/>
          <p:cNvPicPr/>
          <p:nvPr/>
        </p:nvPicPr>
        <p:blipFill>
          <a:blip r:embed="rId3"/>
          <a:stretch/>
        </p:blipFill>
        <p:spPr>
          <a:xfrm>
            <a:off x="3851280" y="2637000"/>
            <a:ext cx="1944720" cy="145872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15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17" descr="Gerelateerde afbeelding"/>
          <p:cNvPicPr/>
          <p:nvPr/>
        </p:nvPicPr>
        <p:blipFill>
          <a:blip r:embed="rId4"/>
          <a:stretch/>
        </p:blipFill>
        <p:spPr>
          <a:xfrm>
            <a:off x="6161040" y="2637000"/>
            <a:ext cx="1971720" cy="1476360"/>
          </a:xfrm>
          <a:prstGeom prst="rect">
            <a:avLst/>
          </a:prstGeom>
          <a:ln w="0">
            <a:noFill/>
          </a:ln>
        </p:spPr>
      </p:pic>
      <p:sp>
        <p:nvSpPr>
          <p:cNvPr id="382" name="AutoShape 19"/>
          <p:cNvSpPr/>
          <p:nvPr/>
        </p:nvSpPr>
        <p:spPr>
          <a:xfrm>
            <a:off x="155520" y="-2239920"/>
            <a:ext cx="699156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1" descr="Gerelateerde afbeelding"/>
          <p:cNvPicPr/>
          <p:nvPr/>
        </p:nvPicPr>
        <p:blipFill>
          <a:blip r:embed="rId5"/>
          <a:stretch/>
        </p:blipFill>
        <p:spPr>
          <a:xfrm>
            <a:off x="1979640" y="4680000"/>
            <a:ext cx="2448000" cy="1628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3" descr="http://www.anwb.nl/bestanden/content/gallery/anwb/portal/vakantie/etalagebeelden/reisorganisaties.jpg"/>
          <p:cNvPicPr/>
          <p:nvPr/>
        </p:nvPicPr>
        <p:blipFill>
          <a:blip r:embed="rId6"/>
          <a:stretch/>
        </p:blipFill>
        <p:spPr>
          <a:xfrm>
            <a:off x="5148360" y="4749840"/>
            <a:ext cx="309564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7" name="AutoShape 2"/>
          <p:cNvSpPr/>
          <p:nvPr/>
        </p:nvSpPr>
        <p:spPr>
          <a:xfrm>
            <a:off x="155520" y="-2514600"/>
            <a:ext cx="699156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8"/>
          <p:cNvSpPr/>
          <p:nvPr/>
        </p:nvSpPr>
        <p:spPr>
          <a:xfrm>
            <a:off x="63360" y="-136440"/>
            <a:ext cx="6991560" cy="52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9" descr=""/>
          <p:cNvPicPr/>
          <p:nvPr/>
        </p:nvPicPr>
        <p:blipFill>
          <a:blip r:embed="rId2"/>
          <a:stretch/>
        </p:blipFill>
        <p:spPr>
          <a:xfrm>
            <a:off x="455760" y="324000"/>
            <a:ext cx="81565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Goederen zijn producten die tastbaar zijn; je kan ze dus aanrak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iensten zijn producten die niet tastbaar zijn; je kan ze dus niet aanraken. De een doet iets voor de and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5" descr="http://www.gortzen.eu/werkenindelogistiek/kiem/handel1e/taxi.jpg"/>
          <p:cNvPicPr/>
          <p:nvPr/>
        </p:nvPicPr>
        <p:blipFill>
          <a:blip r:embed="rId2"/>
          <a:stretch/>
        </p:blipFill>
        <p:spPr>
          <a:xfrm>
            <a:off x="1979640" y="465444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http://www.karizmabyhakan.nl/wp-content/uploads/dames-heren-kapper-hakan.jpg"/>
          <p:cNvPicPr/>
          <p:nvPr/>
        </p:nvPicPr>
        <p:blipFill>
          <a:blip r:embed="rId3"/>
          <a:stretch/>
        </p:blipFill>
        <p:spPr>
          <a:xfrm>
            <a:off x="4211640" y="4654440"/>
            <a:ext cx="2076480" cy="1384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https://encrypted-tbn3.gstatic.com/images?q=tbn:ANd9GcS-8Wd4SlTLQsZXZ8Dwu1d-hxOw7BKtqB9Tj3ZSYqViYXBNrIR1NQ"/>
          <p:cNvPicPr/>
          <p:nvPr/>
        </p:nvPicPr>
        <p:blipFill>
          <a:blip r:embed="rId4"/>
          <a:stretch/>
        </p:blipFill>
        <p:spPr>
          <a:xfrm>
            <a:off x="6732720" y="4654440"/>
            <a:ext cx="2016000" cy="13431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1" descr="http://www.centrameubel.nl/media1/store%20eettafel.jpg"/>
          <p:cNvPicPr/>
          <p:nvPr/>
        </p:nvPicPr>
        <p:blipFill>
          <a:blip r:embed="rId5"/>
          <a:stretch/>
        </p:blipFill>
        <p:spPr>
          <a:xfrm>
            <a:off x="6288120" y="2039760"/>
            <a:ext cx="2435040" cy="115272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13"/>
          <p:cNvSpPr/>
          <p:nvPr/>
        </p:nvSpPr>
        <p:spPr>
          <a:xfrm>
            <a:off x="63360" y="-136440"/>
            <a:ext cx="699156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5" descr="Gerelateerde afbeelding"/>
          <p:cNvPicPr/>
          <p:nvPr/>
        </p:nvPicPr>
        <p:blipFill>
          <a:blip r:embed="rId6"/>
          <a:stretch/>
        </p:blipFill>
        <p:spPr>
          <a:xfrm>
            <a:off x="4373640" y="2023920"/>
            <a:ext cx="1754280" cy="11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r geldt het volgen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Hoe rijker de mensen, hoe meer producten zij als noodzakelijk ervaren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920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http://reenert.lu/files/sauna_wohl.jpg"/>
          <p:cNvPicPr/>
          <p:nvPr/>
        </p:nvPicPr>
        <p:blipFill>
          <a:blip r:embed="rId2"/>
          <a:stretch/>
        </p:blipFill>
        <p:spPr>
          <a:xfrm>
            <a:off x="455760" y="2863800"/>
            <a:ext cx="2689200" cy="1513080"/>
          </a:xfrm>
          <a:prstGeom prst="rect">
            <a:avLst/>
          </a:prstGeom>
          <a:ln w="0">
            <a:noFill/>
          </a:ln>
        </p:spPr>
      </p:pic>
      <p:sp>
        <p:nvSpPr>
          <p:cNvPr id="40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8" descr="http://3.bp.blogspot.com/-uxNZMCsCUjI/U9Iz5ve3ojI/AAAAAAAASxg/SQDPwMnxjto/s1600/Samsung-Smart-Tv.jpg"/>
          <p:cNvPicPr/>
          <p:nvPr/>
        </p:nvPicPr>
        <p:blipFill>
          <a:blip r:embed="rId3"/>
          <a:stretch/>
        </p:blipFill>
        <p:spPr>
          <a:xfrm>
            <a:off x="3276720" y="3556080"/>
            <a:ext cx="2606400" cy="17510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12" descr="http://i.ytimg.com/vi/-QwVwFqiRGU/maxresdefault.jpg"/>
          <p:cNvPicPr/>
          <p:nvPr/>
        </p:nvPicPr>
        <p:blipFill>
          <a:blip r:embed="rId4"/>
          <a:stretch/>
        </p:blipFill>
        <p:spPr>
          <a:xfrm>
            <a:off x="6084720" y="5157720"/>
            <a:ext cx="288000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Mensen moeten kiezen uit hun behoeften, omdat er schaarste is aan geld en tij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1 (schaarste aan geld): iemand kan met 50 euro geen nieuwe fiets én telefoon 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oorbeeld 2 (schaarste aan tijd): iemand kan niet tegelijkertijd slapen en sport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7-09-11T11:01:20Z</dcterms:modified>
  <cp:revision>14</cp:revision>
  <dc:subject/>
  <dc:title> </dc:title>
</cp:coreProperties>
</file>