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media/image10.png" ContentType="image/png"/>
  <Override PartName="/ppt/media/image1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45914-7F66-4AE8-8CDB-B9DCDF223E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85C51-131B-4899-90E0-876DBB56D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98330F-2857-424B-9DA6-3BE53B4829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72A7A-235F-4744-928B-C1395F809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DA2D4E-FEC5-4F36-8111-6F2B695FB2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78DF8-0A2B-4FEC-90DE-0C0E3CB85D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A4FD99-1539-43C3-84C6-885E40BBB9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89FAEB-B5EC-45F7-8972-511F1A289F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ABC804-9FC3-45B6-95F7-6DA06F421D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FB60DB-3EEB-4C85-BD3C-F7BD3E950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EBC44-EDF3-4E95-BC0B-5B2719B3C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90513-6C09-4191-B923-0E8D04368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2B46D-CA44-4A04-8A95-D8DD133E1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4BE03-6234-43E8-BD9D-EB3C24E96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217E3C-D8FF-4344-8E36-3FF7A172C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F06525-7B50-450E-964C-0EDA2E3DEE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015BBE-AD64-416D-8E37-1FA15B5F0A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F9D35F-C7A2-43C7-8067-81CB3520E0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D09DB4-5C9A-40F3-97D1-345CB07176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FEC0CF-1CBD-4109-936A-6BD4FF2AA3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08E63C-394E-4D6A-95A9-D2E455BAF5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AA9AD5-5E2C-43A2-8928-8A888A832E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8295F-3294-42C8-93EE-F38E2E71C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042045-55C7-4F0D-A1C6-0B1A769613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68C16C-FBD9-472D-8923-E19ED3C7CF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D5962C-9EAD-4110-95DC-9FBB16CD76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DA288E-F52F-4E3E-A4C7-FFDB29B4D7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792363-5620-4E2D-8746-2C02F56830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FD9824-E2C0-4E0F-9512-F7CA152B3E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7C27A0-C74C-494E-B1C0-159041887C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A69601-16AF-4544-8CB0-A7864F3539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9D9C56-B5AC-40F6-A52A-B89BF2CC0A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13F499-434E-44AD-9ABA-A507BD09D8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B3CF1-221E-4160-8727-52A29D64D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ECABEB-C67A-42EE-B55E-94D55C9D2B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65775B-BB54-4A6E-9997-011DC86737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B9E349-E8B8-402B-9845-9F79F7ED45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B5C299-990D-49CA-9B94-41B155A20C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4BF17D-9549-457B-824E-FE73B7F1C1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36CBCF-3368-47CC-BDC1-6D07E42416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7D4C1C-9B68-4DD7-BB3E-02B7636798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6C20C9-E3C9-4D0D-BC47-BDD4EEAB09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D013AA-1084-45B0-A03F-CEB917531C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D7D4F6-AB0E-463F-BC77-DEF368A77B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213CD-FD21-49B5-AFDB-6735D7740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07FB2B-8682-484A-A757-FEAF4A5F1B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14B9D5-25BB-49FF-829F-50953A4AB6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B15267-5B59-42FC-B707-49042476FE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FF4E70-40C2-4B28-92DD-95B2D2BF25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C5343C-9524-410C-A0B8-1507EBD842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0D77F5-A4CE-45CB-A2A8-AED7CE3F59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2AC547-EDBF-4F3B-86D5-7CBD7CEB6F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AD0F17-4864-4E2A-A6B0-13390F9135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C2F0F9-0AA4-453D-A0B7-3220007394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577F9A-F1BD-4AB7-8C60-8A18519205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8F170-6A7A-4E83-8F05-8EEC1D44E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00C80B-B476-43AC-BE4E-8B9E77A53C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1B1AC7-0ACE-423F-8CDA-8D42B53CD9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5DEA02-AA92-45A4-BF5F-291AAB34F4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B22F2D-664C-4015-ADFD-2D39A47FDB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DBF5C8-F9FD-49A1-97C5-CE18BD3397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BF10D4-7D5B-4556-AF36-0E33B7AC7B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ED0192-0CC9-4924-AC1A-5B17D057E1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CDAE5A-E948-4049-A147-AD2EFC6937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714F2F-9A5B-47B8-8532-B8995335E9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F12BF6-17C1-45F2-A0AC-6594C64D0E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74855-AA6D-4F1E-AF08-3416B5A7C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905B62-272F-4BB7-AB75-527839249C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16A5DB-0494-451C-BDBC-46F31CEAAF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2FCDA3-CA2A-49E9-950C-61F9C7337A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548891-EE3D-42A7-9631-5C64D18436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C713AF-5D30-4106-9FC3-B71F77D353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A1FAB4-BBE1-463F-BEC8-1A79609535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B24E5B-FFBF-40E3-9140-8F49930A8B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A24590-DE69-46C4-B792-0819038A3B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D6575C-B471-4BBA-A0A0-2F4EE1C39A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D47056-ACF7-4C96-B5D1-3F6635C997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DA7FC-785A-45A3-9F88-E6E724BE0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E5EB89-F54F-4A81-8207-2ED42DEEA5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670AA6-DA1A-4FE2-97BC-D850656562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C3DCDA-74F6-4D1A-A21A-1F2B3ED949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C4F326-855C-4405-814B-889F237954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8CA22F-123D-4D33-8EDB-DCDBFDE995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230533-87DB-4F71-9350-1592568388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A3B6CE-51AB-4674-B657-F3AA884E80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385D64-2994-4E0E-88EE-32A89EF172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73CA98-EA93-4385-9FD9-80C7815F79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CEC168-E126-49CE-B882-5B966B9B3A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EA53A-7DC7-4035-A68E-766EE713A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6F3916-576B-4E8C-81A3-F661749B3F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0AFD0D-708A-4D8F-BADB-0C979EA184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710F80-066E-49A9-BBB2-B5C1D2840B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438F59-2A37-4A2D-B91D-E971D32931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755710-769D-4F79-A89D-B38ABDFEC6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4D93F0-BB69-4841-BD29-76022DBDE36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EF2C8C-25F4-4CAD-8189-C1C7A5320AC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Vrije v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Vrije v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echthoekige driehoek 13"/>
          <p:cNvGrpSpPr/>
          <p:nvPr/>
        </p:nvGrpSpPr>
        <p:grpSpPr>
          <a:xfrm>
            <a:off x="-6480" y="5791320"/>
            <a:ext cx="3402000" cy="1079280"/>
            <a:chOff x="-6480" y="5791320"/>
            <a:chExt cx="3402000" cy="1079280"/>
          </a:xfrm>
        </p:grpSpPr>
        <p:pic>
          <p:nvPicPr>
            <p:cNvPr id="3" name="Rechthoekige driehoek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Rechte verbindingslijn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9E73C-EAA2-476B-A7A7-9A0C78595229}"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hthoekige driehoek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ep 15"/>
          <p:cNvGrpSpPr/>
          <p:nvPr/>
        </p:nvGrpSpPr>
        <p:grpSpPr>
          <a:xfrm>
            <a:off x="-3240" y="4952880"/>
            <a:ext cx="9147240" cy="1911600"/>
            <a:chOff x="-3240" y="4952880"/>
            <a:chExt cx="9147240" cy="1911600"/>
          </a:xfrm>
        </p:grpSpPr>
        <p:sp>
          <p:nvSpPr>
            <p:cNvPr id="49" name="Vrije v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Vrije v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Vrije vorm 19"/>
            <p:cNvGrpSpPr/>
            <p:nvPr/>
          </p:nvGrpSpPr>
          <p:grpSpPr>
            <a:xfrm>
              <a:off x="8640" y="4998600"/>
              <a:ext cx="9135360" cy="1865880"/>
              <a:chOff x="8640" y="4998600"/>
              <a:chExt cx="9135360" cy="1865880"/>
            </a:xfrm>
          </p:grpSpPr>
          <p:pic>
            <p:nvPicPr>
              <p:cNvPr id="52" name="Vrije v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Rechte verbindingslijn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B91FC-385C-45B5-B6F7-CC62AD1BEDCE}" type="slidenum">
              <a:rPr b="0" lang="nl-N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Vrije v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Vrije v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echthoekige driehoek 13"/>
          <p:cNvGrpSpPr/>
          <p:nvPr/>
        </p:nvGrpSpPr>
        <p:grpSpPr>
          <a:xfrm>
            <a:off x="-6480" y="5791320"/>
            <a:ext cx="3402000" cy="1079280"/>
            <a:chOff x="-6480" y="5791320"/>
            <a:chExt cx="3402000" cy="1079280"/>
          </a:xfrm>
        </p:grpSpPr>
        <p:pic>
          <p:nvPicPr>
            <p:cNvPr id="99" name="Rechthoekige driehoek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Rechte verbindingslijn 14" descr=""/>
          <p:cNvPicPr/>
          <p:nvPr/>
        </p:nvPicPr>
        <p:blipFill>
          <a:blip r:embed="rId4"/>
          <a:stretch/>
        </p:blipFill>
        <p:spPr>
          <a:xfrm>
            <a:off x="-19080" y="5778360"/>
            <a:ext cx="3414600" cy="1098720"/>
          </a:xfrm>
          <a:prstGeom prst="rect">
            <a:avLst/>
          </a:prstGeom>
          <a:ln w="0">
            <a:noFill/>
          </a:ln>
        </p:spPr>
      </p:pic>
      <p:sp>
        <p:nvSpPr>
          <p:cNvPr id="102" name="Punthaak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unthaak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CAC76-384D-4454-AC78-4B9E197DFB6E}"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Vrije v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Vrije v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echthoekige driehoek 13"/>
          <p:cNvGrpSpPr/>
          <p:nvPr/>
        </p:nvGrpSpPr>
        <p:grpSpPr>
          <a:xfrm>
            <a:off x="-6480" y="5791320"/>
            <a:ext cx="3402000" cy="1079280"/>
            <a:chOff x="-6480" y="5791320"/>
            <a:chExt cx="3402000" cy="1079280"/>
          </a:xfrm>
        </p:grpSpPr>
        <p:pic>
          <p:nvPicPr>
            <p:cNvPr id="148" name="Rechthoekige driehoek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Rechte verbindingslijn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F44C3-98D7-4BEB-AEDA-CF8720E78C1F}"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A8830-7A85-4EEF-AB47-ABD4EFDF0820}"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Vrije v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Vrije v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echthoekige driehoek 13"/>
          <p:cNvGrpSpPr/>
          <p:nvPr/>
        </p:nvGrpSpPr>
        <p:grpSpPr>
          <a:xfrm>
            <a:off x="-6480" y="5791320"/>
            <a:ext cx="3402000" cy="1079280"/>
            <a:chOff x="-6480" y="5791320"/>
            <a:chExt cx="3402000" cy="1079280"/>
          </a:xfrm>
        </p:grpSpPr>
        <p:pic>
          <p:nvPicPr>
            <p:cNvPr id="236" name="Rechthoekige driehoek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Rechte verbindingslijn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84769-0033-49EA-8184-86378AFDCD6E}"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8A4AC-A318-46E4-99E7-C4EDC23AC15A}"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Vrije v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Vrije v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echthoekige driehoek 16"/>
          <p:cNvGrpSpPr/>
          <p:nvPr/>
        </p:nvGrpSpPr>
        <p:grpSpPr>
          <a:xfrm>
            <a:off x="-6480" y="5791320"/>
            <a:ext cx="3402000" cy="1079280"/>
            <a:chOff x="-6480" y="5791320"/>
            <a:chExt cx="3402000" cy="1079280"/>
          </a:xfrm>
        </p:grpSpPr>
        <p:pic>
          <p:nvPicPr>
            <p:cNvPr id="324" name="Rechthoekige driehoek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Rechte verbindingslijn 18" descr=""/>
          <p:cNvPicPr/>
          <p:nvPr/>
        </p:nvPicPr>
        <p:blipFill>
          <a:blip r:embed="rId4"/>
          <a:stretch/>
        </p:blipFill>
        <p:spPr>
          <a:xfrm>
            <a:off x="-19080" y="5778360"/>
            <a:ext cx="3414600" cy="1098720"/>
          </a:xfrm>
          <a:prstGeom prst="rect">
            <a:avLst/>
          </a:prstGeom>
          <a:ln w="0">
            <a:noFill/>
          </a:ln>
        </p:spPr>
      </p:pic>
      <p:sp>
        <p:nvSpPr>
          <p:cNvPr id="327" name="Punthaak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unthaak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03604-C226-4B54-8F22-D13E947559B4}" type="slidenum">
              <a:rPr b="0" lang="nl-N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el 1" descr=""/>
          <p:cNvPicPr/>
          <p:nvPr/>
        </p:nvPicPr>
        <p:blipFill>
          <a:blip r:embed="rId1"/>
          <a:stretch/>
        </p:blipFill>
        <p:spPr>
          <a:xfrm>
            <a:off x="689040" y="1755720"/>
            <a:ext cx="7772400" cy="1828800"/>
          </a:xfrm>
          <a:prstGeom prst="rect">
            <a:avLst/>
          </a:prstGeom>
          <a:ln w="0">
            <a:noFill/>
          </a:ln>
        </p:spPr>
      </p:pic>
      <p:sp>
        <p:nvSpPr>
          <p:cNvPr id="371" name="PlaceHolder 1"/>
          <p:cNvSpPr>
            <a:spLocks noGrp="1"/>
          </p:cNvSpPr>
          <p:nvPr>
            <p:ph type="subTitle"/>
          </p:nvPr>
        </p:nvSpPr>
        <p:spPr>
          <a:xfrm>
            <a:off x="755640" y="1125360"/>
            <a:ext cx="7772400" cy="3686400"/>
          </a:xfrm>
          <a:prstGeom prst="rect">
            <a:avLst/>
          </a:prstGeom>
          <a:noFill/>
          <a:ln w="0">
            <a:noFill/>
          </a:ln>
        </p:spPr>
        <p:txBody>
          <a:bodyPr lIns="45720" rIns="4572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Lucida Sans Unicode"/>
              </a:rPr>
              <a:t>ECONOMIE</a:t>
            </a:r>
            <a:endParaRPr b="0" lang="en-US" sz="40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Lucida Sans Unicode"/>
              </a:rPr>
              <a:t>Paragraaf 1.7</a:t>
            </a:r>
            <a:endParaRPr b="0" lang="en-US" sz="36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Lucida Sans Unicode"/>
              </a:rPr>
              <a:t>Zomerkoninkjes</a:t>
            </a:r>
            <a:endParaRPr b="0" lang="en-US" sz="3600" spc="-1" strike="noStrike">
              <a:solidFill>
                <a:srgbClr val="000000"/>
              </a:solidFill>
              <a:latin typeface="Lucida Sans Unicode"/>
            </a:endParaRPr>
          </a:p>
        </p:txBody>
      </p:sp>
      <p:pic>
        <p:nvPicPr>
          <p:cNvPr id="372" name="Picture 8" descr="https://encrypted-tbn2.gstatic.com/images?q=tbn:ANd9GcQywFEmLI54InjjGeBmoMYhLLMR9yarLN62OpysM4XyqVmrWprxuA"/>
          <p:cNvPicPr/>
          <p:nvPr/>
        </p:nvPicPr>
        <p:blipFill>
          <a:blip r:embed="rId2"/>
          <a:stretch/>
        </p:blipFill>
        <p:spPr>
          <a:xfrm>
            <a:off x="0" y="0"/>
            <a:ext cx="3135240" cy="234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95280" y="980640"/>
            <a:ext cx="8229600" cy="4738680"/>
          </a:xfrm>
          <a:prstGeom prst="rect">
            <a:avLst/>
          </a:prstGeom>
          <a:noFill/>
          <a:ln w="0">
            <a:noFill/>
          </a:ln>
        </p:spPr>
        <p:txBody>
          <a:bodyPr anchor="t">
            <a:normAutofit fontScale="92000"/>
          </a:bodyPr>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 prijs van een product wordt bepaald door </a:t>
            </a:r>
            <a:r>
              <a:rPr b="1" lang="en-US" sz="2700" spc="-1" strike="noStrike">
                <a:solidFill>
                  <a:srgbClr val="000000"/>
                </a:solidFill>
                <a:latin typeface="Lucida Sans Unicode"/>
              </a:rPr>
              <a:t>de vraag </a:t>
            </a:r>
            <a:r>
              <a:rPr b="0" lang="en-US" sz="2700" spc="-1" strike="noStrike">
                <a:solidFill>
                  <a:srgbClr val="000000"/>
                </a:solidFill>
                <a:latin typeface="Lucida Sans Unicode"/>
              </a:rPr>
              <a:t>naar en </a:t>
            </a:r>
            <a:r>
              <a:rPr b="1" lang="en-US" sz="2700" spc="-1" strike="noStrike">
                <a:solidFill>
                  <a:srgbClr val="000000"/>
                </a:solidFill>
                <a:latin typeface="Lucida Sans Unicode"/>
              </a:rPr>
              <a:t>het aanbod </a:t>
            </a:r>
            <a:r>
              <a:rPr b="0" lang="en-US" sz="2700" spc="-1" strike="noStrike">
                <a:solidFill>
                  <a:srgbClr val="000000"/>
                </a:solidFill>
                <a:latin typeface="Lucida Sans Unicode"/>
              </a:rPr>
              <a:t>van het product, maar ook door je eigen smaak, reclame, mode en inkomen.</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Vraag = de hoeveelheid van een product die kopers (consumenten of bedrijven) willen kopen bij verschillende prijzen.</a:t>
            </a:r>
            <a:endParaRPr b="0" lang="en-US" sz="2700" spc="-1" strike="noStrike">
              <a:solidFill>
                <a:srgbClr val="000000"/>
              </a:solidFill>
              <a:latin typeface="Lucida Sans Unicode"/>
            </a:endParaRPr>
          </a:p>
          <a:p>
            <a:pPr marL="335520" indent="-235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anbod = de hoeveelheid van een product die verkopers willen verkopen bij verschillende prijzen.</a:t>
            </a:r>
            <a:endParaRPr b="0" lang="en-US" sz="2700" spc="-1" strike="noStrike">
              <a:solidFill>
                <a:srgbClr val="000000"/>
              </a:solidFill>
              <a:latin typeface="Lucida Sans Unicode"/>
            </a:endParaRPr>
          </a:p>
        </p:txBody>
      </p:sp>
      <p:pic>
        <p:nvPicPr>
          <p:cNvPr id="374" name="Titel 2" descr=""/>
          <p:cNvPicPr/>
          <p:nvPr/>
        </p:nvPicPr>
        <p:blipFill>
          <a:blip r:embed="rId1"/>
          <a:stretch/>
        </p:blipFill>
        <p:spPr>
          <a:xfrm>
            <a:off x="139680" y="30240"/>
            <a:ext cx="8486640" cy="124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1125360"/>
            <a:ext cx="8229600" cy="4881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s de vraag </a:t>
            </a:r>
            <a:r>
              <a:rPr b="1" lang="en-US" sz="2700" spc="-1" strike="noStrike">
                <a:solidFill>
                  <a:srgbClr val="000000"/>
                </a:solidFill>
                <a:latin typeface="Lucida Sans Unicode"/>
              </a:rPr>
              <a:t>kleiner</a:t>
            </a:r>
            <a:r>
              <a:rPr b="0" lang="en-US" sz="2700" spc="-1" strike="noStrike">
                <a:solidFill>
                  <a:srgbClr val="000000"/>
                </a:solidFill>
                <a:latin typeface="Lucida Sans Unicode"/>
              </a:rPr>
              <a:t> is dan het aanbod, dan dalen de prijzen vaak. </a:t>
            </a:r>
            <a:r>
              <a:rPr b="0" i="1" lang="en-US" sz="2700" spc="-1" strike="noStrike">
                <a:solidFill>
                  <a:srgbClr val="000000"/>
                </a:solidFill>
                <a:latin typeface="Lucida Sans Unicode"/>
              </a:rPr>
              <a:t>(m.a.w. er zijn weinig kopers die het product willen kopen, maar er is juist veel van dat product te koop).</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s de vraag </a:t>
            </a:r>
            <a:r>
              <a:rPr b="1" lang="en-US" sz="2700" spc="-1" strike="noStrike">
                <a:solidFill>
                  <a:srgbClr val="000000"/>
                </a:solidFill>
                <a:latin typeface="Lucida Sans Unicode"/>
              </a:rPr>
              <a:t>groter </a:t>
            </a:r>
            <a:r>
              <a:rPr b="0" lang="en-US" sz="2700" spc="-1" strike="noStrike">
                <a:solidFill>
                  <a:srgbClr val="000000"/>
                </a:solidFill>
                <a:latin typeface="Lucida Sans Unicode"/>
              </a:rPr>
              <a:t>is dan het aanbod, dan stijgen de prijzen vaak. Kopers willen meer kopen bij een bepaalde prijs, waardoor bedrijven hun producten duurder maken. Ze raken hun producten toch wel kwijt en maken meer wins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6" name="Titel 2" descr=""/>
          <p:cNvPicPr/>
          <p:nvPr/>
        </p:nvPicPr>
        <p:blipFill>
          <a:blip r:embed="rId1"/>
          <a:stretch/>
        </p:blipFill>
        <p:spPr>
          <a:xfrm>
            <a:off x="201600" y="212760"/>
            <a:ext cx="848520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1196640"/>
            <a:ext cx="8229600" cy="4809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t betreft niet alleen de Bos en Lommermarkt of de Plein 40-45 markt, maar we bedoelen met de markt iets and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tekenis = het geheel van de vraag naar en aanbod van een product bij elkaa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Voorbeelden: de automarkt, de aardappelmarkt, de huizenmarkt, de arbeidsmarkt enz.</a:t>
            </a:r>
            <a:endParaRPr b="0" lang="en-US" sz="2700" spc="-1" strike="noStrike">
              <a:solidFill>
                <a:srgbClr val="000000"/>
              </a:solidFill>
              <a:latin typeface="Lucida Sans Unicode"/>
            </a:endParaRPr>
          </a:p>
        </p:txBody>
      </p:sp>
      <p:pic>
        <p:nvPicPr>
          <p:cNvPr id="378" name="Titel 2" descr=""/>
          <p:cNvPicPr/>
          <p:nvPr/>
        </p:nvPicPr>
        <p:blipFill>
          <a:blip r:embed="rId1"/>
          <a:stretch/>
        </p:blipFill>
        <p:spPr>
          <a:xfrm>
            <a:off x="201600" y="249120"/>
            <a:ext cx="848520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31T14:51:49Z</dcterms:created>
  <dc:creator>rachid</dc:creator>
  <dc:description/>
  <dc:language>en-US</dc:language>
  <cp:lastModifiedBy>Rachid Hamdi</cp:lastModifiedBy>
  <dcterms:modified xsi:type="dcterms:W3CDTF">2016-09-27T08:23:49Z</dcterms:modified>
  <cp:revision>30</cp:revision>
  <dc:subject/>
  <dc:title> </dc:title>
</cp:coreProperties>
</file>