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2043-027C-4649-AFD5-102EDF40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2B57-6315-4F05-9E8E-DCCABF6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EF4D-191E-426B-8870-121162A5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268-3614-43D3-84BE-D7C5A896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9D6A-D010-4510-B612-FE60B2C1A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F0988-96FB-4E59-A5CF-ED144908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7CE-60E2-458C-9925-4E137807D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D291-5E56-409F-AC36-ADD2CCA3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3BAD-D394-435E-9A6F-28196FB2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26A-5772-46C6-AF05-8E5EBA59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ECC2-7A29-42E0-9112-CF9AC08F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5066-5A23-4363-B48F-97BB6A4F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C5A1-462F-4FAF-98A5-F8B96B23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E58-EC54-441C-8A0B-472AFDED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2086F-3CDA-4004-BA5A-B537E589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94DE-FED3-4274-BAED-316688B6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9ABD-131D-43A9-9DE4-7FDB017C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0108-1761-4ECC-8DA1-E96B3D61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92702-2445-48F8-B94A-1FA653DC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3089-F33A-4E96-906C-4628C481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4686C-0955-4BC7-BE77-6F54999B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CDF4-DD78-43A0-8135-35CAFDB2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82EB-C88D-4832-A402-218342B62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5774-01FA-4FF6-A49D-33170A30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D1336-19D1-415D-9298-55471DD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691A5-E461-4311-AEF4-274606A5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B26DB2-C44B-4E28-8182-D6DA0969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A1948-A6AF-49C8-86E1-2821CA26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88249-7722-465A-BE5C-FBD12B0A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01398-5BEC-41AA-9FAD-4F5ABB52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C2705-717E-4927-95BE-E60584C6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4AF0A-988F-4DCE-8917-DE8C89D9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078C4-541C-4CEC-8761-54C9F91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7B26-BCF0-439E-AE7E-354B251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A1A54-CAF8-4EA1-9AE6-7EDBDCE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D2EED-7927-46C2-B57A-4E1F60B3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2EAC5-D759-431D-93D9-0F6DC3C1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49E4CC-D761-4362-936C-C1030DAB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CD6A2-DC04-4AB4-9D4B-CAAAFF96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E044A-708B-4BC3-A5EA-BC3BD9BA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3D7C5-95BB-481F-A891-37E3147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244EA-46BF-4484-B681-1A32789F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AB33-C967-4F67-8C5B-56987794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41550-75F6-456A-8EFD-554707A5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83E4-96B0-4562-A046-18356482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1DDDE-6466-46BB-851A-C5E00B5B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9087A-C258-4AEF-B092-484C1227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6703-F171-4AA9-AD14-88CCC19E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40023-0515-4C60-9A05-65FCC3FD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0B31E-A788-4821-A483-064EA8E2C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17CC9-28F9-4CA4-9EE6-B990C21E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A9622-B28A-4880-A2B8-7588405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B2ABB-F5ED-4D88-972B-CCF2F9A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CEA39-CDBE-4BCE-A926-D86B81EA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4D1E-5BD5-410D-A5B2-84AF0ABB8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A4B1-C21F-49A8-987F-F579FC43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BBFA6-776C-439A-BBB9-876E1AAF3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BAC14-9DE3-4EA3-8F56-C728B178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B8DA7-6DEC-4A81-B66C-A7E18920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0EA43-7BC4-44EB-8931-20C034BF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65EA26-0276-4BDC-8C5F-9DB815A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60C93-8897-428F-B1C5-C99CA0555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50A6-62B7-4CD2-8E2A-18F8AED9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E3E628-177D-4E9A-9D67-C7C21A55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F3A084-9BDB-47F1-9CAE-FFE670CF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ECA1D-0E7B-4A34-9DE3-96A60C73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F41-83FF-4DD7-A95D-885BBEA7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5BAF3-D85D-40EE-A401-89B46D22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4790A-213B-4803-91AB-B3239E66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8C383-516F-44B5-A1FD-D80B86A74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2C883-2661-4E68-A7F7-DB8D6A994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B2177-BA5A-4270-9717-3A5FB7A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EAD18-F88F-41F9-8043-F181EEDF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2BDFF-3E83-4630-BD6A-F4E36391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EBE13-982C-4E8A-B3F0-30CC2E5A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B5D1E-0C21-4FAD-A5CB-ADC1442A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2EF2E-5641-450E-914D-66B81A9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47AA-4D49-4EB4-A5F0-D64BE416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E87B6-9F29-4DE0-A7E3-40F0FC1C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EEAB2-3316-4244-BE30-A60C067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195C7-7183-4820-9E35-D462DD504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C607D-2321-4B72-8CD7-FB1D1439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55C91-ABEB-476B-8B33-66B0F45D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27D5B-B6CD-48B6-B323-2773B937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C57A5-DFDA-405F-A824-882D46BE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C6152-5292-466B-A514-E13DBF0A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E6D2F-259E-4F6F-A755-F78304C69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9F02B-D900-4FDD-A07F-1EC8F02E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7E5-1EFC-4B3F-9056-4C6E2492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218F9-8555-434B-A64D-CB5F60F5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C9CFB-D3B9-4871-AF4F-B9ADB470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535B1-63CD-4AF2-8151-C864B80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2CA1E-C4D8-4CBC-B6A4-830B6E65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FF4C1-3D9C-415B-9A67-82038721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C7FFE-2583-4767-BB80-12BB58541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AADC-9C7B-4592-8E80-8A78A0C34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8FC3-CC7B-4FB6-9D9A-DB9D3E57A8F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D203-5CD9-47C2-8D65-078763FF2EB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85F4-780F-405E-AE31-868FEF307DC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B6C4-D71E-41DB-A672-4CA5C690A6B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CC56-ABB8-4E80-9CB3-967811518FC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2DE5-0C3C-4D6D-994C-20A0E2CD1A8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425E-D3E5-4CFF-A0C7-2E5C5A5B4AB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D3E2-1C90-4C72-97D2-813F6AA9F07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mistvoornmt.nl/a.aspx/1337189400/1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samuraihorloge.nl/files/3486/editor/images/lewinklewagen.png"/>
          <p:cNvPicPr/>
          <p:nvPr/>
        </p:nvPicPr>
        <p:blipFill>
          <a:blip r:embed="rId2"/>
          <a:stretch/>
        </p:blipFill>
        <p:spPr>
          <a:xfrm>
            <a:off x="0" y="0"/>
            <a:ext cx="2205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ilie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8" name="Picture 6" descr="http://www.seniorennet.be/Images/Magazine/7/original/spaarlamp1.jpg"/>
          <p:cNvPicPr/>
          <p:nvPr/>
        </p:nvPicPr>
        <p:blipFill>
          <a:blip r:embed="rId1"/>
          <a:stretch/>
        </p:blipFill>
        <p:spPr>
          <a:xfrm>
            <a:off x="895320" y="2008080"/>
            <a:ext cx="3384720" cy="25131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http://www.wageningenur.nl/upload_mm/6/f/4/b421c075-dd8d-48d3-a079-eaf72f9e7d4d_Bio%2B%20Appelstroop_490x330.jpg"/>
          <p:cNvPicPr/>
          <p:nvPr/>
        </p:nvPicPr>
        <p:blipFill>
          <a:blip r:embed="rId2"/>
          <a:stretch/>
        </p:blipFill>
        <p:spPr>
          <a:xfrm>
            <a:off x="3276720" y="4568760"/>
            <a:ext cx="2849400" cy="19195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0" descr="http://www.want.nl/wp-content/uploads/2015/04/AUTODOCK-WANT.jpg"/>
          <p:cNvPicPr/>
          <p:nvPr/>
        </p:nvPicPr>
        <p:blipFill>
          <a:blip r:embed="rId3"/>
          <a:stretch/>
        </p:blipFill>
        <p:spPr>
          <a:xfrm>
            <a:off x="4307040" y="2008080"/>
            <a:ext cx="4319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e hoger het inkomen, ho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meer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ux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producten zijn die een consument ka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68360" y="765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ouden vergelijkende warenonderzoeken (= tests van verschillende merken en typen van hetzelfde product;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o over prijs en kwalite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ven voorlich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schuwen tegen misleidende recla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lpen bij klach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jzen op de risico’s van e-commerce (= de koop en verkoop van producten via het internet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gemistvoornmt.nl/a.aspx/1337189400/1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el 2" descr=""/>
          <p:cNvPicPr/>
          <p:nvPr/>
        </p:nvPicPr>
        <p:blipFill>
          <a:blip r:embed="rId2"/>
          <a:stretch/>
        </p:blipFill>
        <p:spPr>
          <a:xfrm>
            <a:off x="237960" y="189000"/>
            <a:ext cx="84488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06" name="Titel 2" descr=""/>
          <p:cNvPicPr/>
          <p:nvPr/>
        </p:nvPicPr>
        <p:blipFill>
          <a:blip r:embed="rId2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images0.tcdn.nl/incoming/article21277273.ece/BINARY/u/consumentenbond3.jpg"/>
          <p:cNvPicPr/>
          <p:nvPr/>
        </p:nvPicPr>
        <p:blipFill>
          <a:blip r:embed="rId3"/>
          <a:stretch/>
        </p:blipFill>
        <p:spPr>
          <a:xfrm>
            <a:off x="395280" y="1341360"/>
            <a:ext cx="3495600" cy="232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www.bandenserviceflakkee.nl/content/news_messages/32/lightbox/Anwb.jpg"/>
          <p:cNvPicPr/>
          <p:nvPr/>
        </p:nvPicPr>
        <p:blipFill>
          <a:blip r:embed="rId4"/>
          <a:stretch/>
        </p:blipFill>
        <p:spPr>
          <a:xfrm>
            <a:off x="611280" y="3987720"/>
            <a:ext cx="2881080" cy="20574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logo-old"/>
          <p:cNvPicPr/>
          <p:nvPr/>
        </p:nvPicPr>
        <p:blipFill>
          <a:blip r:embed="rId5"/>
          <a:stretch/>
        </p:blipFill>
        <p:spPr>
          <a:xfrm>
            <a:off x="4572000" y="1427040"/>
            <a:ext cx="3870360" cy="21560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8" descr="https://www.eigenhuis.nl/static/images/content/logo.gif"/>
          <p:cNvPicPr/>
          <p:nvPr/>
        </p:nvPicPr>
        <p:blipFill>
          <a:blip r:embed="rId6"/>
          <a:stretch/>
        </p:blipFill>
        <p:spPr>
          <a:xfrm>
            <a:off x="4716360" y="4149720"/>
            <a:ext cx="39592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0464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 het consumeren kan een consument beïnvloed worden door verschillende zak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e mening van vrienden, kennissen en famili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1"/>
          <a:stretch/>
        </p:blipFill>
        <p:spPr>
          <a:xfrm>
            <a:off x="2268360" y="2421000"/>
            <a:ext cx="518652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Reclame (veelal merkreclam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7" name="Picture 2" descr="http://oudwww.bonhoeffer.nl/economie/reclame01.JPG"/>
          <p:cNvPicPr/>
          <p:nvPr/>
        </p:nvPicPr>
        <p:blipFill>
          <a:blip r:embed="rId1"/>
          <a:stretch/>
        </p:blipFill>
        <p:spPr>
          <a:xfrm>
            <a:off x="2700360" y="1989000"/>
            <a:ext cx="44640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Kennis van producten en diens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0" name="Picture 2" descr="http://static.apparata.nl/images/2014/cat-b15q-telefoon.jpg"/>
          <p:cNvPicPr/>
          <p:nvPr/>
        </p:nvPicPr>
        <p:blipFill>
          <a:blip r:embed="rId1"/>
          <a:stretch/>
        </p:blipFill>
        <p:spPr>
          <a:xfrm>
            <a:off x="1547640" y="2492280"/>
            <a:ext cx="604872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eigen smaak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3" name="Picture 2" descr="http://i1195.photobucket.com/albums/aa383/Kaiotje/ASSEM/Smaakbanner.jpg"/>
          <p:cNvPicPr/>
          <p:nvPr/>
        </p:nvPicPr>
        <p:blipFill>
          <a:blip r:embed="rId1"/>
          <a:stretch/>
        </p:blipFill>
        <p:spPr>
          <a:xfrm>
            <a:off x="1258920" y="2421000"/>
            <a:ext cx="6991200" cy="31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 leeftij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1619280" y="2421000"/>
            <a:ext cx="5875200" cy="31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Samenstelling van het gezi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eld (=financiële mogelijkhed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6070680" cy="35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technische ontwikke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1547640" y="2133720"/>
            <a:ext cx="646776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eilighei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71832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01T11:44:13Z</dcterms:modified>
  <cp:revision>24</cp:revision>
  <dc:subject/>
  <dc:title> </dc:title>
</cp:coreProperties>
</file>