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8F4-BF69-4679-BE56-0727F1B0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64E-CD2C-4CF2-9C97-0E74CE55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F48-A4C6-48A7-A4C1-4EA4635C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692-CD8F-4CBB-A973-50F3C97F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BAB2-ED31-4E25-8C1D-5B9F7EB9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49AA-A9BD-46B4-9BEF-0BED8661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EFCF-BB71-4133-AE8E-9B67ACFE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4EB8-FE72-43D0-A92C-1A8117AA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5237-571D-4D6A-8511-BB094C5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B1F5-5670-4B51-B5B7-5D56686C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7CCE-7E39-4FB4-B961-323D537A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440-8A9D-4668-AD86-D43BF3B0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670A-424E-4357-AAB5-45D1502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21BF-6191-4E1D-A60C-50C7EDB2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7849-E025-4258-BD45-ADA498D1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164E-46F6-443D-BC28-07D9C2B8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15AC-83DF-404B-A5C7-FEBE5C8D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D91D-86A4-4BBF-838F-7DE4CF76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BA56-7920-43BC-BBF3-FBD967CF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1153-601B-4B93-AB83-C813F16F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E9C17-3EEC-4FCE-9BE6-4EE2D9FE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1C607-6AF6-40B6-8CD5-D51071B1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DAB-5C1C-438B-A96D-093028E3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6C44-31B1-45C1-9D4D-36213F67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2F504-6E54-47EC-A8CC-7049B3D7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0D7E7-2683-4083-B875-AF7967A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9456-40C9-4957-8EC9-2AAC535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6C28-990A-4194-B905-F7176278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0A36-0BF6-4C3A-AAC2-7EA7F19E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8D4D-031F-4563-B9A0-1A46566B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3EB24-24C5-46C3-8624-16509CB1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79212-9099-4BE3-8EA5-147625A0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2831-687A-4771-8674-ADF25DEC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B1B-1037-4516-A5A4-D2C75CC3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4CBFC-E0BA-4F38-9EB0-E75D0ACF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50E3F-0879-43EF-B0E9-9CB62204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26A7-C458-48F6-B6A9-88963610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26E6-F6A4-40CA-B66A-23546AB4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21E80-9B26-46CD-A83A-1CE13259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53590-F7C2-475C-AC9E-28E2202F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E38BD-E206-41C2-B507-11F662A2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50F7-36B0-4C6C-89EB-85638C1A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A5789-DA93-415F-A865-68FB73DA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E4099-4148-439D-8CA4-4CF4BF6C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430-59E7-46FE-88CC-D65C1AAE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F288-6CD5-429A-8BE6-1566963B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1BC81-C812-4FCB-82B9-30712F08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C2C28-11AF-4A6D-B55D-54F68E56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2EF46-3147-47EB-AC14-9BBEEDBC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4C1F5-5A22-49A6-BAC7-C4C2480D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04B14-43B3-4D50-AA6C-40DCD6D0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1C733-4CA9-4241-AC55-DEE3589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1B746-A2C4-42FA-A005-61D32816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E09B-4D5C-4058-AE23-31A84A00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DD50C-30E7-4B73-BF5A-81A25FB7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4EB-8592-47B0-AABD-E2A4E7C7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ED8BB-09B4-42E2-9A11-04494011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9EBD4-7F54-48EE-B38E-71A45554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5E147-3735-4CFA-B8BC-2535DD1F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CCB06-6108-4FF2-8CDC-A10022E5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9D157-A54B-4334-B1B7-E5DD6BA0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6AB0A-E8D3-47D0-B77C-7CC5B03B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9F1D5-EBE2-40E1-B6B5-0EB6045A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6CCF-0F2F-4D2C-9853-C9402948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FFA54-A5CF-452A-A103-3BA9DBF1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60C90-479E-4078-B645-D73FA868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FE4-7B54-44F5-A025-F93DE8F2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8D46A-501B-4860-9407-CFEDFC65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75F52-ECED-4C90-A50E-864EAEC4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4467C-EC88-47A8-B683-F6D71A24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F53C3-5D99-43AC-A70A-A1350545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B077A-9183-4B74-A1F8-EE8B73ED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B0DDF-5DAC-4033-935F-BC324360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A5443-AE40-4E78-89A5-C5D5FB26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0E635-410A-4F98-BF24-85D2047B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E392F-3B6F-4C0E-BA10-75C5A386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83B20-B75D-40D8-83E1-C1C64FC4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CCC-1A9F-4B10-B49F-7E335BCB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EC1D2-BE28-4DDC-BC98-B2ED50DF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14557-0C7D-499F-AEEB-62FBBA27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F8169-A129-4FCD-967C-FFB7C79F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6A5BA-14F1-49A4-9D68-0297396D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1BF6D-E784-4964-9E36-33998874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493BB-6DC0-4E58-B71E-89E66E46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54D2B-249F-4BF8-BBC2-34D174AE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FC26B-95B5-4D46-BE03-BB81CCCE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BEDC-900E-453F-B15C-A235245C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1F6A0-6908-449F-B34A-991264FB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D4E-92E4-441C-A2F7-856A60E3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247C5-2DF4-46BA-A38A-89616A48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9C587-E7EB-4AC6-9F18-6A51C45D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9983B-8022-4A11-BBB0-4F6C9AF7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709B1-1D55-4138-B5F5-8DDD631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D1674-CC99-428D-951D-692719F1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8772B-8C48-4861-A02C-5C60AF93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9748A-3117-4CB8-8D96-68B7181A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F64D-BE83-4674-A12D-616F4AC01C9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7ADD-9A9F-418D-910A-6FEC01EE3D6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7AA0-B49D-4EC6-81BF-715DFB95F64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7AB9-9367-4364-9CFE-36A4B7850E9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B4EC-4EA4-45BE-9D3E-7BA80BA89A4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6B90-C99E-4FBB-92FB-7BCF02A805D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9225-392A-4903-A1EC-ED63CC246FF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284B-55B1-4342-985A-F5315A7D0FD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Consumeren met en zonder gel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api.ning.com/files/ZHWSihFB0iaaEh*TmU-m-bqiVlpVvERMW4*gwP4iL4XU0Is-qNuDMNMJGfdW0aNpE-Sd1qkvdvWaYcnV1ahRqAO0HfSP4oAw/IMG_0235.jpg"/>
          <p:cNvPicPr/>
          <p:nvPr/>
        </p:nvPicPr>
        <p:blipFill>
          <a:blip r:embed="rId2"/>
          <a:stretch/>
        </p:blipFill>
        <p:spPr>
          <a:xfrm>
            <a:off x="4932360" y="3149640"/>
            <a:ext cx="2497320" cy="1874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http://www.ed.nl/polopoly_fs/1.2152199.1350572418%21/image/image.jpg_gen/derivatives/landscape_800_600/image-2152199.jpg"/>
          <p:cNvPicPr/>
          <p:nvPr/>
        </p:nvPicPr>
        <p:blipFill>
          <a:blip r:embed="rId3"/>
          <a:stretch/>
        </p:blipFill>
        <p:spPr>
          <a:xfrm>
            <a:off x="1908000" y="3149640"/>
            <a:ext cx="2617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behoeften bevredig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je behoeften voorzi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iets te kopen bij een bedrijf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zelfvoorziening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zelf (</a:t>
            </a:r>
            <a:r>
              <a:rPr b="0" lang="en-US" sz="3500" spc="-1" strike="noStrike" u="sng">
                <a:solidFill>
                  <a:srgbClr val="105766"/>
                </a:solidFill>
                <a:uFillTx/>
                <a:latin typeface="Lucida Sans Unicode"/>
              </a:rPr>
              <a:t>dus gratis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) een gerecht bereide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de natuur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genieten van de zo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gebruik te maken van collectieve voorzieningen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fietsen op een fietspad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213.206.66.232/gfx/page/visual/86ht0622.jpg"/>
          <p:cNvPicPr/>
          <p:nvPr/>
        </p:nvPicPr>
        <p:blipFill>
          <a:blip r:embed="rId2"/>
          <a:stretch/>
        </p:blipFill>
        <p:spPr>
          <a:xfrm>
            <a:off x="7566120" y="4508640"/>
            <a:ext cx="1577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collectieve voorziening is een voorziening die geheel of grotendeels is betaald van belasting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het gebruik ervan vraagt de overhe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oms een eigen bijdra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Denk bijvoorbeel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 openbaar vervoer en onderw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Thomson Memorial Park.JPG"/>
          <p:cNvPicPr/>
          <p:nvPr/>
        </p:nvPicPr>
        <p:blipFill>
          <a:blip r:embed="rId1"/>
          <a:stretch/>
        </p:blipFill>
        <p:spPr>
          <a:xfrm>
            <a:off x="684360" y="2205000"/>
            <a:ext cx="1730160" cy="129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https://upload.wikimedia.org/wikipedia/commons/thumb/b/bb/Straat_in_woonwijk_Delft.jpg/250px-Straat_in_woonwijk_Delft.jpg"/>
          <p:cNvPicPr/>
          <p:nvPr/>
        </p:nvPicPr>
        <p:blipFill>
          <a:blip r:embed="rId2"/>
          <a:stretch/>
        </p:blipFill>
        <p:spPr>
          <a:xfrm>
            <a:off x="2446200" y="2235240"/>
            <a:ext cx="1730520" cy="1299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http://www.hilversumbeterbereikbaar.nl/files/Impressie%20Fietspad%20Langs%20de%20Lijn%20640px.jpg"/>
          <p:cNvPicPr/>
          <p:nvPr/>
        </p:nvPicPr>
        <p:blipFill>
          <a:blip r:embed="rId3"/>
          <a:stretch/>
        </p:blipFill>
        <p:spPr>
          <a:xfrm>
            <a:off x="4184640" y="2235240"/>
            <a:ext cx="1749600" cy="1312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https://upload.wikimedia.org/wikipedia/commons/1/1a/Logo_Portaal_Openbaar_Vervoer_2.jpg"/>
          <p:cNvPicPr/>
          <p:nvPr/>
        </p:nvPicPr>
        <p:blipFill>
          <a:blip r:embed="rId4"/>
          <a:stretch/>
        </p:blipFill>
        <p:spPr>
          <a:xfrm>
            <a:off x="2405160" y="3535200"/>
            <a:ext cx="3529080" cy="1130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7" descr="http://www.leusden.nl/624/onderwijsinspectie/files/onderwijs.jpg"/>
          <p:cNvPicPr/>
          <p:nvPr/>
        </p:nvPicPr>
        <p:blipFill>
          <a:blip r:embed="rId5"/>
          <a:stretch/>
        </p:blipFill>
        <p:spPr>
          <a:xfrm>
            <a:off x="5929200" y="2195640"/>
            <a:ext cx="20844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rmule i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nieuw – oud) : oud x 100 = ……%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1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0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2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5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€ 35.000 - € 30.000) : € 30.000 x 100 = 16,67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78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8-27T07:10:59Z</dcterms:modified>
  <cp:revision>11</cp:revision>
  <dc:subject/>
  <dc:title> </dc:title>
</cp:coreProperties>
</file>