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718-E157-4F37-90E5-40A8A5A0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99E-E5EC-4B7E-A51B-59735D01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D29-9BEC-4BFD-8F46-C4FE32A4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711-CBA9-4CB0-8B64-3A28F474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0E76-F092-4EE7-8450-3DD7C88A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51F6-DF69-4F06-A65F-20DEE61E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D0C7-6203-4DBF-99A2-50672487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D7CB-8EA3-4299-93E4-7A3B9F8F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4DA3-1053-4772-8AE9-06F1229C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4550-E236-40A6-95F9-E84F4E24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08E0-575D-4741-B75F-D07ED4B9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D85-23FC-48F2-9AA4-1C7F669E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B495-F144-4965-AABE-5013D026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0348-4FAA-4A00-9A2B-F4CE6AAE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8CD8-4877-45FF-ACA7-262C44A7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178D-888C-433D-A268-3A444833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205E-84C2-46D9-B869-3673F1D5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560-13C0-4F21-8459-2B4F6958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0F0-19C1-41DE-8F92-D7B3454C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69E-BE85-4BA8-BBC8-E2932E46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A08-623C-4782-80E1-922A237E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B22-C3E9-4A92-9EFD-03FE8742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644-FF28-4B18-9B4F-8B2A139B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98C-9274-4B53-9116-732DDBE2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32D4-66C0-4B5C-9ABE-74702C869EB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D877-995D-40E0-96BE-E32F5B15975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a4W1VkwlbJ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mic Sans MS"/>
              </a:rPr>
              <a:t>Hoofdstuk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Communica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techniek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baal: met woorden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35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on verbaal: lichaamstaal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Gezichtsuitdruk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Hou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Afst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Kle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Stemgebru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Gebar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ngruentie / Incongruent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Congruenti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: verbale en non-verbale communicatie zijn met elkaar in overeenstemm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Incongruenti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: verbale en non-verbale communicatie zijn 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met elkaar in overeenstemm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http://1.bp.blogspot.com/_g_li2EAp8NA/TRDS8xq2OrI/AAAAAAAAAWA/mrqeaoxcc0M/s1600/emotional+stroop+stimuli.png"/>
          <p:cNvPicPr/>
          <p:nvPr/>
        </p:nvPicPr>
        <p:blipFill>
          <a:blip r:embed="rId1"/>
          <a:stretch/>
        </p:blipFill>
        <p:spPr>
          <a:xfrm>
            <a:off x="1395360" y="220680"/>
            <a:ext cx="628668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Afstand / ruimte tussen mensen =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omic Sans MS"/>
              </a:rPr>
              <a:t>interpersoonlijke ruim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face to face"/>
          <p:cNvPicPr/>
          <p:nvPr/>
        </p:nvPicPr>
        <p:blipFill>
          <a:blip r:embed="rId1"/>
          <a:stretch/>
        </p:blipFill>
        <p:spPr>
          <a:xfrm>
            <a:off x="1547640" y="1700280"/>
            <a:ext cx="57610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69608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Intieme zone: 0-0.5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omic Sans MS"/>
              </a:rPr>
              <a:t>Persoonlijke zone</a:t>
            </a: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: 0.5-1.25m. (vrienden en kennisse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omic Sans MS"/>
              </a:rPr>
              <a:t>Sociale zone</a:t>
            </a: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: 1.25-3m. (Zakelijk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Publieke zone: &gt; 3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0000"/>
                </a:solidFill>
                <a:latin typeface="Comic Sans MS"/>
              </a:rPr>
              <a:t>De afstand die mensen onderling aanhouden kan van grote invloed zijn op de kwaliteit van de communicati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Noem een voorbeeld bij de volgende zon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ieme z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Persoonlijke zon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Sociale z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ublieke z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0000"/>
                </a:solidFill>
                <a:latin typeface="Comic Sans MS"/>
              </a:rPr>
              <a:t>In welke interpersoonlijke ruimtes kan je het beste communiceren met een patië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actoren die het proces beïnvloed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ogcont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en/ gesloten hou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bruik van stem, volumewisse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zorgd uiterlij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gruentie = verbale en non-verbale taal komen met elkaar overe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Les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aarnemen en interpret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Waarnemen en interpretere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schematischcommuniceren"/>
          <p:cNvPicPr/>
          <p:nvPr/>
        </p:nvPicPr>
        <p:blipFill>
          <a:blip r:embed="rId1"/>
          <a:stretch/>
        </p:blipFill>
        <p:spPr>
          <a:xfrm>
            <a:off x="2050920" y="1773360"/>
            <a:ext cx="540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bjectief: gebaseerd op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feiten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, controleerbaar, meetba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ubjectief: je persoonlijke waarneming, gekleurd door je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me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erpreteren: uitleg die de ontvanger geeft aan de boodschap van de zender &gt; doorvrage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Les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mmunic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woman"/>
          <p:cNvPicPr/>
          <p:nvPr/>
        </p:nvPicPr>
        <p:blipFill>
          <a:blip r:embed="rId1"/>
          <a:stretch/>
        </p:blipFill>
        <p:spPr>
          <a:xfrm>
            <a:off x="2744640" y="476280"/>
            <a:ext cx="43992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bserveren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Bewust en doelgericht waarnem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et moet objectief zijn. (Niet gekleurd door eigen menin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volgens: rapporteren &gt;      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chriftelijk / mondel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Miscommunicati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Een boodschap heel anders bedoelen dan hoe het opgevat wordt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or situatie, factoren aan kant van zender / ontvanger, relatie en inhoud gesprek.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anuit de zend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duidelijk, vaag verh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samenhang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volledi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Pas op voor misverstanden in de zorg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7770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anuit de ontvang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ormen en waarden, ervaring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oorzaken: “interne ruis” = waarneming wordt gekleurd door je eigen ervar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Referentiekader = uit het communicatiegedrag kun je iemands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achtergrond opmak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258560" y="333360"/>
            <a:ext cx="7769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Voorbeelden die aangeven waardoor onze waarneming gekleurd word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1 Uitgaan van onvolledige informa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2 Niet de tijd nemen om te luist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3 Vooroorde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4 Projec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5 Generalis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6 Emotionele betrokkenhe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7 Stereotype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8 Gevoelens en emo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9 Verdring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10 Motiva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omic Sans MS"/>
              </a:rPr>
              <a:t>Geef hier een omschrijving va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Les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De relatie tussen zender en ontvang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360" y="2491920"/>
            <a:ext cx="7696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ie iets zegt of vraagt, klasgenoot of docent.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t maakt het verschi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De relatie tussen personen kan belangrijker zijn dan de boodschap.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arom is dat z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Inhoud van de boodsch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69608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formatie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ociaal praat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erkopdrac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lecht” nieu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De manier waarop is doorslaggevend.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t bedoel ik hierme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4" descr="http://www.kaartje2go.nl/kaarten/oekie-baan---eerste-indruk/img/oekie-baan---eerste-indruk.jpg"/>
          <p:cNvPicPr/>
          <p:nvPr/>
        </p:nvPicPr>
        <p:blipFill>
          <a:blip r:embed="rId1"/>
          <a:stretch/>
        </p:blipFill>
        <p:spPr>
          <a:xfrm>
            <a:off x="1332000" y="907920"/>
            <a:ext cx="63468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9185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Informatie overbrengen van de ene naar de andere persoon’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as op! Omdat je nooit precies weet hoe een gesprek gaat verlopen of hoe een ander zou reageren, is het belangrijk inzicht te hebben in het communicatiepro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et leggen van contac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groe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ankij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andacht gev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Uitleggen waar je mee bezig b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a beëindigen werkzaamheden, aandacht op patiënt richt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et 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 eerste indru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aarnem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et leggen van cont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rui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mic Sans MS"/>
              </a:rPr>
              <a:t>Binnen enkele minuten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Comic Sans MS"/>
              </a:rPr>
              <a:t>'Ik loop naar beneden, geef een hand, we nemen de lift naar boven, we babbelen of het gemakkelijk te vinden was, en dan weet ik het al.'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eze uitspraak hoorde Roos Vonk, hoogleraar psychologie aan de Katholieke Universiteit Brabant, van iemand tijdens een van haar vele onderzoeken naar 'de eerste indruk'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Het is hard maar wáár: meestal hebben personeelswervers hun beslissing over een kandidaat al binnen een paar minuten genomen. De onderzoeken naar persoonswaarneming van Vonk wijzen het uit: </a:t>
            </a:r>
            <a:r>
              <a:rPr b="0" lang="nl-NL" sz="2400" spc="-1" strike="noStrike">
                <a:solidFill>
                  <a:srgbClr val="ff0000"/>
                </a:solidFill>
                <a:latin typeface="Comic Sans MS"/>
              </a:rPr>
              <a:t>tijdens de eerste minuten van een kennismaking, wordt de mening over iemand voor het grootste deel al gevorm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Gesprekstechniek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Jong en oud, man en vrouw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duldig, ongeduldig, vriendelijk, boos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el verwachtingen of juist geen.. Voorgeschiedenis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Met wie je ook in gesprek bent, denk aan de gesprekstechnieke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Elk gesprek heeft 3 fase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Mid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Ei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eginf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oede sfe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tel de tijd va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elen en verwachtingen uitspre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aalgebruik afstemm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iveau ‘vakjargon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Middenf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ctief luisteren, vragen stellen, samenvat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troleer of iemand het kan volg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troleer hoe het gesprek ervoor sta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Eindf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el behaa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wachtingen voldaa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ef een korte samenva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volgafspraa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Actief luiste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0000"/>
                </a:solidFill>
                <a:latin typeface="Comic Sans MS"/>
              </a:rPr>
              <a:t>Door te luisteren, door te proberen de gedachtegang van een ander te volgen, wordt de situatie voor beiden duidelijk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emand die luistert, stimuleert je tot verder vertelle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oe laat je merken dat je luister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e tijd ne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Elkaar aankijk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Houding. ‘Echt voor gaan zitten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Knikken of ‘ja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erduidelijking vra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Samenvatt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Gevoelens benoe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p non-verbale houding lett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Tijd en ruimte ge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iet subjectief inkleu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Waarom is het zo belangrijk om goed te communiceren in de gezondheidszorg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3213000"/>
            <a:ext cx="770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trouwensrelatie opbouw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Je begrijpt van elkaar wat je bedoel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ldt niet alleen voor patiënten, maar ook voor de contacten met collega’s en werkgev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pen en gesloten vrag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sloten vragen zijn vragen waarop je 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ja of ne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, misschien kunt antwoor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en vragen beginnen vaak met 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wat, hoe, welke  of wi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Kijken uit met suggestieve vragen. Waarom is di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uncties van samenvatt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trole voor jezel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Je moet goed luist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rdening in verhaal: hoofdzaa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erug horen van eigen verh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ctief luisteren toepass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Gespreksv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oorlicht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dvie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lechtnieuw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oorten gesprekke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2770200" y="1828800"/>
            <a:ext cx="3527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pdrach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elke soorten gesprekken kan je benoeme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Mogelijke antwoorde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ake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oorlicht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dvie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lechtnieuw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unctioner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oordel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Intake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ri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namne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omic Sans MS"/>
              </a:rPr>
              <a:t>Oriënterend gesprek tussen patiënt en doktersassistente, waarin op een zo eenduidige en objectief mogelijke wijze informatie verzameld wordt om vervolgens zo goed mogelijk conclusies te kunnen trekk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Voorlichting gev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Kennisvermeerdering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omic Sans MS"/>
              </a:rPr>
              <a:t>uitleg koor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oudingsverandering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omic Sans MS"/>
              </a:rPr>
              <a:t>ziekte accepter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dragsverandering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omic Sans MS"/>
              </a:rPr>
              <a:t>stoppen met rok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Voorlichtings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5 voorlichtingsstapp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Opensta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Begríj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Wil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Kunn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Blijven do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Advies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oorfase: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ar gaat het ov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obleemverheldering: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actief luist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obleem herdefiniëring: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samenvatting en inzicht gev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obleemoplossing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. Advi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pro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Uitwisseling van verbale en non-verbale informatie tussen mens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Deels bewust, deel onbewust ontvangen en interpreter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lechtnieuws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ase 1: </a:t>
            </a:r>
            <a:r>
              <a:rPr b="1" lang="nl-NL" sz="3200" spc="-1" strike="noStrike">
                <a:solidFill>
                  <a:srgbClr val="ff0000"/>
                </a:solidFill>
                <a:latin typeface="Comic Sans MS"/>
              </a:rPr>
              <a:t>Direct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mededelen van slecht nieu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ase 2: Volg de ander in zijn reactie: </a:t>
            </a:r>
            <a:r>
              <a:rPr b="1" lang="nl-NL" sz="3200" spc="-1" strike="noStrike">
                <a:solidFill>
                  <a:srgbClr val="ff0000"/>
                </a:solidFill>
                <a:latin typeface="Comic Sans MS"/>
              </a:rPr>
              <a:t>emo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ase 3: Zoeken naar een oplossing. </a:t>
            </a:r>
            <a:r>
              <a:rPr b="1" lang="nl-NL" sz="3200" spc="-1" strike="noStrike">
                <a:solidFill>
                  <a:srgbClr val="ff0000"/>
                </a:solidFill>
                <a:latin typeface="Comic Sans MS"/>
              </a:rPr>
              <a:t>Waar heeft u behoefte aa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schillende manier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wust/onbewust, verbaal/non verbaal, uit jezelf/op verzo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omic Sans MS"/>
              </a:rPr>
              <a:t>Positief gedrag stimul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omic Sans MS"/>
              </a:rPr>
              <a:t>Negatief gedrag corrig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omic Sans MS"/>
              </a:rPr>
              <a:t>Relatie tussen mensen verduidelijk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elangrijk bij geven van feed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Beschrijf concreet gedra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Gebruik ik-boodsch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o snel mogelijk ge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ver gedrag dat iemand kan aanpass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iet teveel feedback in een k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eem de tij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org dat de ander ruimte heeft om te reage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e wijze waar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Je eigen hou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ring je informatie niet o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75610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rije ruimte: gedrag van onszelf dat wij en anderen goed kenn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linde vlek: Gedragingen die anderen wel waarnemen, jij niet bewust van b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borgen gebied: je weet het van jezelf, anderen weten het ni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bekende zelf: Bij jou en anderen niet bek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ilm gesprekstechnieke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s://www.youtube.com/watch?v=a4W1VkwlbJ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0"/>
          <p:cNvSpPr/>
          <p:nvPr/>
        </p:nvSpPr>
        <p:spPr>
          <a:xfrm>
            <a:off x="1187280" y="114948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971640" y="105264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3708360" y="1052640"/>
            <a:ext cx="1584360" cy="368280"/>
          </a:xfrm>
          <a:prstGeom prst="rect">
            <a:avLst/>
          </a:prstGeom>
          <a:solidFill>
            <a:srgbClr val="00b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boodsch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6372360" y="98100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ntvan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516720" y="1916280"/>
            <a:ext cx="158436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waarne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6300720" y="2924280"/>
            <a:ext cx="187344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interprete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6516720" y="508464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40"/>
          <p:cNvSpPr/>
          <p:nvPr/>
        </p:nvSpPr>
        <p:spPr>
          <a:xfrm>
            <a:off x="6156360" y="3933720"/>
            <a:ext cx="223200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Keuze van gedra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3780000" y="5157720"/>
            <a:ext cx="1584000" cy="368280"/>
          </a:xfrm>
          <a:prstGeom prst="rect">
            <a:avLst/>
          </a:prstGeom>
          <a:solidFill>
            <a:srgbClr val="00b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boodsch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3"/>
          <p:cNvSpPr/>
          <p:nvPr/>
        </p:nvSpPr>
        <p:spPr>
          <a:xfrm>
            <a:off x="1116000" y="522936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ntvan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44"/>
          <p:cNvSpPr/>
          <p:nvPr/>
        </p:nvSpPr>
        <p:spPr>
          <a:xfrm>
            <a:off x="7164360" y="14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45"/>
          <p:cNvSpPr/>
          <p:nvPr/>
        </p:nvSpPr>
        <p:spPr>
          <a:xfrm>
            <a:off x="716436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46"/>
          <p:cNvSpPr/>
          <p:nvPr/>
        </p:nvSpPr>
        <p:spPr>
          <a:xfrm>
            <a:off x="7164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47"/>
          <p:cNvSpPr/>
          <p:nvPr/>
        </p:nvSpPr>
        <p:spPr>
          <a:xfrm>
            <a:off x="7236000" y="4365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48"/>
          <p:cNvSpPr/>
          <p:nvPr/>
        </p:nvSpPr>
        <p:spPr>
          <a:xfrm flipH="1">
            <a:off x="5364000" y="537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49"/>
          <p:cNvSpPr/>
          <p:nvPr/>
        </p:nvSpPr>
        <p:spPr>
          <a:xfrm>
            <a:off x="5292720" y="1197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50"/>
          <p:cNvSpPr/>
          <p:nvPr/>
        </p:nvSpPr>
        <p:spPr>
          <a:xfrm>
            <a:off x="2556000" y="126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52"/>
          <p:cNvSpPr/>
          <p:nvPr/>
        </p:nvSpPr>
        <p:spPr>
          <a:xfrm flipH="1">
            <a:off x="2700000" y="5373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3"/>
          <p:cNvSpPr/>
          <p:nvPr/>
        </p:nvSpPr>
        <p:spPr>
          <a:xfrm>
            <a:off x="1042920" y="4221000"/>
            <a:ext cx="158436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waarne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54"/>
          <p:cNvSpPr/>
          <p:nvPr/>
        </p:nvSpPr>
        <p:spPr>
          <a:xfrm>
            <a:off x="971640" y="3284640"/>
            <a:ext cx="187308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interprete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5"/>
          <p:cNvSpPr/>
          <p:nvPr/>
        </p:nvSpPr>
        <p:spPr>
          <a:xfrm>
            <a:off x="755640" y="2276640"/>
            <a:ext cx="223200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Keuze van gedra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6"/>
          <p:cNvSpPr/>
          <p:nvPr/>
        </p:nvSpPr>
        <p:spPr>
          <a:xfrm flipV="1">
            <a:off x="1835280" y="458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57"/>
          <p:cNvSpPr/>
          <p:nvPr/>
        </p:nvSpPr>
        <p:spPr>
          <a:xfrm flipV="1">
            <a:off x="176364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59"/>
          <p:cNvSpPr/>
          <p:nvPr/>
        </p:nvSpPr>
        <p:spPr>
          <a:xfrm flipV="1">
            <a:off x="176364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60"/>
          <p:cNvSpPr/>
          <p:nvPr/>
        </p:nvSpPr>
        <p:spPr>
          <a:xfrm flipV="1">
            <a:off x="1763640" y="1483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v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Monde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chriftelij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igit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Benoem een voordeel en nadeel van bovenstaande communicatievorm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 v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Mondeling: V: persoonlijk karakter, tweezijdige comm, direct. N: niet altijd begre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Schriftelijk: V: veel info verspreiden, nauwkeurig, bewaren. N:directe reactie ontbreekt, onpersoonlijk.  Eenzijdige com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igitaal: V: mail, website met info. N: eenzijdige comm. Klopt de gevonden info altij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Media: V: krant, tv, radio. Veel info. N: eenzijdige com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telling: klopt di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Niet-communiceren in aanwezigheid van anderen is niet mogelij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8:09:35Z</dcterms:created>
  <dc:creator>Martin Pas</dc:creator>
  <dc:description/>
  <dc:language>en-US</dc:language>
  <cp:lastModifiedBy>Annelies de Groot</cp:lastModifiedBy>
  <dcterms:modified xsi:type="dcterms:W3CDTF">2020-11-12T10:18:31Z</dcterms:modified>
  <cp:revision>45</cp:revision>
  <dc:subject/>
  <dc:title>Hoofdstuk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7E6CDA9E82A08449E9D14AE24C88F02</vt:lpwstr>
  </property>
</Properties>
</file>