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F00C-9A7D-4D62-B9A4-2956E6EE7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3526-54DF-47D5-959A-B5DAEFBE7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69D7-062F-480C-A191-8B1BF8E54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462B-5512-42D2-9977-A5C87D081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F9FE1-BA21-49A4-A569-D2B96E896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3CDDF-C8F2-4135-8A74-4024F6652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B71CE-EDB2-4BE4-A64A-B4AD4D7D7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2D1E8-E963-416A-A3C8-77FBF4628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F4976-2C37-4C26-B505-B6B840564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BBA0C-E008-4EFE-8EE8-BBE0930BA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2AEAC-08FC-4338-B51D-56C30B7CF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654B-4605-42AF-B611-04EBC5444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BB544-E34C-4842-A7DA-AD73309FE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CD9A5-A4A7-44FC-A27A-7929E36F9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1C6B4-F785-43F4-BC50-09748BBA1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1191D-9920-419D-BB54-DD3167D74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E2E6C-04EF-4784-867F-13EF48C79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8743-96BB-458C-BF65-43FDC37B9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F813-E786-4888-AAA7-9FB7D5313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F345-7964-40B7-B3DD-79DFFC48F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6539-37E8-4BB5-9791-53F2E0F50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3F1A-58E2-485B-BC82-B3FBE6B89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815F-371C-4D23-A7B2-F1C24152F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B107-E3E2-4FAA-8DBF-F15A5D39C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575f6d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839080" cy="6858000"/>
            <a:chOff x="0" y="0"/>
            <a:chExt cx="883908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5105160" cy="4876560"/>
              <a:chOff x="0" y="0"/>
              <a:chExt cx="5105160" cy="487656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0" y="0"/>
                <a:ext cx="5105160" cy="487656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418320" y="420120"/>
                <a:ext cx="4266720" cy="403560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Oval 6"/>
              <p:cNvSpPr/>
              <p:nvPr/>
            </p:nvSpPr>
            <p:spPr>
              <a:xfrm>
                <a:off x="837000" y="840600"/>
                <a:ext cx="3431160" cy="319320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1255320" y="1261080"/>
                <a:ext cx="2594520" cy="235584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1590120" y="1597680"/>
                <a:ext cx="1923120" cy="168300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3200400" y="3200400"/>
              <a:ext cx="3886200" cy="3657600"/>
              <a:chOff x="3200400" y="3200400"/>
              <a:chExt cx="3886200" cy="365760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3200400" y="3200400"/>
                <a:ext cx="3886200" cy="365760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3518640" y="3515400"/>
                <a:ext cx="3247560" cy="302544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Oval 12"/>
              <p:cNvSpPr/>
              <p:nvPr/>
            </p:nvSpPr>
            <p:spPr>
              <a:xfrm>
                <a:off x="3837240" y="3830760"/>
                <a:ext cx="2612880" cy="239724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Oval 13"/>
              <p:cNvSpPr/>
              <p:nvPr/>
            </p:nvSpPr>
            <p:spPr>
              <a:xfrm>
                <a:off x="4155840" y="4146120"/>
                <a:ext cx="1974960" cy="176580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Oval 14"/>
              <p:cNvSpPr/>
              <p:nvPr/>
            </p:nvSpPr>
            <p:spPr>
              <a:xfrm>
                <a:off x="4409280" y="4398480"/>
                <a:ext cx="1466640" cy="125964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" name="Group 15"/>
            <p:cNvGrpSpPr/>
            <p:nvPr/>
          </p:nvGrpSpPr>
          <p:grpSpPr>
            <a:xfrm>
              <a:off x="4495680" y="152280"/>
              <a:ext cx="4343400" cy="4114800"/>
              <a:chOff x="4495680" y="152280"/>
              <a:chExt cx="4343400" cy="4114800"/>
            </a:xfrm>
          </p:grpSpPr>
          <p:sp>
            <p:nvSpPr>
              <p:cNvPr id="14" name="Oval 16"/>
              <p:cNvSpPr/>
              <p:nvPr/>
            </p:nvSpPr>
            <p:spPr>
              <a:xfrm>
                <a:off x="4495680" y="152280"/>
                <a:ext cx="4343400" cy="411480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Oval 17"/>
              <p:cNvSpPr/>
              <p:nvPr/>
            </p:nvSpPr>
            <p:spPr>
              <a:xfrm>
                <a:off x="4851360" y="506880"/>
                <a:ext cx="3632760" cy="340668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Oval 18"/>
              <p:cNvSpPr/>
              <p:nvPr/>
            </p:nvSpPr>
            <p:spPr>
              <a:xfrm>
                <a:off x="5208840" y="861480"/>
                <a:ext cx="2917800" cy="269568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5563440" y="1216080"/>
                <a:ext cx="2207160" cy="198756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5848560" y="1500120"/>
                <a:ext cx="1637280" cy="141840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39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d2611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b435b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0DBE6-4015-44F1-88DF-52211979D3B2}" type="datetime">
              <a:rPr b="1" lang="nl-NL" sz="1400" spc="-1" strike="noStrike">
                <a:solidFill>
                  <a:srgbClr val="000000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0D684-E214-4E7B-B2E5-558C154468AF}" type="slidenum">
              <a:rPr b="1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575f6d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grpSp>
          <p:nvGrpSpPr>
            <p:cNvPr id="61" name="Group 3"/>
            <p:cNvGrpSpPr/>
            <p:nvPr/>
          </p:nvGrpSpPr>
          <p:grpSpPr>
            <a:xfrm>
              <a:off x="0" y="0"/>
              <a:ext cx="8839080" cy="6858000"/>
              <a:chOff x="0" y="0"/>
              <a:chExt cx="8839080" cy="6858000"/>
            </a:xfrm>
          </p:grpSpPr>
          <p:grpSp>
            <p:nvGrpSpPr>
              <p:cNvPr id="62" name="Group 4"/>
              <p:cNvGrpSpPr/>
              <p:nvPr/>
            </p:nvGrpSpPr>
            <p:grpSpPr>
              <a:xfrm>
                <a:off x="0" y="0"/>
                <a:ext cx="5105160" cy="4876560"/>
                <a:chOff x="0" y="0"/>
                <a:chExt cx="5105160" cy="4876560"/>
              </a:xfrm>
            </p:grpSpPr>
            <p:sp>
              <p:nvSpPr>
                <p:cNvPr id="63" name="Oval 5"/>
                <p:cNvSpPr/>
                <p:nvPr/>
              </p:nvSpPr>
              <p:spPr>
                <a:xfrm>
                  <a:off x="0" y="0"/>
                  <a:ext cx="5105160" cy="487656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Oval 6"/>
                <p:cNvSpPr/>
                <p:nvPr/>
              </p:nvSpPr>
              <p:spPr>
                <a:xfrm>
                  <a:off x="418320" y="420120"/>
                  <a:ext cx="4266720" cy="403560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Oval 7"/>
                <p:cNvSpPr/>
                <p:nvPr/>
              </p:nvSpPr>
              <p:spPr>
                <a:xfrm>
                  <a:off x="837000" y="840600"/>
                  <a:ext cx="3431160" cy="319320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Oval 8"/>
                <p:cNvSpPr/>
                <p:nvPr/>
              </p:nvSpPr>
              <p:spPr>
                <a:xfrm>
                  <a:off x="1255320" y="1261080"/>
                  <a:ext cx="2594520" cy="235584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Oval 9"/>
                <p:cNvSpPr/>
                <p:nvPr/>
              </p:nvSpPr>
              <p:spPr>
                <a:xfrm>
                  <a:off x="1590120" y="1597680"/>
                  <a:ext cx="1923120" cy="168300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" name="Group 10"/>
              <p:cNvGrpSpPr/>
              <p:nvPr/>
            </p:nvGrpSpPr>
            <p:grpSpPr>
              <a:xfrm>
                <a:off x="3200400" y="3200400"/>
                <a:ext cx="3886200" cy="3657600"/>
                <a:chOff x="3200400" y="3200400"/>
                <a:chExt cx="3886200" cy="3657600"/>
              </a:xfrm>
            </p:grpSpPr>
            <p:sp>
              <p:nvSpPr>
                <p:cNvPr id="69" name="Oval 11"/>
                <p:cNvSpPr/>
                <p:nvPr/>
              </p:nvSpPr>
              <p:spPr>
                <a:xfrm>
                  <a:off x="3200400" y="3200400"/>
                  <a:ext cx="3886200" cy="365760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Oval 12"/>
                <p:cNvSpPr/>
                <p:nvPr/>
              </p:nvSpPr>
              <p:spPr>
                <a:xfrm>
                  <a:off x="3518640" y="3515400"/>
                  <a:ext cx="3247560" cy="302544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Oval 13"/>
                <p:cNvSpPr/>
                <p:nvPr/>
              </p:nvSpPr>
              <p:spPr>
                <a:xfrm>
                  <a:off x="3837240" y="3830760"/>
                  <a:ext cx="2612880" cy="239724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Oval 14"/>
                <p:cNvSpPr/>
                <p:nvPr/>
              </p:nvSpPr>
              <p:spPr>
                <a:xfrm>
                  <a:off x="4155840" y="4146120"/>
                  <a:ext cx="1974960" cy="176580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Oval 15"/>
                <p:cNvSpPr/>
                <p:nvPr/>
              </p:nvSpPr>
              <p:spPr>
                <a:xfrm>
                  <a:off x="4409280" y="4398480"/>
                  <a:ext cx="1466640" cy="125964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" name="Group 16"/>
              <p:cNvGrpSpPr/>
              <p:nvPr/>
            </p:nvGrpSpPr>
            <p:grpSpPr>
              <a:xfrm>
                <a:off x="4495680" y="152280"/>
                <a:ext cx="4343400" cy="4114800"/>
                <a:chOff x="4495680" y="152280"/>
                <a:chExt cx="4343400" cy="4114800"/>
              </a:xfrm>
            </p:grpSpPr>
            <p:sp>
              <p:nvSpPr>
                <p:cNvPr id="75" name="Oval 17"/>
                <p:cNvSpPr/>
                <p:nvPr/>
              </p:nvSpPr>
              <p:spPr>
                <a:xfrm>
                  <a:off x="4495680" y="152280"/>
                  <a:ext cx="4343400" cy="411480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Oval 18"/>
                <p:cNvSpPr/>
                <p:nvPr/>
              </p:nvSpPr>
              <p:spPr>
                <a:xfrm>
                  <a:off x="4851360" y="506880"/>
                  <a:ext cx="3632760" cy="340668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Oval 19"/>
                <p:cNvSpPr/>
                <p:nvPr/>
              </p:nvSpPr>
              <p:spPr>
                <a:xfrm>
                  <a:off x="5208840" y="861480"/>
                  <a:ext cx="2917800" cy="269568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Oval 20"/>
                <p:cNvSpPr/>
                <p:nvPr/>
              </p:nvSpPr>
              <p:spPr>
                <a:xfrm>
                  <a:off x="5563440" y="1216080"/>
                  <a:ext cx="2207160" cy="198756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Oval 21"/>
                <p:cNvSpPr/>
                <p:nvPr/>
              </p:nvSpPr>
              <p:spPr>
                <a:xfrm>
                  <a:off x="5848560" y="1500120"/>
                  <a:ext cx="1637280" cy="141840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0" name="Line 22"/>
            <p:cNvSpPr/>
            <p:nvPr/>
          </p:nvSpPr>
          <p:spPr>
            <a:xfrm flipH="1">
              <a:off x="-360" y="2438280"/>
              <a:ext cx="2514600" cy="3429000"/>
            </a:xfrm>
            <a:prstGeom prst="line">
              <a:avLst/>
            </a:prstGeom>
            <a:ln w="9360">
              <a:solidFill>
                <a:srgbClr val="fe863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Line 23"/>
            <p:cNvSpPr/>
            <p:nvPr/>
          </p:nvSpPr>
          <p:spPr>
            <a:xfrm>
              <a:off x="6629400" y="2209680"/>
              <a:ext cx="2514600" cy="2743200"/>
            </a:xfrm>
            <a:prstGeom prst="line">
              <a:avLst/>
            </a:prstGeom>
            <a:ln w="9360">
              <a:solidFill>
                <a:srgbClr val="fe863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Line 24"/>
            <p:cNvSpPr/>
            <p:nvPr/>
          </p:nvSpPr>
          <p:spPr>
            <a:xfrm flipV="1">
              <a:off x="5105520" y="0"/>
              <a:ext cx="380880" cy="4952880"/>
            </a:xfrm>
            <a:prstGeom prst="line">
              <a:avLst/>
            </a:prstGeom>
            <a:ln w="9360">
              <a:solidFill>
                <a:srgbClr val="fe86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39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d2611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b435b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07948-8B7E-41F8-BC0A-1F357184530D}" type="datetime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0893A-5DD8-47D4-9E88-89AAAC54B24C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ijdelijke aanduiding voor datum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D3AD4-ECAC-4E19-B395-8BAA3EA218D9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91B67-5347-451A-B504-AE3CB5594204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1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39d"/>
                </a:solidFill>
                <a:latin typeface="Times New Roman"/>
              </a:rPr>
              <a:t>Feedback H3, blz 115 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Is informatie van iemand over de effecten van het gedrag van een andere persoon op hem of ha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Beschrijf waarnem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Geef geen oorde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Terugkoppelen van gedra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ijdelijke aanduiding voor datum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24939-E4B9-4644-983E-9C3D29ADF2D6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Tijdelijke aanduiding voor dianumm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FFF76-E903-4467-AD78-DBF1A644AB62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2" name="Picture 4" descr="C:\Users\kag.hoogeveen\OneDrive - Noorderpoort\Pictures\Pictures\images.png"/>
          <p:cNvPicPr/>
          <p:nvPr/>
        </p:nvPicPr>
        <p:blipFill>
          <a:blip r:embed="rId1"/>
          <a:stretch/>
        </p:blipFill>
        <p:spPr>
          <a:xfrm>
            <a:off x="3348000" y="1341360"/>
            <a:ext cx="403236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ijdelijke aanduiding voor datum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528EF-83DA-4B92-B35C-4C7A9AEE3DDD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BB35A-DF77-42E5-A07F-F8925FC102EB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39d"/>
                </a:solidFill>
                <a:latin typeface="Times New Roman"/>
              </a:rPr>
              <a:t>Verschil feedback en kritiek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Kritiek is be- of veroordele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Feedback is beschrijven van waarneming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Kritiek wijst schuldige a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Feedback  geeft geen oorde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Kritiek eist gedragsverander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Feedback geeft keuzemogelijkhei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ijdelijke aanduiding voor datum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602DA-3BB0-4189-8B37-FB8A2A2D1C16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DB1F5-F4F2-407A-9D1E-33C6438C169C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39d"/>
                </a:solidFill>
                <a:latin typeface="Times New Roman"/>
              </a:rPr>
              <a:t>Regels voor feedback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Geef een ik-boodscha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Beschrijf je waarneming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Beschrijf het effect dat het op jou heef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Wees specifiek in tijd, plaat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Vlak na het voorv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ijdelijke aanduiding voor datum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945A1-2692-4302-AE45-ABF87B551A4E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9B1BD-3075-4726-9FD1-6EDE431718F5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39d"/>
                </a:solidFill>
                <a:latin typeface="Times New Roman"/>
              </a:rPr>
              <a:t>Vervolg regels feedback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Beschrijf alleen veranderbaar gedra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Geef de ander ruimte voor reacti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Iemand hoeft het niet met je eens te zij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Niet te veel ineens!!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ijdelijke aanduiding voor datum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1CEC4-7287-43BA-A26C-E8326C3802A0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BFD6D-2BA5-4A30-908B-F363D6028BAF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39d"/>
                </a:solidFill>
                <a:latin typeface="Times New Roman"/>
              </a:rPr>
              <a:t>Doel van feedback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Verduidelijkt relaties tussen person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Geef je inzicht 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b435b"/>
              </a:buClr>
              <a:buSzPct val="11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Hoe je met mensen omga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b435b"/>
              </a:buClr>
              <a:buSzPct val="11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Hoe jij op mensen overkom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ijdelijke aanduiding voor datum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5A7B6-6C04-472D-A10C-8D1BC0669912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FDB76-B953-43AE-BBB3-567396DCA560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39d"/>
                </a:solidFill>
                <a:latin typeface="Times New Roman"/>
              </a:rPr>
              <a:t>Vervolg doel van feedback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Vergroot je zelfkenn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Ondersteunt en bevordert positief gedra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Corrigeert negatief of ongewenst gedra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Draagt bij aan effectieve communicati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ijdelijke aanduiding voor datum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B1ADD-3EDE-4E77-9D5B-850B331B0071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0DAB1-36EC-456F-9F01-C2FA54746EBD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39d"/>
                </a:solidFill>
                <a:latin typeface="Times New Roman"/>
              </a:rPr>
              <a:t>Ontvangen van feedback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1.luis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2 Vat sam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3. Waardeer/beoordeel wat is gezeg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Denk er over na!!!!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ijdelijke aanduiding voor datum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8955F-E238-49AC-8453-A2469DCB5B9E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A3FAA-228D-496B-B7A6-CF91E5055173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39d"/>
                </a:solidFill>
                <a:latin typeface="Times New Roman"/>
              </a:rPr>
              <a:t>Vervolg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Pas je gedrag aan of ni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Ga niet in de verdedig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ijdelijke aanduiding voor datum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6BB58-A96D-45F3-A9BF-B717166A9FC7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9EE25-7260-486F-8B67-51675E4D2229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Denk na over een conflict(je) dat je had met je ouders/vrienden/st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Hoe verliep het confli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Noteer hoe je het volgens de feedback regels beter had kunnen oploss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Vertel dit aan de klas/groepj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39d"/>
                </a:solidFill>
                <a:latin typeface="Times New Roman"/>
              </a:rPr>
              <a:t>Opdracht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4T09:26:29Z</dcterms:created>
  <dc:creator>custom</dc:creator>
  <dc:description/>
  <dc:language>en-US</dc:language>
  <cp:lastModifiedBy>Nienke Hoogeveen</cp:lastModifiedBy>
  <dcterms:modified xsi:type="dcterms:W3CDTF">2016-11-04T07:47:02Z</dcterms:modified>
  <cp:revision>12</cp:revision>
  <dc:subject/>
  <dc:title>Feedback</dc:title>
</cp:coreProperties>
</file>