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B449-262F-4F87-8DE2-B9EF9C8CA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AF57-C50E-4274-A3FA-6F78166A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F18C-78F8-4431-BE83-FF82D2DB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C787-9130-46F0-B1A0-E2D87BA83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16E2-D61F-4FCD-BBEA-3F216131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DC4C-5C35-4C38-828B-BB946DC7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AD15-5848-407A-9095-06855C18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EFDB-FF2E-478A-BAC6-10E47F4B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B58F-73F1-4B1B-9EA4-B5CA9EB4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9A9B-64AB-4EF0-8971-0F1DA271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D5E5-8EB7-4856-BB6F-3EA50A9B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2270-3A25-473D-912D-436C7D34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F4F9-B304-4922-975A-45A02DDC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381B-294B-48C5-96B2-4BD74070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E4BE-D26A-4477-98E0-B3596987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99CA-777D-4DE9-824B-31556CC5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B535-53A0-4156-BF53-6BC3C7FD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E210-D65C-4954-8670-4D43822E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A1E1-F189-4F71-A14C-EBCF912E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A10C-806C-4078-B28E-4E4BA1C9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0CA5-0F96-478D-AE50-33873D21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B7EB-9814-49E2-BD64-BC9A82E4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4827-FE34-4C07-A4C5-BCACD7A7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D75C-6558-4C02-B4F1-5265ADF5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239E-35C2-4275-B2CB-3B08E190C7F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C9D0-DF19-408B-81FB-831D99F3092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a4W1VkwlbJo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mic Sans MS"/>
              </a:rPr>
              <a:t>Hoofdstuk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Communicati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Communicatietechniek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rbaal: met woorden </a:t>
            </a: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35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Non verbaal: lichaamstaal </a:t>
            </a: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65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Gezichtsuitdrukk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Hou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Afst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Kle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Stemgebru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Gebare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Congruentie / Incongruenti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Congruentie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: verbale en non-verbale communicatie zijn met elkaar in overeenstemm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Incongruentie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: verbale en non-verbale communicatie zijn </a:t>
            </a: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niet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 met elkaar in overeenstemm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99640" y="2708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4" descr="http://1.bp.blogspot.com/_g_li2EAp8NA/TRDS8xq2OrI/AAAAAAAAAWA/mrqeaoxcc0M/s1600/emotional+stroop+stimuli.png"/>
          <p:cNvPicPr/>
          <p:nvPr/>
        </p:nvPicPr>
        <p:blipFill>
          <a:blip r:embed="rId1"/>
          <a:stretch/>
        </p:blipFill>
        <p:spPr>
          <a:xfrm>
            <a:off x="1395360" y="220680"/>
            <a:ext cx="6286680" cy="63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Afstand / ruimte tussen mensen = </a:t>
            </a:r>
            <a:br>
              <a:rPr sz="3600"/>
            </a:br>
            <a:r>
              <a:rPr b="1" lang="nl-NL" sz="3600" spc="-1" strike="noStrike">
                <a:solidFill>
                  <a:srgbClr val="000000"/>
                </a:solidFill>
                <a:latin typeface="Comic Sans MS"/>
              </a:rPr>
              <a:t>interpersoonlijke ruim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4" descr="face to face"/>
          <p:cNvPicPr/>
          <p:nvPr/>
        </p:nvPicPr>
        <p:blipFill>
          <a:blip r:embed="rId1"/>
          <a:stretch/>
        </p:blipFill>
        <p:spPr>
          <a:xfrm>
            <a:off x="1547640" y="1700280"/>
            <a:ext cx="576108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4360" y="907920"/>
            <a:ext cx="7696080" cy="52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Intieme zone: 0-0.5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omic Sans MS"/>
              </a:rPr>
              <a:t>Persoonlijke zone</a:t>
            </a: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: 0.5-1.25m. (vrienden en kennissen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omic Sans MS"/>
              </a:rPr>
              <a:t>Sociale zone</a:t>
            </a: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: 1.25-3m. (Zakelijk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Publieke zone: &gt; 3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0000"/>
                </a:solidFill>
                <a:latin typeface="Comic Sans MS"/>
              </a:rPr>
              <a:t>De afstand die mensen onderling aanhouden kan van grote invloed zijn op de kwaliteit van de communicati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Noem een voorbeeld bij de volgende zon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Intieme zo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Persoonlijke zone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Sociale zo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Publieke zo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ff0000"/>
                </a:solidFill>
                <a:latin typeface="Comic Sans MS"/>
              </a:rPr>
              <a:t>In welke interpersoonlijke ruimtes kan je het beste communiceren met een patiën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Factoren die het proces beïnvloed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ogcont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pen/ gesloten houd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Gebruik van stem, volumewissel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rzorgd uiterlij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Congruentie = verbale en non-verbale taal komen met elkaar overe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Les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Waarnemen en interpreter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Waarnemen en interpreteren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4" descr="schematischcommuniceren"/>
          <p:cNvPicPr/>
          <p:nvPr/>
        </p:nvPicPr>
        <p:blipFill>
          <a:blip r:embed="rId1"/>
          <a:stretch/>
        </p:blipFill>
        <p:spPr>
          <a:xfrm>
            <a:off x="2050920" y="1773360"/>
            <a:ext cx="5400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bjectief: gebaseerd op </a:t>
            </a: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feiten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, controleerbaar, meetbaa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Subjectief: je persoonlijke waarneming, gekleurd door je </a:t>
            </a: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men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Interpreteren: uitleg die de ontvanger geeft aan de boodschap van de zender &gt; doorvragen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Les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Communicer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7" descr="woman"/>
          <p:cNvPicPr/>
          <p:nvPr/>
        </p:nvPicPr>
        <p:blipFill>
          <a:blip r:embed="rId1"/>
          <a:stretch/>
        </p:blipFill>
        <p:spPr>
          <a:xfrm>
            <a:off x="2744640" y="476280"/>
            <a:ext cx="43992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Observeren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omic Sans MS"/>
              </a:rPr>
              <a:t>Bewust en doelgericht waarnem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Het moet objectief zijn. (Niet gekleurd door eigen mening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rvolgens: rapporteren &gt;      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schriftelijk / mondelin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Miscommunicati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omic Sans MS"/>
              </a:rPr>
              <a:t>Een boodschap heel anders bedoelen dan hoe het opgevat wordt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Door situatie, factoren aan kant van zender / ontvanger, relatie en inhoud gesprek.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98064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anuit de zender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nduidelijk, vaag verha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nsamenhange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nvolledi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incongru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Pas op voor misverstanden in de zorg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10920" y="980640"/>
            <a:ext cx="7770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anuit de ontvanger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normen en waarden, ervaring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roorzaken: “interne ruis” = waarneming wordt gekleurd door je eigen ervar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nl-NL" sz="3200" spc="-1" strike="noStrike">
                <a:solidFill>
                  <a:srgbClr val="000000"/>
                </a:solidFill>
                <a:latin typeface="Comic Sans MS"/>
              </a:rPr>
              <a:t>Referentiekader = uit het communicatiegedrag kun je iemands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i="1" lang="nl-NL" sz="3200" spc="-1" strike="noStrike">
                <a:solidFill>
                  <a:srgbClr val="000000"/>
                </a:solidFill>
                <a:latin typeface="Comic Sans MS"/>
              </a:rPr>
              <a:t>achtergrond opmak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258560" y="333360"/>
            <a:ext cx="77691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Voorbeelden die aangeven waardoor onze waarneming gekleurd worde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1 Uitgaan van onvolledige informati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2 Niet de tijd nemen om te luister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3 Vooroordel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4 Projecti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5 Generaliser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6 Emotionele betrokkenhe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7 Stereotyper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8 Gevoelens en emo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9 Verdring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10 Motivati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Comic Sans MS"/>
              </a:rPr>
              <a:t>Geef hier een omschrijving van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Les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De relatie tussen zender en ontvang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4360" y="2491920"/>
            <a:ext cx="769608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Wie iets zegt of vraagt, klasgenoot of docent. </a:t>
            </a: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Wat maakt het verschil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omic Sans MS"/>
              </a:rPr>
              <a:t>De relatie tussen personen kan belangrijker zijn dan de boodschap. </a:t>
            </a: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Waarom is dat zo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Inhoud van de boodscha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204640"/>
            <a:ext cx="7696080" cy="32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Informatie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Sociaal praatj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Werkopdrac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Slecht” nieuw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omic Sans MS"/>
              </a:rPr>
              <a:t>De manier waarop is doorslaggevend. </a:t>
            </a: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Wat bedoel ik hierme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7" name="Picture 4" descr="http://www.kaartje2go.nl/kaarten/oekie-baan---eerste-indruk/img/oekie-baan---eerste-indruk.jpg"/>
          <p:cNvPicPr/>
          <p:nvPr/>
        </p:nvPicPr>
        <p:blipFill>
          <a:blip r:embed="rId1"/>
          <a:stretch/>
        </p:blipFill>
        <p:spPr>
          <a:xfrm>
            <a:off x="1332000" y="907920"/>
            <a:ext cx="634680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Communicati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9185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i="1" lang="nl-NL" sz="3200" spc="-1" strike="noStrike">
                <a:solidFill>
                  <a:srgbClr val="000000"/>
                </a:solidFill>
                <a:latin typeface="Comic Sans MS"/>
              </a:rPr>
              <a:t>Informatie overbrengen van de ene naar de andere persoon’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Pas op! Omdat je nooit precies weet hoe een gesprek gaat verlopen of hoe een ander zou reageren, is het belangrijk inzicht te hebben in het communicatieproc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Het leggen van contact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Begroet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Aankijk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Aandacht geve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Uitleggen waar je mee bezig b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Na beëindigen werkzaamheden, aandacht op patiënt richte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Het gespre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De eerste indru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Waarneme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Interacti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Het leggen van cont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ruis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696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omic Sans MS"/>
              </a:rPr>
              <a:t>Binnen enkele minuten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Comic Sans MS"/>
              </a:rPr>
              <a:t>'Ik loop naar beneden, geef een hand, we nemen de lift naar boven, we babbelen of het gemakkelijk te vinden was, en dan weet ik het al.'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Deze uitspraak hoorde Roos Vonk, hoogleraar psychologie aan de Katholieke Universiteit Brabant, van iemand tijdens een van haar vele onderzoeken naar 'de eerste indruk'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Het is hard maar wáár: meestal hebben personeelswervers hun beslissing over een kandidaat al binnen een paar minuten genomen. De onderzoeken naar persoonswaarneming van Vonk wijzen het uit: </a:t>
            </a:r>
            <a:r>
              <a:rPr b="0" lang="nl-NL" sz="2400" spc="-1" strike="noStrike">
                <a:solidFill>
                  <a:srgbClr val="ff0000"/>
                </a:solidFill>
                <a:latin typeface="Comic Sans MS"/>
              </a:rPr>
              <a:t>tijdens de eerste minuten van een kennismaking, wordt de mening over iemand voor het grootste deel al gevormd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Gesprekstechniek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Jong en oud, man en vrouw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Geduldig, ongeduldig, vriendelijk, boos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el verwachtingen of juist geen.. Voorgeschiedenis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Met wie je ook in gesprek bent, denk aan de gesprekstechnieken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Elk gesprek heeft 3 fase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Midd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Ei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Beginfa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Goede sfe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Stel de tijd va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Doelen en verwachtingen uitsprek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Taalgebruik afstemm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Niveau ‘vakjargon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Middenfa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Actief luisteren, vragen stellen, samenvatt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Controleer of iemand het kan volg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Controleer hoe het gesprek ervoor sta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Eindfa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Doel behaal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rwachtingen voldaa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Geef een korte samenvat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rvolgafspraak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Actief luister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0000"/>
                </a:solidFill>
                <a:latin typeface="Comic Sans MS"/>
              </a:rPr>
              <a:t>Door te luisteren, door te proberen de gedachtegang van een ander te volgen, wordt de situatie voor beiden duidelijker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Iemand die luistert, stimuleert je tot verder vertellen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Hoe laat je merken dat je luister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De tijd nem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Elkaar aankijk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Houding. ‘Echt voor gaan zitten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Knikken of ‘ja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Verduidelijking vrag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Samenvatt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Gevoelens benoem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Op non-verbale houding lett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Tijd en ruimte gev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Niet subjectief inkleur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15570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Waarom is het zo belangrijk om goed te communiceren in de gezondheidszorg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3213000"/>
            <a:ext cx="7704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rtrouwensrelatie opbouw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Je begrijpt van elkaar wat je bedoel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Geldt niet alleen voor patiënten, maar ook voor de contacten met collega’s en werkgev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Open en gesloten vrag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Gesloten vragen zijn vragen waarop je </a:t>
            </a: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ja of nee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, misschien kunt antwoord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pen vragen beginnen vaak met </a:t>
            </a: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wat, hoe, welke  of wi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Kijken uit met suggestieve vragen. Waarom is di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Functies van samenvatt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Controle voor jezel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Je moet goed luister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rdening in verhaal: hoofdzaa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Terug horen van eigen verha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Actief luisteren toepass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Gespreksvor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oorlichtingsgespr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Adviesgespr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Slechtnieuwsgespr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Feedbac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Soorten gesprekke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2770200" y="1828800"/>
            <a:ext cx="3527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Opdracht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Welke soorten gesprekken kan je benoeme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Mogelijke antwoorde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Intakegespr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oorlichtingsgespr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Adviesgespr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Slechtnieuwsgespr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Functioneringsgespr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Beoordelingsgespr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Intakegespre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Tri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Anamne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Comic Sans MS"/>
              </a:rPr>
              <a:t>Oriënterend gesprek tussen patiënt en doktersassistente, waarin op een zo eenduidige en objectief mogelijke wijze informatie verzameld wordt om vervolgens zo goed mogelijk conclusies te kunnen trekke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Voorlichting gev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Kennisvermeerdering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omic Sans MS"/>
              </a:rPr>
              <a:t>uitleg koor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Houdingsverandering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omic Sans MS"/>
              </a:rPr>
              <a:t>ziekte accepter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Gedragsverandering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omic Sans MS"/>
              </a:rPr>
              <a:t>stoppen met rok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Voorlichtingsgespre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5 voorlichtingsstappe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Opensta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Begríjp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Will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Kunne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Blijven doe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Adviesgespre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oorfase: </a:t>
            </a: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waar gaat het ove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Probleemverheldering: </a:t>
            </a: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actief luister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Probleem herdefiniëring: </a:t>
            </a: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samenvatting en inzicht gev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Probleemoplossing</a:t>
            </a: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. Advie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Communicatiepro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Uitwisseling van verbale en non-verbale informatie tussen mens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omic Sans MS"/>
              </a:rPr>
              <a:t>Deels bewust, deel onbewust ontvangen en interpreter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Slechtnieuwsgespre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Fase 1: </a:t>
            </a:r>
            <a:r>
              <a:rPr b="1" lang="nl-NL" sz="3200" spc="-1" strike="noStrike">
                <a:solidFill>
                  <a:srgbClr val="ff0000"/>
                </a:solidFill>
                <a:latin typeface="Comic Sans MS"/>
              </a:rPr>
              <a:t>Direct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 mededelen van slecht nieuw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Fase 2: Volg de ander in zijn reactie: </a:t>
            </a:r>
            <a:r>
              <a:rPr b="1" lang="nl-NL" sz="3200" spc="-1" strike="noStrike">
                <a:solidFill>
                  <a:srgbClr val="ff0000"/>
                </a:solidFill>
                <a:latin typeface="Comic Sans MS"/>
              </a:rPr>
              <a:t>emot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Fase 3: Zoeken naar een oplossing. </a:t>
            </a:r>
            <a:r>
              <a:rPr b="1" lang="nl-NL" sz="3200" spc="-1" strike="noStrike">
                <a:solidFill>
                  <a:srgbClr val="ff0000"/>
                </a:solidFill>
                <a:latin typeface="Comic Sans MS"/>
              </a:rPr>
              <a:t>Waar heeft u behoefte aa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Feedbac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rschillende maniere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Bewust/onbewust, verbaal/non verbaal, uit jezelf/op verzo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Comic Sans MS"/>
              </a:rPr>
              <a:t>Positief gedrag stimuler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Comic Sans MS"/>
              </a:rPr>
              <a:t>Negatief gedrag corriger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Comic Sans MS"/>
              </a:rPr>
              <a:t>Relatie tussen mensen verduidelijk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Belangrijk bij geven van feedbac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Beschrijf concreet gedra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mic Sans MS"/>
              </a:rPr>
              <a:t>Gebruik ik-boodsch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Zo snel mogelijk gev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Over gedrag dat iemand kan aanpass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Niet teveel feedback in een ke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Neem de tij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Zorg dat de ander ruimte heeft om te reager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De wijze waaro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Je eigen houd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Dring je informatie niet o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756108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836640"/>
            <a:ext cx="769608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rije ruimte: gedrag van onszelf dat wij en anderen goed kenn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Blinde vlek: Gedragingen die anderen wel waarnemen, jij niet bewust van be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rborgen gebied: je weet het van jezelf, anderen weten het nie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nbekende zelf: Bij jou en anderen niet beken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Film gesprekstechnieke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s://www.youtube.com/watch?v=a4W1VkwlbJ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0"/>
          <p:cNvSpPr/>
          <p:nvPr/>
        </p:nvSpPr>
        <p:spPr>
          <a:xfrm>
            <a:off x="1187280" y="1149480"/>
            <a:ext cx="10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31"/>
          <p:cNvSpPr/>
          <p:nvPr/>
        </p:nvSpPr>
        <p:spPr>
          <a:xfrm>
            <a:off x="971640" y="1052640"/>
            <a:ext cx="1584360" cy="398880"/>
          </a:xfrm>
          <a:prstGeom prst="rect">
            <a:avLst/>
          </a:prstGeom>
          <a:solidFill>
            <a:srgbClr val="ffe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zen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33"/>
          <p:cNvSpPr/>
          <p:nvPr/>
        </p:nvSpPr>
        <p:spPr>
          <a:xfrm>
            <a:off x="3708360" y="1052640"/>
            <a:ext cx="1584360" cy="368280"/>
          </a:xfrm>
          <a:prstGeom prst="rect">
            <a:avLst/>
          </a:prstGeom>
          <a:solidFill>
            <a:srgbClr val="00b2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mic Sans MS"/>
              </a:rPr>
              <a:t>boodscha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34"/>
          <p:cNvSpPr/>
          <p:nvPr/>
        </p:nvSpPr>
        <p:spPr>
          <a:xfrm>
            <a:off x="6372360" y="981000"/>
            <a:ext cx="1584360" cy="398880"/>
          </a:xfrm>
          <a:prstGeom prst="rect">
            <a:avLst/>
          </a:prstGeom>
          <a:solidFill>
            <a:srgbClr val="ffe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ontvang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35"/>
          <p:cNvSpPr/>
          <p:nvPr/>
        </p:nvSpPr>
        <p:spPr>
          <a:xfrm>
            <a:off x="6516720" y="1916280"/>
            <a:ext cx="1584360" cy="368280"/>
          </a:xfrm>
          <a:prstGeom prst="rect">
            <a:avLst/>
          </a:prstGeom>
          <a:solidFill>
            <a:srgbClr val="80dce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mic Sans MS"/>
              </a:rPr>
              <a:t>waarnem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36"/>
          <p:cNvSpPr/>
          <p:nvPr/>
        </p:nvSpPr>
        <p:spPr>
          <a:xfrm>
            <a:off x="6300720" y="2924280"/>
            <a:ext cx="1873440" cy="368280"/>
          </a:xfrm>
          <a:prstGeom prst="rect">
            <a:avLst/>
          </a:prstGeom>
          <a:solidFill>
            <a:srgbClr val="80dce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mic Sans MS"/>
              </a:rPr>
              <a:t>interpreter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37"/>
          <p:cNvSpPr/>
          <p:nvPr/>
        </p:nvSpPr>
        <p:spPr>
          <a:xfrm>
            <a:off x="6516720" y="5084640"/>
            <a:ext cx="1584360" cy="398880"/>
          </a:xfrm>
          <a:prstGeom prst="rect">
            <a:avLst/>
          </a:prstGeom>
          <a:solidFill>
            <a:srgbClr val="ffe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zen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40"/>
          <p:cNvSpPr/>
          <p:nvPr/>
        </p:nvSpPr>
        <p:spPr>
          <a:xfrm>
            <a:off x="6156360" y="3933720"/>
            <a:ext cx="2232000" cy="368280"/>
          </a:xfrm>
          <a:prstGeom prst="rect">
            <a:avLst/>
          </a:prstGeom>
          <a:solidFill>
            <a:srgbClr val="80dce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mic Sans MS"/>
              </a:rPr>
              <a:t>Keuze van gedra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42"/>
          <p:cNvSpPr/>
          <p:nvPr/>
        </p:nvSpPr>
        <p:spPr>
          <a:xfrm>
            <a:off x="3780000" y="5157720"/>
            <a:ext cx="1584000" cy="368280"/>
          </a:xfrm>
          <a:prstGeom prst="rect">
            <a:avLst/>
          </a:prstGeom>
          <a:solidFill>
            <a:srgbClr val="00b2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mic Sans MS"/>
              </a:rPr>
              <a:t>boodscha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43"/>
          <p:cNvSpPr/>
          <p:nvPr/>
        </p:nvSpPr>
        <p:spPr>
          <a:xfrm>
            <a:off x="1116000" y="5229360"/>
            <a:ext cx="1584360" cy="398880"/>
          </a:xfrm>
          <a:prstGeom prst="rect">
            <a:avLst/>
          </a:prstGeom>
          <a:solidFill>
            <a:srgbClr val="ffe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ontvang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44"/>
          <p:cNvSpPr/>
          <p:nvPr/>
        </p:nvSpPr>
        <p:spPr>
          <a:xfrm>
            <a:off x="7164360" y="141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45"/>
          <p:cNvSpPr/>
          <p:nvPr/>
        </p:nvSpPr>
        <p:spPr>
          <a:xfrm>
            <a:off x="7164360" y="227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46"/>
          <p:cNvSpPr/>
          <p:nvPr/>
        </p:nvSpPr>
        <p:spPr>
          <a:xfrm>
            <a:off x="716436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47"/>
          <p:cNvSpPr/>
          <p:nvPr/>
        </p:nvSpPr>
        <p:spPr>
          <a:xfrm>
            <a:off x="7236000" y="436572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Line 48"/>
          <p:cNvSpPr/>
          <p:nvPr/>
        </p:nvSpPr>
        <p:spPr>
          <a:xfrm flipH="1">
            <a:off x="5364000" y="5373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49"/>
          <p:cNvSpPr/>
          <p:nvPr/>
        </p:nvSpPr>
        <p:spPr>
          <a:xfrm>
            <a:off x="5292720" y="1197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50"/>
          <p:cNvSpPr/>
          <p:nvPr/>
        </p:nvSpPr>
        <p:spPr>
          <a:xfrm>
            <a:off x="2556000" y="1268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52"/>
          <p:cNvSpPr/>
          <p:nvPr/>
        </p:nvSpPr>
        <p:spPr>
          <a:xfrm flipH="1">
            <a:off x="2700000" y="537372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53"/>
          <p:cNvSpPr/>
          <p:nvPr/>
        </p:nvSpPr>
        <p:spPr>
          <a:xfrm>
            <a:off x="1042920" y="4221000"/>
            <a:ext cx="1584360" cy="368280"/>
          </a:xfrm>
          <a:prstGeom prst="rect">
            <a:avLst/>
          </a:prstGeom>
          <a:solidFill>
            <a:srgbClr val="80dce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mic Sans MS"/>
              </a:rPr>
              <a:t>waarnem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54"/>
          <p:cNvSpPr/>
          <p:nvPr/>
        </p:nvSpPr>
        <p:spPr>
          <a:xfrm>
            <a:off x="971640" y="3284640"/>
            <a:ext cx="1873080" cy="368280"/>
          </a:xfrm>
          <a:prstGeom prst="rect">
            <a:avLst/>
          </a:prstGeom>
          <a:solidFill>
            <a:srgbClr val="80dce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mic Sans MS"/>
              </a:rPr>
              <a:t>interpreter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55"/>
          <p:cNvSpPr/>
          <p:nvPr/>
        </p:nvSpPr>
        <p:spPr>
          <a:xfrm>
            <a:off x="755640" y="2276640"/>
            <a:ext cx="2232000" cy="368280"/>
          </a:xfrm>
          <a:prstGeom prst="rect">
            <a:avLst/>
          </a:prstGeom>
          <a:solidFill>
            <a:srgbClr val="80dce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mic Sans MS"/>
              </a:rPr>
              <a:t>Keuze van gedra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56"/>
          <p:cNvSpPr/>
          <p:nvPr/>
        </p:nvSpPr>
        <p:spPr>
          <a:xfrm flipV="1">
            <a:off x="1835280" y="458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57"/>
          <p:cNvSpPr/>
          <p:nvPr/>
        </p:nvSpPr>
        <p:spPr>
          <a:xfrm flipV="1">
            <a:off x="1763640" y="3645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59"/>
          <p:cNvSpPr/>
          <p:nvPr/>
        </p:nvSpPr>
        <p:spPr>
          <a:xfrm flipV="1">
            <a:off x="1763640" y="263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60"/>
          <p:cNvSpPr/>
          <p:nvPr/>
        </p:nvSpPr>
        <p:spPr>
          <a:xfrm flipV="1">
            <a:off x="1763640" y="14839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Communicatievor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Mondel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Schriftelij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Digita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Med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Benoem een voordeel en nadeel van bovenstaande communicatievorm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Communicatie vor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Mondeling: V: persoonlijk karakter, tweezijdige comm, direct. N: niet altijd begrep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Schriftelijk: V: veel info verspreiden, nauwkeurig, bewaren. N:directe reactie ontbreekt, onpersoonlijk.  Eenzijdige com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Digitaal: V: mail, website met info. N: eenzijdige comm. Klopt de gevonden info altij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Media: V: krant, tv, radio. Veel info. N: eenzijdige comm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Stelling: klopt di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omic Sans MS"/>
              </a:rPr>
              <a:t>Niet-communiceren in aanwezigheid van anderen is niet mogelij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8:09:35Z</dcterms:created>
  <dc:creator>Martin Pas</dc:creator>
  <dc:description/>
  <dc:language>en-US</dc:language>
  <cp:lastModifiedBy>Annelies de Groot</cp:lastModifiedBy>
  <dcterms:modified xsi:type="dcterms:W3CDTF">2020-11-12T10:18:31Z</dcterms:modified>
  <cp:revision>45</cp:revision>
  <dc:subject/>
  <dc:title>Hoofdstuk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7E6CDA9E82A08449E9D14AE24C88F02</vt:lpwstr>
  </property>
</Properties>
</file>