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DB29E-9E7D-4A92-BEA9-12C7749D2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C6AF-390C-431B-91BE-5E50406A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1A4C4-21DB-47EF-BF4A-FCBBFBB91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B577E-BE7D-41C1-A8AA-2DD2C97E2A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7D180-27B1-4115-96A1-117308841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6CDB9-A4F6-440D-ABE8-AC8A60FF5F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C7BD4-5ED8-4A99-BE68-B233F4AC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44172-7492-42CC-8429-E6AC452FA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C1E67-B7AD-4D1E-86BD-30737ACBD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A41FA-D5F6-4F65-B526-8BF3C6CAE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F37F-E979-40B9-8CC6-27BA5B46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EF894-665A-4331-8481-D059EEB1C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319BF-EB7E-4148-B36D-A630B8325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F0E7D9-AABE-4B5C-B11F-E0B246310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B7FE7-27FA-434C-A98E-6B70C6669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DA9E62-A467-4DBB-ADD4-5503C44EC9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8571F5-F1C6-442D-ADAF-ADC8732C5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3A57-89D7-4113-935B-180192664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48DFD-B768-441A-977C-DE7E93AEE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42C4E-8A5F-4778-B387-AC7490B7A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6A16-9782-4A21-9618-2A8282EFE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70D84-B9E0-4E8E-BE48-4653D5AEB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5A3BF-C642-4DD5-A52F-7078912D5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93B2-62BC-4ADA-BCAA-DFC85754A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839080" cy="6858000"/>
            <a:chOff x="0" y="0"/>
            <a:chExt cx="883908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5105160" cy="4876560"/>
              <a:chOff x="0" y="0"/>
              <a:chExt cx="5105160" cy="4876560"/>
            </a:xfrm>
          </p:grpSpPr>
          <p:sp>
            <p:nvSpPr>
              <p:cNvPr id="2" name="Oval 4"/>
              <p:cNvSpPr/>
              <p:nvPr/>
            </p:nvSpPr>
            <p:spPr>
              <a:xfrm>
                <a:off x="0" y="0"/>
                <a:ext cx="5105160" cy="4876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" name="Oval 5"/>
              <p:cNvSpPr/>
              <p:nvPr/>
            </p:nvSpPr>
            <p:spPr>
              <a:xfrm>
                <a:off x="418320" y="420120"/>
                <a:ext cx="4266720" cy="4035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Oval 6"/>
              <p:cNvSpPr/>
              <p:nvPr/>
            </p:nvSpPr>
            <p:spPr>
              <a:xfrm>
                <a:off x="837000" y="840600"/>
                <a:ext cx="3431160" cy="31932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1255320" y="1261080"/>
                <a:ext cx="2594520" cy="23558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1590120" y="1597680"/>
                <a:ext cx="1923120" cy="16830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7" name="Group 9"/>
            <p:cNvGrpSpPr/>
            <p:nvPr/>
          </p:nvGrpSpPr>
          <p:grpSpPr>
            <a:xfrm>
              <a:off x="3200400" y="3200400"/>
              <a:ext cx="3886200" cy="3657600"/>
              <a:chOff x="3200400" y="3200400"/>
              <a:chExt cx="3886200" cy="3657600"/>
            </a:xfrm>
          </p:grpSpPr>
          <p:sp>
            <p:nvSpPr>
              <p:cNvPr id="8" name="Oval 10"/>
              <p:cNvSpPr/>
              <p:nvPr/>
            </p:nvSpPr>
            <p:spPr>
              <a:xfrm>
                <a:off x="3200400" y="3200400"/>
                <a:ext cx="3886200" cy="36576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Oval 11"/>
              <p:cNvSpPr/>
              <p:nvPr/>
            </p:nvSpPr>
            <p:spPr>
              <a:xfrm>
                <a:off x="3518640" y="3515400"/>
                <a:ext cx="3247560" cy="30254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Oval 12"/>
              <p:cNvSpPr/>
              <p:nvPr/>
            </p:nvSpPr>
            <p:spPr>
              <a:xfrm>
                <a:off x="3837240" y="3830760"/>
                <a:ext cx="2612880" cy="23972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Oval 13"/>
              <p:cNvSpPr/>
              <p:nvPr/>
            </p:nvSpPr>
            <p:spPr>
              <a:xfrm>
                <a:off x="4155840" y="4146120"/>
                <a:ext cx="1974960" cy="1765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Oval 14"/>
              <p:cNvSpPr/>
              <p:nvPr/>
            </p:nvSpPr>
            <p:spPr>
              <a:xfrm>
                <a:off x="4409280" y="4398480"/>
                <a:ext cx="1466640" cy="125964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" name="Group 15"/>
            <p:cNvGrpSpPr/>
            <p:nvPr/>
          </p:nvGrpSpPr>
          <p:grpSpPr>
            <a:xfrm>
              <a:off x="4495680" y="152280"/>
              <a:ext cx="4343400" cy="4114800"/>
              <a:chOff x="4495680" y="152280"/>
              <a:chExt cx="4343400" cy="4114800"/>
            </a:xfrm>
          </p:grpSpPr>
          <p:sp>
            <p:nvSpPr>
              <p:cNvPr id="14" name="Oval 16"/>
              <p:cNvSpPr/>
              <p:nvPr/>
            </p:nvSpPr>
            <p:spPr>
              <a:xfrm>
                <a:off x="4495680" y="152280"/>
                <a:ext cx="4343400" cy="41148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Oval 17"/>
              <p:cNvSpPr/>
              <p:nvPr/>
            </p:nvSpPr>
            <p:spPr>
              <a:xfrm>
                <a:off x="4851360" y="506880"/>
                <a:ext cx="3632760" cy="3406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Oval 18"/>
              <p:cNvSpPr/>
              <p:nvPr/>
            </p:nvSpPr>
            <p:spPr>
              <a:xfrm>
                <a:off x="5208840" y="861480"/>
                <a:ext cx="2917800" cy="269568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5563440" y="1216080"/>
                <a:ext cx="2207160" cy="198756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5848560" y="1500120"/>
                <a:ext cx="1637280" cy="1418400"/>
              </a:xfrm>
              <a:prstGeom prst="ellipse">
                <a:avLst/>
              </a:prstGeom>
              <a:noFill/>
              <a:ln w="9360">
                <a:solidFill>
                  <a:srgbClr val="fe8637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748D11-0D1A-47C5-84AE-9714BF658D81}" type="datetime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2C0C3-B2C9-41DF-A4C4-7D0360D08234}" type="slidenum">
              <a:rPr b="1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50000">
              <a:srgbClr val="575f6d"/>
            </a:gs>
            <a:gs pos="100000">
              <a:srgbClr val="0000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Group 2"/>
          <p:cNvGrpSpPr/>
          <p:nvPr/>
        </p:nvGrpSpPr>
        <p:grpSpPr>
          <a:xfrm>
            <a:off x="-360" y="0"/>
            <a:ext cx="9144360" cy="6858000"/>
            <a:chOff x="-360" y="0"/>
            <a:chExt cx="9144360" cy="6858000"/>
          </a:xfrm>
        </p:grpSpPr>
        <p:grpSp>
          <p:nvGrpSpPr>
            <p:cNvPr id="61" name="Group 3"/>
            <p:cNvGrpSpPr/>
            <p:nvPr/>
          </p:nvGrpSpPr>
          <p:grpSpPr>
            <a:xfrm>
              <a:off x="0" y="0"/>
              <a:ext cx="8839080" cy="6858000"/>
              <a:chOff x="0" y="0"/>
              <a:chExt cx="8839080" cy="6858000"/>
            </a:xfrm>
          </p:grpSpPr>
          <p:grpSp>
            <p:nvGrpSpPr>
              <p:cNvPr id="62" name="Group 4"/>
              <p:cNvGrpSpPr/>
              <p:nvPr/>
            </p:nvGrpSpPr>
            <p:grpSpPr>
              <a:xfrm>
                <a:off x="0" y="0"/>
                <a:ext cx="5105160" cy="4876560"/>
                <a:chOff x="0" y="0"/>
                <a:chExt cx="5105160" cy="4876560"/>
              </a:xfrm>
            </p:grpSpPr>
            <p:sp>
              <p:nvSpPr>
                <p:cNvPr id="63" name="Oval 5"/>
                <p:cNvSpPr/>
                <p:nvPr/>
              </p:nvSpPr>
              <p:spPr>
                <a:xfrm>
                  <a:off x="0" y="0"/>
                  <a:ext cx="5105160" cy="4876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Oval 6"/>
                <p:cNvSpPr/>
                <p:nvPr/>
              </p:nvSpPr>
              <p:spPr>
                <a:xfrm>
                  <a:off x="418320" y="420120"/>
                  <a:ext cx="4266720" cy="4035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Oval 7"/>
                <p:cNvSpPr/>
                <p:nvPr/>
              </p:nvSpPr>
              <p:spPr>
                <a:xfrm>
                  <a:off x="837000" y="840600"/>
                  <a:ext cx="3431160" cy="31932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Oval 8"/>
                <p:cNvSpPr/>
                <p:nvPr/>
              </p:nvSpPr>
              <p:spPr>
                <a:xfrm>
                  <a:off x="1255320" y="1261080"/>
                  <a:ext cx="2594520" cy="23558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Oval 9"/>
                <p:cNvSpPr/>
                <p:nvPr/>
              </p:nvSpPr>
              <p:spPr>
                <a:xfrm>
                  <a:off x="1590120" y="1597680"/>
                  <a:ext cx="1923120" cy="16830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" name="Group 10"/>
              <p:cNvGrpSpPr/>
              <p:nvPr/>
            </p:nvGrpSpPr>
            <p:grpSpPr>
              <a:xfrm>
                <a:off x="3200400" y="3200400"/>
                <a:ext cx="3886200" cy="3657600"/>
                <a:chOff x="3200400" y="3200400"/>
                <a:chExt cx="3886200" cy="3657600"/>
              </a:xfrm>
            </p:grpSpPr>
            <p:sp>
              <p:nvSpPr>
                <p:cNvPr id="69" name="Oval 11"/>
                <p:cNvSpPr/>
                <p:nvPr/>
              </p:nvSpPr>
              <p:spPr>
                <a:xfrm>
                  <a:off x="3200400" y="3200400"/>
                  <a:ext cx="3886200" cy="36576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0" name="Oval 12"/>
                <p:cNvSpPr/>
                <p:nvPr/>
              </p:nvSpPr>
              <p:spPr>
                <a:xfrm>
                  <a:off x="3518640" y="3515400"/>
                  <a:ext cx="3247560" cy="30254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1" name="Oval 13"/>
                <p:cNvSpPr/>
                <p:nvPr/>
              </p:nvSpPr>
              <p:spPr>
                <a:xfrm>
                  <a:off x="3837240" y="3830760"/>
                  <a:ext cx="2612880" cy="23972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2" name="Oval 14"/>
                <p:cNvSpPr/>
                <p:nvPr/>
              </p:nvSpPr>
              <p:spPr>
                <a:xfrm>
                  <a:off x="4155840" y="4146120"/>
                  <a:ext cx="1974960" cy="1765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3" name="Oval 15"/>
                <p:cNvSpPr/>
                <p:nvPr/>
              </p:nvSpPr>
              <p:spPr>
                <a:xfrm>
                  <a:off x="4409280" y="4398480"/>
                  <a:ext cx="1466640" cy="125964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74" name="Group 16"/>
              <p:cNvGrpSpPr/>
              <p:nvPr/>
            </p:nvGrpSpPr>
            <p:grpSpPr>
              <a:xfrm>
                <a:off x="4495680" y="152280"/>
                <a:ext cx="4343400" cy="4114800"/>
                <a:chOff x="4495680" y="152280"/>
                <a:chExt cx="4343400" cy="4114800"/>
              </a:xfrm>
            </p:grpSpPr>
            <p:sp>
              <p:nvSpPr>
                <p:cNvPr id="75" name="Oval 17"/>
                <p:cNvSpPr/>
                <p:nvPr/>
              </p:nvSpPr>
              <p:spPr>
                <a:xfrm>
                  <a:off x="4495680" y="152280"/>
                  <a:ext cx="4343400" cy="41148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6" name="Oval 18"/>
                <p:cNvSpPr/>
                <p:nvPr/>
              </p:nvSpPr>
              <p:spPr>
                <a:xfrm>
                  <a:off x="4851360" y="506880"/>
                  <a:ext cx="3632760" cy="3406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7" name="Oval 19"/>
                <p:cNvSpPr/>
                <p:nvPr/>
              </p:nvSpPr>
              <p:spPr>
                <a:xfrm>
                  <a:off x="5208840" y="861480"/>
                  <a:ext cx="2917800" cy="269568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8" name="Oval 20"/>
                <p:cNvSpPr/>
                <p:nvPr/>
              </p:nvSpPr>
              <p:spPr>
                <a:xfrm>
                  <a:off x="5563440" y="1216080"/>
                  <a:ext cx="2207160" cy="198756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79" name="Oval 21"/>
                <p:cNvSpPr/>
                <p:nvPr/>
              </p:nvSpPr>
              <p:spPr>
                <a:xfrm>
                  <a:off x="5848560" y="1500120"/>
                  <a:ext cx="1637280" cy="1418400"/>
                </a:xfrm>
                <a:prstGeom prst="ellipse">
                  <a:avLst/>
                </a:prstGeom>
                <a:noFill/>
                <a:ln w="9360">
                  <a:solidFill>
                    <a:srgbClr val="fe8637"/>
                  </a:solidFill>
                  <a:prstDash val="sysDot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80" name="Line 22"/>
            <p:cNvSpPr/>
            <p:nvPr/>
          </p:nvSpPr>
          <p:spPr>
            <a:xfrm flipH="1">
              <a:off x="-360" y="2438280"/>
              <a:ext cx="2514600" cy="34290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Line 23"/>
            <p:cNvSpPr/>
            <p:nvPr/>
          </p:nvSpPr>
          <p:spPr>
            <a:xfrm>
              <a:off x="6629400" y="2209680"/>
              <a:ext cx="2514600" cy="2743200"/>
            </a:xfrm>
            <a:prstGeom prst="line">
              <a:avLst/>
            </a:prstGeom>
            <a:ln w="9360">
              <a:solidFill>
                <a:srgbClr val="fe863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Line 24"/>
            <p:cNvSpPr/>
            <p:nvPr/>
          </p:nvSpPr>
          <p:spPr>
            <a:xfrm flipV="1">
              <a:off x="5105520" y="0"/>
              <a:ext cx="380880" cy="4952880"/>
            </a:xfrm>
            <a:prstGeom prst="line">
              <a:avLst/>
            </a:prstGeom>
            <a:ln w="9360">
              <a:solidFill>
                <a:srgbClr val="fe863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39d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d2611c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FD9C9-90E3-4CC9-BDFD-E58F3CA6E86E}" type="datetime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6E770-A104-4833-B29B-77D7AD4C785D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35AEA-C531-47AB-89B1-7B181EF38FF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4DDB5-406B-49DB-8D2B-4DD56C7E13A3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1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Feedback H3, blz 115 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s informatie van iemand over de effecten van het gedrag van een andere persoon op hem of ha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waarnem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Terugkoppelen van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ijdelijke aanduiding voor datum 1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96D2-EC98-4820-8675-57EA41F99B5B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Tijdelijke aanduiding voor dianummer 2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84BFCF-D58E-4643-8789-EB01EE72FF3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2" name="Picture 4" descr="C:\Users\kag.hoogeveen\OneDrive - Noorderpoort\Pictures\Pictures\images.png"/>
          <p:cNvPicPr/>
          <p:nvPr/>
        </p:nvPicPr>
        <p:blipFill>
          <a:blip r:embed="rId1"/>
          <a:stretch/>
        </p:blipFill>
        <p:spPr>
          <a:xfrm>
            <a:off x="3348000" y="1341360"/>
            <a:ext cx="4032360" cy="45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A26412-AA31-4511-ADAA-4E2989D222FD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C5ECE-586E-40DA-AFDA-43FC96BADED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schil feedback en kritie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is be- of veroordele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is beschrijven van waarneming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wijst schuldige aa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 geeft geen oorde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Kritiek eist gedragsverander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Feedback geeft keuzemogelijkhei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1A764-A39A-4306-A889-CA14C5F15ED1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2CF68-59E5-46B1-A0C4-7C2E59E588E7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Regels voor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een ik-boodscha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je waarneming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het effect dat het op jou heef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ees specifiek in tijd, plaats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lak na het voorv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14130-94F6-4037-B873-9073274A61C7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2767D-67F5-4FE7-89D4-4677CDCFDC3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regels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Beschrijf alleen veranderbaar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de ander ruimte voor reac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Iemand hoeft het niet met je eens te zij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iet te veel ineens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B428FE-C68B-4EE3-9E01-955324BA00F5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69E09-EFC8-460A-B86E-2014287FD0E9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duidelijkt relaties tussen person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eef je inzicht i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e met mensen omgaa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3b435b"/>
              </a:buClr>
              <a:buSzPct val="110000"/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oe jij op mensen overkom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F1346-8063-433D-BF2B-D4E0ED32822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B7BEE-9D4C-4A71-81F5-8BD0AA788A76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 doel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groot je zelfkenni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Ondersteunt en bevordert positief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Corrigeert negatief of ongewenst gedra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raagt bij aan effectieve communicati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E7300-FA88-49E7-B24C-E979E0990B53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602B2-48C2-490B-B962-9FCAAA666378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ntvangen van feedback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1.lui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2 Vat sam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3. Waardeer/beoordeel wat is gezeg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er over na!!!!!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0A63E-A504-4FCE-8CC0-E11D1D242BB2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F15E1-406A-4FD1-AFA7-8DED4CB54211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Vervolg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Pas je gedrag aan of nie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Ga niet in de verdedig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Tijdelijke aanduiding voor datum 3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9F558-90DA-4B7C-9BC6-2B11559677FC}" type="datetime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28-07-26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ijdelijke aanduiding voor dianummer 5"/>
          <p:cNvSpPr/>
          <p:nvPr/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08BE-C767-4B2F-A191-D96BC9BA7AA0}" type="slidenum">
              <a:rPr b="1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Denk na over een conflict(je) dat je had met je ouders/vrienden/stag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Hoe verliep het conflic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Noteer hoe je het volgens de feedback regels beter had kunnen oplosse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7598d9"/>
              </a:buClr>
              <a:buSzPct val="11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Vertel dit aan de klas/groepj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f39d"/>
                </a:solidFill>
                <a:latin typeface="Times New Roman"/>
              </a:rPr>
              <a:t>Opdracht</a:t>
            </a:r>
            <a:endParaRPr b="0" lang="en-US" sz="4400" spc="-1" strike="noStrike">
              <a:solidFill>
                <a:srgbClr val="fff39d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04T09:26:29Z</dcterms:created>
  <dc:creator>custom</dc:creator>
  <dc:description/>
  <dc:language>en-US</dc:language>
  <cp:lastModifiedBy>Nienke Hoogeveen</cp:lastModifiedBy>
  <dcterms:modified xsi:type="dcterms:W3CDTF">2016-11-04T07:47:02Z</dcterms:modified>
  <cp:revision>12</cp:revision>
  <dc:subject/>
  <dc:title>Feedback</dc:title>
</cp:coreProperties>
</file>