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42F5A-6448-4BA6-AC37-975DDEC5A9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F1BA4-ACA4-4E92-A299-0CF917D71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61DB-1A11-4A09-92C6-B5CDB6C1F8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C033C-B473-4BBA-9024-A866CAA33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48DD7D-9418-4D66-A766-2CDB3029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8CE9C6-9D9A-4A57-98F8-109F3C73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C75CB-945B-43EC-A249-AFFADDAC0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35BF2-11BA-44C8-8F25-86D21C4A4F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DD44D-09F6-48F8-8725-F0FB6014A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6C7C2-58E3-4781-B355-52BDA59FE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95DE-0901-4BF5-A0F3-2C16DC10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5BC07-4ED7-4BB5-AB1A-DC6282EC8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F6BB5-61D2-42BE-A432-258E3836C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BA2A75-B730-4703-A324-4BDC1058E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EF37EB-E305-46B2-A891-CFA18D2C8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29F887-4740-4C4A-A514-4B6394BC1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AA759-BC64-4FD8-B6EE-8E4C4D61E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FEF3-7E08-4DF4-BB30-BC4DF8640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7CCA9-DB96-4D1A-994A-E69CC0E22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4EC54-ED1C-48D5-8563-32DDD2689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FD3B-EB60-4E7A-9F68-BE200E7ED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E3434-CAA8-4E36-B8D8-93AB4F75D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96091-D706-4D3F-B983-3A43DB30B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D6423-8BAD-4229-96F5-B6333EE8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9F6BB-FF6B-49EC-A04F-4F90AB778A05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8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9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20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1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2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  <p:sp>
            <p:nvSpPr>
              <p:cNvPr id="23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26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27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8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29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0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1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2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3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34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</p:grpSp>
      <p:grpSp>
        <p:nvGrpSpPr>
          <p:cNvPr id="35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6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  <p:grpSp>
        <p:nvGrpSpPr>
          <p:cNvPr id="38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39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40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grpSp>
            <p:nvGrpSpPr>
              <p:cNvPr id="41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42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3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4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5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6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7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8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  <p:sp>
              <p:nvSpPr>
                <p:cNvPr id="49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omic Sans MS"/>
                  </a:endParaRPr>
                </a:p>
              </p:txBody>
            </p:sp>
          </p:grpSp>
        </p:grpSp>
        <p:sp>
          <p:nvSpPr>
            <p:cNvPr id="50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grpSp>
        <p:nvGrpSpPr>
          <p:cNvPr id="88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89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0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91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92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93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4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5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6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97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grpSp>
        <p:nvGrpSpPr>
          <p:cNvPr id="98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99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0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sp>
          <p:nvSpPr>
            <p:cNvPr id="101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mic Sans MS"/>
              </a:endParaRPr>
            </a:p>
          </p:txBody>
        </p:sp>
        <p:grpSp>
          <p:nvGrpSpPr>
            <p:cNvPr id="102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103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4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5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6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  <p:sp>
            <p:nvSpPr>
              <p:cNvPr id="107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mic Sans MS"/>
                </a:endParaRPr>
              </a:p>
            </p:txBody>
          </p:sp>
        </p:grpSp>
      </p:grpSp>
      <p:sp>
        <p:nvSpPr>
          <p:cNvPr id="108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9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E9B473-1D19-46A6-91C6-B24B300CA69D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hyperlink" Target="https://www.youtube.com/watch?v=a4W1VkwlbJo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371600" y="1510920"/>
            <a:ext cx="6400800" cy="22734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b800"/>
            </a:outerShdw>
          </a:effectLst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ff0000"/>
                </a:solidFill>
                <a:latin typeface="Comic Sans MS"/>
              </a:rPr>
              <a:t>Hoofdstuk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549080" y="4051080"/>
            <a:ext cx="6032520" cy="100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Communicat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techniek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4360" y="1844280"/>
            <a:ext cx="769608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baal: met woorden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35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on verbaal: lichaamstaal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65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%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Gezichtsuitdrukk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Hou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Afstan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Kled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Stemgebruik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Gebare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ngruentie / Incongruent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Congruentie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: verbale en non-verbale communicatie zijn met elkaar in overeenstemm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Incongruentie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: verbale en non-verbale communicatie zijn 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niet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met elkaar in overeenstemm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84000" y="54900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99640" y="2708280"/>
            <a:ext cx="769644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198" name="Picture 4" descr="http://1.bp.blogspot.com/_g_li2EAp8NA/TRDS8xq2OrI/AAAAAAAAAWA/mrqeaoxcc0M/s1600/emotional+stroop+stimuli.png"/>
          <p:cNvPicPr/>
          <p:nvPr/>
        </p:nvPicPr>
        <p:blipFill>
          <a:blip r:embed="rId1"/>
          <a:stretch/>
        </p:blipFill>
        <p:spPr>
          <a:xfrm>
            <a:off x="1395360" y="220680"/>
            <a:ext cx="6286680" cy="636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Afstand / ruimte tussen mensen = </a:t>
            </a:r>
            <a:br>
              <a:rPr sz="3600"/>
            </a:br>
            <a:r>
              <a:rPr b="1" lang="nl-NL" sz="3600" spc="-1" strike="noStrike">
                <a:solidFill>
                  <a:srgbClr val="000000"/>
                </a:solidFill>
                <a:latin typeface="Comic Sans MS"/>
              </a:rPr>
              <a:t>interpersoonlijke ruimte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0" name="Picture 4" descr="face to face"/>
          <p:cNvPicPr/>
          <p:nvPr/>
        </p:nvPicPr>
        <p:blipFill>
          <a:blip r:embed="rId1"/>
          <a:stretch/>
        </p:blipFill>
        <p:spPr>
          <a:xfrm>
            <a:off x="1547640" y="1700280"/>
            <a:ext cx="5761080" cy="407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/>
          </p:nvPr>
        </p:nvSpPr>
        <p:spPr>
          <a:xfrm>
            <a:off x="684360" y="907920"/>
            <a:ext cx="7696080" cy="529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Intieme zone: 0-0.5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omic Sans MS"/>
              </a:rPr>
              <a:t>Persoonlijke zone</a:t>
            </a: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: 0.5-1.25m. (vrienden en kennissen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600" spc="-1" strike="noStrike">
                <a:solidFill>
                  <a:srgbClr val="000000"/>
                </a:solidFill>
                <a:latin typeface="Comic Sans MS"/>
              </a:rPr>
              <a:t>Sociale zone</a:t>
            </a: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: 1.25-3m. (Zakelijk)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600" spc="-1" strike="noStrike">
                <a:solidFill>
                  <a:srgbClr val="000000"/>
                </a:solidFill>
                <a:latin typeface="Comic Sans MS"/>
              </a:rPr>
              <a:t>Publieke zone: &gt; 3m.</a:t>
            </a:r>
            <a:endParaRPr b="0" lang="en-US" sz="36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NL" sz="2800" spc="-1" strike="noStrike">
                <a:solidFill>
                  <a:srgbClr val="ff0000"/>
                </a:solidFill>
                <a:latin typeface="Comic Sans MS"/>
              </a:rPr>
              <a:t>De afstand die mensen onderling aanhouden kan van grote invloed zijn op de kwaliteit van de communicatie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Noem een voorbeeld bij de volgende zones.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ieme z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Persoonlijke zone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Sociale z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ublieke zon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ff0000"/>
                </a:solidFill>
                <a:latin typeface="Comic Sans MS"/>
              </a:rPr>
              <a:t>In welke interpersoonlijke ruimtes kan je het beste communiceren met een patiënt?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Factoren die het proces beïnvloed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ogcont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en/ gesloten houd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bruik van stem, volumewisse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zorgd uiterlij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gruentie = verbale en non-verbale taal komen met elkaar overe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Les 2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aarnemen en interprete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Waarnemen en interpreteren 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09" name="Picture 4" descr="schematischcommuniceren"/>
          <p:cNvPicPr/>
          <p:nvPr/>
        </p:nvPicPr>
        <p:blipFill>
          <a:blip r:embed="rId1"/>
          <a:stretch/>
        </p:blipFill>
        <p:spPr>
          <a:xfrm>
            <a:off x="2050920" y="1773360"/>
            <a:ext cx="540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bjectief: gebaseerd op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feiten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, controleerbaar, meetbaar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ubjectief: je persoonlijke waarneming, gekleurd door je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men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erpreteren: uitleg die de ontvanger geeft aan de boodschap van de zender &gt; doorvrage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Les 1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mmunice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Picture 7" descr="woman"/>
          <p:cNvPicPr/>
          <p:nvPr/>
        </p:nvPicPr>
        <p:blipFill>
          <a:blip r:embed="rId1"/>
          <a:stretch/>
        </p:blipFill>
        <p:spPr>
          <a:xfrm>
            <a:off x="2744640" y="476280"/>
            <a:ext cx="439920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bserveren=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Bewust en doelgericht waarnem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Het moet objectief zijn. (Niet gekleurd door eigen mening)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volgens: rapporteren &gt;      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chriftelijk / mondeling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Miscommunicatie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Een boodschap heel anders bedoelen dan hoe het opgevat wordt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oor situatie, factoren aan kant van zender / ontvanger, relatie en inhoud gesprek.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685800" y="980640"/>
            <a:ext cx="7696080" cy="45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anuit de zend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duidelijk, vaag verha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samenhange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volledi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congru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Pas op voor misverstanden in de zorg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/>
          </p:nvPr>
        </p:nvSpPr>
        <p:spPr>
          <a:xfrm>
            <a:off x="610920" y="980640"/>
            <a:ext cx="77706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anuit de ontvanger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ormen en waarden, ervaring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oorzaken: “interne ruis” = waarneming wordt gekleurd door je eigen ervaring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Referentiekader = uit het communicatiegedrag kun je iemands   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achtergrond opmak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1258560" y="333360"/>
            <a:ext cx="776916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Voorbeelden die aangeven waardoor onze waarneming gekleurd worden: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1 Uitgaan van onvolledige informat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2 Niet de tijd nemen om te luist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3 Vooroordel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4 Project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5 Generalis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6 Emotionele betrokkenheid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7 Stereotyper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8 Gevoelens en emotie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9 Verdringing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10 Motivatie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ff0000"/>
                </a:solidFill>
                <a:latin typeface="Comic Sans MS"/>
              </a:rPr>
              <a:t>Geef hier een omschrijving van!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Les 3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00000" y="83628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De relatie tussen zender en ontvanger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4360" y="2491920"/>
            <a:ext cx="7696080" cy="34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ie iets zegt of vraagt, klasgenoot of docent.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Wat maakt het verschil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De relatie tussen personen kan belangrijker zijn dan de boodschap.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Waarom is dat zo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Inhoud van de boodschap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2204640"/>
            <a:ext cx="7696080" cy="328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formatie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ociaal praatj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erkopdrach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lecht” nieu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De manier waarop is doorslaggevend.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Wat bedoel ik hiermee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nl-NL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27" name="Picture 4" descr="http://www.kaartje2go.nl/kaarten/oekie-baan---eerste-indruk/img/oekie-baan---eerste-indruk.jpg"/>
          <p:cNvPicPr/>
          <p:nvPr/>
        </p:nvPicPr>
        <p:blipFill>
          <a:blip r:embed="rId1"/>
          <a:stretch/>
        </p:blipFill>
        <p:spPr>
          <a:xfrm>
            <a:off x="1332000" y="907920"/>
            <a:ext cx="63468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828440"/>
            <a:ext cx="7918560" cy="476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Informatie overbrengen van de ene naar de andere persoon’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9040" indent="-3290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as op! Omdat je nooit precies weet hoe een gesprek gaat verlopen of hoe een ander zou reageren, is het belangrijk inzicht te hebben in het communicatieproce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Het leggen van contact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egroe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ankijk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andacht geve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Uitleggen waar je mee bezig ben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a beëindigen werkzaamheden, aandacht op patiënt richte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Het 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e eerste indru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aarnemen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eractie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Het leggen van contac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“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ruis”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/>
          </p:nvPr>
        </p:nvSpPr>
        <p:spPr>
          <a:xfrm>
            <a:off x="685800" y="549000"/>
            <a:ext cx="7696080" cy="56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omic Sans MS"/>
              </a:rPr>
              <a:t>Binnen enkele minuten</a:t>
            </a:r>
            <a:br>
              <a:rPr sz="2400"/>
            </a:br>
            <a:r>
              <a:rPr b="0" i="1" lang="nl-NL" sz="2400" spc="-1" strike="noStrike">
                <a:solidFill>
                  <a:srgbClr val="000000"/>
                </a:solidFill>
                <a:latin typeface="Comic Sans MS"/>
              </a:rPr>
              <a:t>'Ik loop naar beneden, geef een hand, we nemen de lift naar boven, we babbelen of het gemakkelijk te vinden was, en dan weet ik het al.'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eze uitspraak hoorde Roos Vonk, hoogleraar psychologie aan de Katholieke Universiteit Brabant, van iemand tijdens een van haar vele onderzoeken naar 'de eerste indruk'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1896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Het is hard maar wáár: meestal hebben personeelswervers hun beslissing over een kandidaat al binnen een paar minuten genomen. De onderzoeken naar persoonswaarneming van Vonk wijzen het uit: </a:t>
            </a:r>
            <a:r>
              <a:rPr b="0" lang="nl-NL" sz="2400" spc="-1" strike="noStrike">
                <a:solidFill>
                  <a:srgbClr val="ff0000"/>
                </a:solidFill>
                <a:latin typeface="Comic Sans MS"/>
              </a:rPr>
              <a:t>tijdens de eerste minuten van een kennismaking, wordt de mening over iemand voor het grootste deel al gevormd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Gesprekstechniek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Jong en oud, man en vrouw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duldig, ongeduldig, vriendelijk, boos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el verwachtingen of juist geen.. Voorgeschiedenis.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5800" indent="-32580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Met wie je ook in gesprek bent, denk aan de gesprekstechnieke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Elk gesprek heeft 3 fase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egi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Midd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Eind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Beginf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oede sfeer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tel de tijd vas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oelen en verwachtingen uitsprek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aalgebruik afstemm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Niveau ‘vakjargon’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Middenf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ctief luisteren, vragen stellen, samenvatt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troleer of iemand het kan volg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troleer hoe het gesprek ervoor sta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Eindfase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oel behaald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wachtingen voldaa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ef een korte samenvatt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volgafspraak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Actief luister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ff0000"/>
                </a:solidFill>
                <a:latin typeface="Comic Sans MS"/>
              </a:rPr>
              <a:t>Door te luisteren, door te proberen de gedachtegang van een ander te volgen, wordt de situatie voor beiden duidelijker.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emand die luistert, stimuleert je tot verder vertellen!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Hoe laat je merken dat je luister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e tijd nem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Elkaar aankijk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Houding. ‘Echt voor gaan zitten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Knikken of ‘ja’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Verduidelijking vrag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Samenvatt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Gevoelens benoem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p non-verbale houding lett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Tijd en ruimte gev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iet subjectief inkleur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26920" y="1557000"/>
            <a:ext cx="687096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000" spc="-1" strike="noStrike">
                <a:solidFill>
                  <a:srgbClr val="000000"/>
                </a:solidFill>
                <a:latin typeface="Comic Sans MS"/>
              </a:rPr>
              <a:t>Waarom is het zo belangrijk om goed te communiceren in de gezondheidszorg?</a:t>
            </a:r>
            <a:endParaRPr b="0" lang="en-US" sz="4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4360" y="3213000"/>
            <a:ext cx="7704000" cy="33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trouwensrelatie opbouw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Je begrijpt van elkaar wat je bedoel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ldt niet alleen voor patiënten, maar ook voor de contacten met collega’s en werkgevers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pen en gesloten vrag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sloten vragen zijn vragen waarop je 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ja of nee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, misschien kunt antwoord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pen vragen beginnen vaak met </a:t>
            </a:r>
            <a:r>
              <a:rPr b="1" lang="nl-NL" sz="3200" spc="-1" strike="noStrike">
                <a:solidFill>
                  <a:srgbClr val="000000"/>
                </a:solidFill>
                <a:latin typeface="Comic Sans MS"/>
              </a:rPr>
              <a:t>wat, hoe, welke  of wie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Kijken uit met suggestieve vragen. Waarom is dit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Functies van samenvatt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Controle voor jezelf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Je moet goed luiste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rdening in verhaal: hoofdzaa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erug horen van eigen verha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ctief luisteren toepass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Gespreksv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oorlichting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dvie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lechtnieuw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Soorten gesprekken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54" name="Tijdelijke aanduiding voor inhoud 4" descr=""/>
          <p:cNvPicPr/>
          <p:nvPr/>
        </p:nvPicPr>
        <p:blipFill>
          <a:blip r:embed="rId1"/>
          <a:stretch/>
        </p:blipFill>
        <p:spPr>
          <a:xfrm>
            <a:off x="2770200" y="1828800"/>
            <a:ext cx="3527280" cy="365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Opdracht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Welke soorten gesprekken kan je benoeme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Mogelijke antwoorde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Intake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oorlichting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dvie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lechtnieuw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unctionering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eoordelingsgespr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Intake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Triag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Anamnese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400" spc="-1" strike="noStrike">
                <a:solidFill>
                  <a:srgbClr val="000000"/>
                </a:solidFill>
                <a:latin typeface="Comic Sans MS"/>
              </a:rPr>
              <a:t>Oriënterend gesprek tussen patiënt en doktersassistente, waarin op een zo eenduidige en objectief mogelijke wijze informatie verzameld wordt om vervolgens zo goed mogelijk conclusies te kunnen trekken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Voorlichting gev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Kennisvermeerdering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omic Sans MS"/>
              </a:rPr>
              <a:t>uitleg koorts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Houdingsverandering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omic Sans MS"/>
              </a:rPr>
              <a:t>ziekte accepteren.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Gedragsverandering: 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2800" spc="-1" strike="noStrike">
                <a:solidFill>
                  <a:srgbClr val="000000"/>
                </a:solidFill>
                <a:latin typeface="Comic Sans MS"/>
              </a:rPr>
              <a:t>stoppen met rok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Voorlichtings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4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5 voorlichtingsstappe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Openstaa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Begríjp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Will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Kunne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0000"/>
                </a:solidFill>
                <a:latin typeface="Comic Sans MS"/>
              </a:rPr>
              <a:t>Blijven doen 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Advies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6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oorfase: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waar gaat het over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robleemverheldering: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actief luister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robleem herdefiniëring: 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samenvatting en inzicht gev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Probleemoplossing</a:t>
            </a: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. Advies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proces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Uitwisseling van verbale en non-verbale informatie tussen mensen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Deels bewust, deel onbewust ontvangen en interpreter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Slechtnieuwsgespre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ase 1: </a:t>
            </a:r>
            <a:r>
              <a:rPr b="1" lang="nl-NL" sz="3200" spc="-1" strike="noStrike">
                <a:solidFill>
                  <a:srgbClr val="ff0000"/>
                </a:solidFill>
                <a:latin typeface="Comic Sans MS"/>
              </a:rPr>
              <a:t>Direct</a:t>
            </a: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 mededelen van slecht nieuw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ase 2: Volg de ander in zijn reactie: </a:t>
            </a:r>
            <a:r>
              <a:rPr b="1" lang="nl-NL" sz="3200" spc="-1" strike="noStrike">
                <a:solidFill>
                  <a:srgbClr val="ff0000"/>
                </a:solidFill>
                <a:latin typeface="Comic Sans MS"/>
              </a:rPr>
              <a:t>emoties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Fase 3: Zoeken naar een oplossing. </a:t>
            </a:r>
            <a:r>
              <a:rPr b="1" lang="nl-NL" sz="3200" spc="-1" strike="noStrike">
                <a:solidFill>
                  <a:srgbClr val="ff0000"/>
                </a:solidFill>
                <a:latin typeface="Comic Sans MS"/>
              </a:rPr>
              <a:t>Waar heeft u behoefte aan?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Feedba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0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schillende manieren: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ewust/onbewust, verbaal/non verbaal, uit jezelf/op verzoe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omic Sans MS"/>
              </a:rPr>
              <a:t>Positief gedrag stimul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omic Sans MS"/>
              </a:rPr>
              <a:t>Negatief gedrag corriger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ff0000"/>
                </a:solidFill>
                <a:latin typeface="Comic Sans MS"/>
              </a:rPr>
              <a:t>Relatie tussen mensen verduidelijken</a:t>
            </a: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  <a:p>
            <a:pPr marL="322200" indent="-322200">
              <a:spcBef>
                <a:spcPts val="700"/>
              </a:spcBef>
              <a:buClr>
                <a:srgbClr val="ff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Belangrijk bij geven van feedback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Beschrijf concreet gedra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000" spc="-1" strike="noStrike">
                <a:solidFill>
                  <a:srgbClr val="000000"/>
                </a:solidFill>
                <a:latin typeface="Comic Sans MS"/>
              </a:rPr>
              <a:t>Gebruik ik-boodscha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o snel mogelijk gev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ver gedrag dat iemand kan aanpass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iet teveel feedback in een ke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Neem de tijd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org dat de ander ruimte heeft om te reageren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e wijze waarop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Je eigen houding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  <a:p>
            <a:pPr marL="335880" indent="-335880">
              <a:spcBef>
                <a:spcPts val="4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Dring je informatie niet op.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85800" y="1828800"/>
            <a:ext cx="7696080" cy="3657600"/>
          </a:xfrm>
          <a:prstGeom prst="rect">
            <a:avLst/>
          </a:prstGeom>
          <a:ln w="0">
            <a:noFill/>
          </a:ln>
        </p:spPr>
      </p:pic>
      <p:pic>
        <p:nvPicPr>
          <p:cNvPr id="275" name="Picture 2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756108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7" name=""/>
          <p:cNvSpPr txBox="1"/>
          <p:nvPr/>
        </p:nvSpPr>
        <p:spPr>
          <a:xfrm>
            <a:off x="685800" y="836640"/>
            <a:ext cx="7696080" cy="464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rije ruimte: gedrag van onszelf dat wij en anderen goed kenn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Blinde vlek: Gedragingen die anderen wel waarnemen, jij niet bewust van ben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Verborgen gebied: je weet het van jezelf, anderen weten het niet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Onbekende zelf: Bij jou en anderen niet bekend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Film gesprekstechnieken: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 u="sng">
                <a:solidFill>
                  <a:srgbClr val="00b200"/>
                </a:solidFill>
                <a:uFillTx/>
                <a:latin typeface="Comic Sans MS"/>
                <a:hlinkClick r:id="rId1"/>
              </a:rPr>
              <a:t>https://www.youtube.com/watch?v=a4W1VkwlbJo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30"/>
          <p:cNvSpPr/>
          <p:nvPr/>
        </p:nvSpPr>
        <p:spPr>
          <a:xfrm>
            <a:off x="1187280" y="1149480"/>
            <a:ext cx="100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2" name="Text Box 31"/>
          <p:cNvSpPr/>
          <p:nvPr/>
        </p:nvSpPr>
        <p:spPr>
          <a:xfrm>
            <a:off x="971640" y="1052640"/>
            <a:ext cx="1584360" cy="398880"/>
          </a:xfrm>
          <a:prstGeom prst="rect">
            <a:avLst/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en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3" name="Text Box 33"/>
          <p:cNvSpPr/>
          <p:nvPr/>
        </p:nvSpPr>
        <p:spPr>
          <a:xfrm>
            <a:off x="3708360" y="1052640"/>
            <a:ext cx="1584360" cy="368280"/>
          </a:xfrm>
          <a:prstGeom prst="rect">
            <a:avLst/>
          </a:prstGeom>
          <a:solidFill>
            <a:srgbClr val="00b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boodsch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4" name="Text Box 34"/>
          <p:cNvSpPr/>
          <p:nvPr/>
        </p:nvSpPr>
        <p:spPr>
          <a:xfrm>
            <a:off x="6372360" y="981000"/>
            <a:ext cx="1584360" cy="398880"/>
          </a:xfrm>
          <a:prstGeom prst="rect">
            <a:avLst/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ntvan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5" name="Text Box 35"/>
          <p:cNvSpPr/>
          <p:nvPr/>
        </p:nvSpPr>
        <p:spPr>
          <a:xfrm>
            <a:off x="6516720" y="1916280"/>
            <a:ext cx="158436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waarnem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6" name="Text Box 36"/>
          <p:cNvSpPr/>
          <p:nvPr/>
        </p:nvSpPr>
        <p:spPr>
          <a:xfrm>
            <a:off x="6300720" y="2924280"/>
            <a:ext cx="187344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interpreter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7" name="Text Box 37"/>
          <p:cNvSpPr/>
          <p:nvPr/>
        </p:nvSpPr>
        <p:spPr>
          <a:xfrm>
            <a:off x="6516720" y="5084640"/>
            <a:ext cx="1584360" cy="398880"/>
          </a:xfrm>
          <a:prstGeom prst="rect">
            <a:avLst/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zend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8" name="Text Box 40"/>
          <p:cNvSpPr/>
          <p:nvPr/>
        </p:nvSpPr>
        <p:spPr>
          <a:xfrm>
            <a:off x="6156360" y="3933720"/>
            <a:ext cx="223200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Keuze van gedra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69" name="Text Box 42"/>
          <p:cNvSpPr/>
          <p:nvPr/>
        </p:nvSpPr>
        <p:spPr>
          <a:xfrm>
            <a:off x="3780000" y="5157720"/>
            <a:ext cx="1584000" cy="368280"/>
          </a:xfrm>
          <a:prstGeom prst="rect">
            <a:avLst/>
          </a:prstGeom>
          <a:solidFill>
            <a:srgbClr val="00b2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boodschap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0" name="Text Box 43"/>
          <p:cNvSpPr/>
          <p:nvPr/>
        </p:nvSpPr>
        <p:spPr>
          <a:xfrm>
            <a:off x="1116000" y="5229360"/>
            <a:ext cx="1584360" cy="398880"/>
          </a:xfrm>
          <a:prstGeom prst="rect">
            <a:avLst/>
          </a:prstGeom>
          <a:solidFill>
            <a:srgbClr val="ffef6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000" spc="-1" strike="noStrike">
                <a:solidFill>
                  <a:srgbClr val="000000"/>
                </a:solidFill>
                <a:latin typeface="Comic Sans MS"/>
              </a:rPr>
              <a:t>ontvanger</a:t>
            </a:r>
            <a:endParaRPr b="0" lang="en-US" sz="20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1" name="Line 44"/>
          <p:cNvSpPr/>
          <p:nvPr/>
        </p:nvSpPr>
        <p:spPr>
          <a:xfrm>
            <a:off x="7164360" y="14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2" name="Line 45"/>
          <p:cNvSpPr/>
          <p:nvPr/>
        </p:nvSpPr>
        <p:spPr>
          <a:xfrm>
            <a:off x="7164360" y="227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3" name="Line 46"/>
          <p:cNvSpPr/>
          <p:nvPr/>
        </p:nvSpPr>
        <p:spPr>
          <a:xfrm>
            <a:off x="7164360" y="335772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4" name="Line 47"/>
          <p:cNvSpPr/>
          <p:nvPr/>
        </p:nvSpPr>
        <p:spPr>
          <a:xfrm>
            <a:off x="7236000" y="4365720"/>
            <a:ext cx="0" cy="71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5" name="Line 48"/>
          <p:cNvSpPr/>
          <p:nvPr/>
        </p:nvSpPr>
        <p:spPr>
          <a:xfrm flipH="1">
            <a:off x="5364000" y="5373720"/>
            <a:ext cx="1152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6" name="Line 49"/>
          <p:cNvSpPr/>
          <p:nvPr/>
        </p:nvSpPr>
        <p:spPr>
          <a:xfrm>
            <a:off x="5292720" y="119700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7" name="Line 50"/>
          <p:cNvSpPr/>
          <p:nvPr/>
        </p:nvSpPr>
        <p:spPr>
          <a:xfrm>
            <a:off x="2556000" y="1268280"/>
            <a:ext cx="115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8" name="Line 52"/>
          <p:cNvSpPr/>
          <p:nvPr/>
        </p:nvSpPr>
        <p:spPr>
          <a:xfrm flipH="1">
            <a:off x="2700000" y="5373720"/>
            <a:ext cx="107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9" name="Text Box 53"/>
          <p:cNvSpPr/>
          <p:nvPr/>
        </p:nvSpPr>
        <p:spPr>
          <a:xfrm>
            <a:off x="1042920" y="4221000"/>
            <a:ext cx="158436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waarnem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0" name="Text Box 54"/>
          <p:cNvSpPr/>
          <p:nvPr/>
        </p:nvSpPr>
        <p:spPr>
          <a:xfrm>
            <a:off x="971640" y="3284640"/>
            <a:ext cx="187308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interpreteren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1" name="Text Box 55"/>
          <p:cNvSpPr/>
          <p:nvPr/>
        </p:nvSpPr>
        <p:spPr>
          <a:xfrm>
            <a:off x="755640" y="2276640"/>
            <a:ext cx="2232000" cy="368280"/>
          </a:xfrm>
          <a:prstGeom prst="rect">
            <a:avLst/>
          </a:prstGeom>
          <a:solidFill>
            <a:srgbClr val="80dce6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000000"/>
                </a:solidFill>
                <a:latin typeface="Comic Sans MS"/>
              </a:rPr>
              <a:t>Keuze van gedrag</a:t>
            </a:r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2" name="Line 56"/>
          <p:cNvSpPr/>
          <p:nvPr/>
        </p:nvSpPr>
        <p:spPr>
          <a:xfrm flipV="1">
            <a:off x="1835280" y="458100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3" name="Line 57"/>
          <p:cNvSpPr/>
          <p:nvPr/>
        </p:nvSpPr>
        <p:spPr>
          <a:xfrm flipV="1">
            <a:off x="1763640" y="3645000"/>
            <a:ext cx="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4" name="Line 59"/>
          <p:cNvSpPr/>
          <p:nvPr/>
        </p:nvSpPr>
        <p:spPr>
          <a:xfrm flipV="1">
            <a:off x="1763640" y="2636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5" name="Line 60"/>
          <p:cNvSpPr/>
          <p:nvPr/>
        </p:nvSpPr>
        <p:spPr>
          <a:xfrm flipV="1">
            <a:off x="1763640" y="1483920"/>
            <a:ext cx="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v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4360" y="22050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Mondeling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Schriftelijk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Digitaa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000000"/>
                </a:solidFill>
                <a:latin typeface="Comic Sans MS"/>
              </a:rPr>
              <a:t>Media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0000"/>
                </a:solidFill>
                <a:latin typeface="Comic Sans MS"/>
              </a:rPr>
              <a:t>Benoem een voordeel en nadeel van bovenstaande communicatievormen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Communicatie vormen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55640" y="227664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Mondeling: V: persoonlijk karakter, tweezijdige comm, direct. N: niet altijd begrepen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Schriftelijk: V: veel info verspreiden, nauwkeurig, bewaren. N:directe reactie ontbreekt, onpersoonlijk.  Eenzijdige comm.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Digitaal: V: mail, website met info. N: eenzijdige comm. Klopt de gevonden info altijd?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omic Sans MS"/>
              </a:rPr>
              <a:t>Media: V: krant, tv, radio. Veel info. N: eenzijdige comm. 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0000"/>
                </a:solidFill>
                <a:latin typeface="Comic Sans MS"/>
              </a:rPr>
              <a:t>Stelling: klopt dit?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NL" sz="3200" spc="-1" strike="noStrike">
                <a:solidFill>
                  <a:srgbClr val="000000"/>
                </a:solidFill>
                <a:latin typeface="Comic Sans MS"/>
              </a:rPr>
              <a:t>Niet-communiceren in aanwezigheid van anderen is niet mogelijk.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8-31T18:09:35Z</dcterms:created>
  <dc:creator>Martin Pas</dc:creator>
  <dc:description/>
  <dc:language>en-US</dc:language>
  <cp:lastModifiedBy>Annelies de Groot</cp:lastModifiedBy>
  <dcterms:modified xsi:type="dcterms:W3CDTF">2020-11-12T10:18:31Z</dcterms:modified>
  <cp:revision>45</cp:revision>
  <dc:subject/>
  <dc:title>Hoofdstuk 3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7E6CDA9E82A08449E9D14AE24C88F02</vt:lpwstr>
  </property>
</Properties>
</file>