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4043-A25A-4D01-AE9B-2A865EB5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7261-3BB0-40FD-9682-987CF195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E9F9-7E41-401E-9F36-45DC628F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C187-E4BC-41C2-8D7F-10239B0F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B2E5-6D1C-4270-BC9D-46D5EC1E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4556-994A-4F18-B17B-B9816284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2F9A-9B9E-4467-BA09-C39CBD2E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C9B3-4D75-4B0A-B835-56C8D8F5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ABD7-B3F0-4DD2-83AB-5A6F1D50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2F2F-F91F-47AE-B76F-FDEF3E04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225D-AAD7-4210-80B7-C649E743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2F7F-B7C6-4722-A540-3700497E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2B68-6251-40DD-8DE0-82FA458D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A2E2-04EA-4198-8D64-7D70CF42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4A71-9770-4E39-9666-E2BBA73D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26C1-AAD3-45EA-AA67-673303C1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32BD-7D3B-4689-9C06-4E614536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CAB7-CF25-4D99-A089-BCEDEE59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2074-C9B8-4190-86A4-4F5532BB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725E-9868-4CFD-B7C4-6BB928E8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EBF0-9ACE-4BF4-AD92-14344A36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C5C1-7709-4373-BD3F-4FB0D058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441B-19D6-45DB-B9DB-31AE995C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5009-969C-41D4-9A55-CD1B095C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F604-7242-4253-81FA-C1693B712A9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AF92-7DC5-4ED4-8266-18332551C25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a4W1VkwlbJo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mic Sans MS"/>
              </a:rPr>
              <a:t>Hoofdstuk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Communicat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Communicatietechniek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baal: met woorden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35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Non verbaal: lichaamstaal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65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Gezichtsuitdrukk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Hou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Afst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Kle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Stemgebru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Gebare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Congruentie / Incongruenti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Congruentie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: verbale en non-verbale communicatie zijn met elkaar in overeenstemm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Incongruentie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: verbale en non-verbale communicatie zijn </a:t>
            </a: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niet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 met elkaar in overeenstemm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99640" y="2708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4" descr="http://1.bp.blogspot.com/_g_li2EAp8NA/TRDS8xq2OrI/AAAAAAAAAWA/mrqeaoxcc0M/s1600/emotional+stroop+stimuli.png"/>
          <p:cNvPicPr/>
          <p:nvPr/>
        </p:nvPicPr>
        <p:blipFill>
          <a:blip r:embed="rId1"/>
          <a:stretch/>
        </p:blipFill>
        <p:spPr>
          <a:xfrm>
            <a:off x="1395360" y="220680"/>
            <a:ext cx="628668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Afstand / ruimte tussen mensen = </a:t>
            </a:r>
            <a:br>
              <a:rPr sz="3600"/>
            </a:br>
            <a:r>
              <a:rPr b="1" lang="nl-NL" sz="3600" spc="-1" strike="noStrike">
                <a:solidFill>
                  <a:srgbClr val="000000"/>
                </a:solidFill>
                <a:latin typeface="Comic Sans MS"/>
              </a:rPr>
              <a:t>interpersoonlijke ruim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4" descr="face to face"/>
          <p:cNvPicPr/>
          <p:nvPr/>
        </p:nvPicPr>
        <p:blipFill>
          <a:blip r:embed="rId1"/>
          <a:stretch/>
        </p:blipFill>
        <p:spPr>
          <a:xfrm>
            <a:off x="1547640" y="1700280"/>
            <a:ext cx="576108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4360" y="907920"/>
            <a:ext cx="7696080" cy="52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Intieme zone: 0-0.5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omic Sans MS"/>
              </a:rPr>
              <a:t>Persoonlijke zone</a:t>
            </a: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: 0.5-1.25m. (vrienden en kennissen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omic Sans MS"/>
              </a:rPr>
              <a:t>Sociale zone</a:t>
            </a: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: 1.25-3m. (Zakelijk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Publieke zone: &gt; 3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0000"/>
                </a:solidFill>
                <a:latin typeface="Comic Sans MS"/>
              </a:rPr>
              <a:t>De afstand die mensen onderling aanhouden kan van grote invloed zijn op de kwaliteit van de communicati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Noem een voorbeeld bij de volgende zon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ntieme z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Persoonlijke zone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Sociale z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Publieke z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0000"/>
                </a:solidFill>
                <a:latin typeface="Comic Sans MS"/>
              </a:rPr>
              <a:t>In welke interpersoonlijke ruimtes kan je het beste communiceren met een patiën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Factoren die het proces beïnvloed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ogcont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pen/ gesloten houd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Gebruik van stem, volumewissel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zorgd uiterlij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ongruentie = verbale en non-verbale taal komen met elkaar overe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Les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Waarnemen en interpreter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Waarnemen en interpretere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4" descr="schematischcommuniceren"/>
          <p:cNvPicPr/>
          <p:nvPr/>
        </p:nvPicPr>
        <p:blipFill>
          <a:blip r:embed="rId1"/>
          <a:stretch/>
        </p:blipFill>
        <p:spPr>
          <a:xfrm>
            <a:off x="2050920" y="1773360"/>
            <a:ext cx="5400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bjectief: gebaseerd op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feiten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, controleerbaar, meetba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ubjectief: je persoonlijke waarneming, gekleurd door je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men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nterpreteren: uitleg die de ontvanger geeft aan de boodschap van de zender &gt; doorvrage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Les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ommunicer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7" descr="woman"/>
          <p:cNvPicPr/>
          <p:nvPr/>
        </p:nvPicPr>
        <p:blipFill>
          <a:blip r:embed="rId1"/>
          <a:stretch/>
        </p:blipFill>
        <p:spPr>
          <a:xfrm>
            <a:off x="2744640" y="476280"/>
            <a:ext cx="43992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Observeren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Bewust en doelgericht waarnem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Het moet objectief zijn. (Niet gekleurd door eigen mening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volgens: rapporteren &gt;      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chriftelijk / mondeli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Miscommunicati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Een boodschap heel anders bedoelen dan hoe het opgevat wordt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oor situatie, factoren aan kant van zender / ontvanger, relatie en inhoud gesprek.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anuit de zender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nduidelijk, vaag verha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nsamenhange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nvolledi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ncongru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Pas op voor misverstanden in de zorg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10920" y="980640"/>
            <a:ext cx="7770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anuit de ontvanger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normen en waarden, ervaring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oorzaken: “interne ruis” = waarneming wordt gekleurd door je eigen ervar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Referentiekader = uit het communicatiegedrag kun je iemands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achtergrond opmak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258560" y="333360"/>
            <a:ext cx="7769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Voorbeelden die aangeven waardoor onze waarneming gekleurd worde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1 Uitgaan van onvolledige informat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2 Niet de tijd nemen om te luister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3 Vooroordel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4 Project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5 Generaliser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6 Emotionele betrokkenhe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7 Stereotyper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8 Gevoelens en emo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9 Verdring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10 Motivat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Comic Sans MS"/>
              </a:rPr>
              <a:t>Geef hier een omschrijving van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Les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De relatie tussen zender en ontvang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4360" y="2491920"/>
            <a:ext cx="769608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Wie iets zegt of vraagt, klasgenoot of docent.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Wat maakt het verschi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De relatie tussen personen kan belangrijker zijn dan de boodschap.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Waarom is dat zo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Inhoud van de boodscha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204640"/>
            <a:ext cx="7696080" cy="32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nformatie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ociaal praatj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Werkopdrac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lecht” nieuw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De manier waarop is doorslaggevend.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Wat bedoel ik hierme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7" name="Picture 4" descr="http://www.kaartje2go.nl/kaarten/oekie-baan---eerste-indruk/img/oekie-baan---eerste-indruk.jpg"/>
          <p:cNvPicPr/>
          <p:nvPr/>
        </p:nvPicPr>
        <p:blipFill>
          <a:blip r:embed="rId1"/>
          <a:stretch/>
        </p:blipFill>
        <p:spPr>
          <a:xfrm>
            <a:off x="1332000" y="907920"/>
            <a:ext cx="634680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Communicati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9185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Informatie overbrengen van de ene naar de andere persoon’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Pas op! Omdat je nooit precies weet hoe een gesprek gaat verlopen of hoe een ander zou reageren, is het belangrijk inzicht te hebben in het communicatiepro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Het leggen van contact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Begroet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Aankijk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Aandacht geve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Uitleggen waar je mee bezig b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Na beëindigen werkzaamheden, aandacht op patiënt richte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Het gespr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e eerste indru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Waarneme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nteracti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Het leggen van cont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ruis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696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omic Sans MS"/>
              </a:rPr>
              <a:t>Binnen enkele minuten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Comic Sans MS"/>
              </a:rPr>
              <a:t>'Ik loop naar beneden, geef een hand, we nemen de lift naar boven, we babbelen of het gemakkelijk te vinden was, en dan weet ik het al.'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Deze uitspraak hoorde Roos Vonk, hoogleraar psychologie aan de Katholieke Universiteit Brabant, van iemand tijdens een van haar vele onderzoeken naar 'de eerste indruk'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Het is hard maar wáár: meestal hebben personeelswervers hun beslissing over een kandidaat al binnen een paar minuten genomen. De onderzoeken naar persoonswaarneming van Vonk wijzen het uit: </a:t>
            </a:r>
            <a:r>
              <a:rPr b="0" lang="nl-NL" sz="2400" spc="-1" strike="noStrike">
                <a:solidFill>
                  <a:srgbClr val="ff0000"/>
                </a:solidFill>
                <a:latin typeface="Comic Sans MS"/>
              </a:rPr>
              <a:t>tijdens de eerste minuten van een kennismaking, wordt de mening over iemand voor het grootste deel al gevormd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Gesprekstechniek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Jong en oud, man en vrouw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Geduldig, ongeduldig, vriendelijk, boos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el verwachtingen of juist geen.. Voorgeschiedenis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Met wie je ook in gesprek bent, denk aan de gesprekstechnieke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Elk gesprek heeft 3 fase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Midd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Ei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Beginfa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Goede sfe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tel de tijd va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oelen en verwachtingen uitsprek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Taalgebruik afstemm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Niveau ‘vakjargon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Middenfa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Actief luisteren, vragen stellen, samenvatt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ontroleer of iemand het kan volg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ontroleer hoe het gesprek ervoor sta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Eindfa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oel behaal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wachtingen voldaa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Geef een korte samenvat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volgafspraak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Actief luister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0000"/>
                </a:solidFill>
                <a:latin typeface="Comic Sans MS"/>
              </a:rPr>
              <a:t>Door te luisteren, door te proberen de gedachtegang van een ander te volgen, wordt de situatie voor beiden duidelijke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emand die luistert, stimuleert je tot verder vertelle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Hoe laat je merken dat je luister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De tijd nem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Elkaar aankijk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Houding. ‘Echt voor gaan zitten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Knikken of ‘ja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Verduidelijking vrag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Samenvatt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Gevoelens benoem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Op non-verbale houding lett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Tijd en ruimte gev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Niet subjectief inkleur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1557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Waarom is het zo belangrijk om goed te communiceren in de gezondheidszorg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3213000"/>
            <a:ext cx="770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trouwensrelatie opbouw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Je begrijpt van elkaar wat je bedoel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Geldt niet alleen voor patiënten, maar ook voor de contacten met collega’s en werkgev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Open en gesloten vrag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Gesloten vragen zijn vragen waarop je </a:t>
            </a: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ja of nee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, misschien kunt antwoord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pen vragen beginnen vaak met </a:t>
            </a: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wat, hoe, welke  of wi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Kijken uit met suggestieve vragen. Waarom is di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Functies van samenvatt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ontrole voor jezel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Je moet goed luister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rdening in verhaal: hoofdzaa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Terug horen van eigen verha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Actief luisteren toepass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Gespreksv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oorlichtings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Advies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lechtnieuws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Soorten gesprekke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2770200" y="1828800"/>
            <a:ext cx="3527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Opdracht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Welke soorten gesprekken kan je benoeme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Mogelijke antwoorde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ntake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oorlichtings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Advies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lechtnieuws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Functionerings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Beoordelings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Intakegespr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Tri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Anamne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Comic Sans MS"/>
              </a:rPr>
              <a:t>Oriënterend gesprek tussen patiënt en doktersassistente, waarin op een zo eenduidige en objectief mogelijke wijze informatie verzameld wordt om vervolgens zo goed mogelijk conclusies te kunnen trekk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Voorlichting gev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Kennisvermeerdering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omic Sans MS"/>
              </a:rPr>
              <a:t>uitleg koor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Houdingsverandering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omic Sans MS"/>
              </a:rPr>
              <a:t>ziekte accepter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Gedragsverandering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omic Sans MS"/>
              </a:rPr>
              <a:t>stoppen met rok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Voorlichtingsgespr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5 voorlichtingsstappe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Opensta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Begríjp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Will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Kunne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Blijven doe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Adviesgespr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oorfase: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waar gaat het ov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Probleemverheldering: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actief luister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Probleem herdefiniëring: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samenvatting en inzicht gev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Probleemoplossing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. Advi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Communicatiepro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Uitwisseling van verbale en non-verbale informatie tussen mens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Deels bewust, deel onbewust ontvangen en interpreter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Slechtnieuwsgespr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Fase 1: </a:t>
            </a:r>
            <a:r>
              <a:rPr b="1" lang="nl-NL" sz="3200" spc="-1" strike="noStrike">
                <a:solidFill>
                  <a:srgbClr val="ff0000"/>
                </a:solidFill>
                <a:latin typeface="Comic Sans MS"/>
              </a:rPr>
              <a:t>Direct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 mededelen van slecht nieuw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Fase 2: Volg de ander in zijn reactie: </a:t>
            </a:r>
            <a:r>
              <a:rPr b="1" lang="nl-NL" sz="3200" spc="-1" strike="noStrike">
                <a:solidFill>
                  <a:srgbClr val="ff0000"/>
                </a:solidFill>
                <a:latin typeface="Comic Sans MS"/>
              </a:rPr>
              <a:t>emo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Fase 3: Zoeken naar een oplossing. </a:t>
            </a:r>
            <a:r>
              <a:rPr b="1" lang="nl-NL" sz="3200" spc="-1" strike="noStrike">
                <a:solidFill>
                  <a:srgbClr val="ff0000"/>
                </a:solidFill>
                <a:latin typeface="Comic Sans MS"/>
              </a:rPr>
              <a:t>Waar heeft u behoefte aa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schillende maniere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Bewust/onbewust, verbaal/non verbaal, uit jezelf/op verzo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Comic Sans MS"/>
              </a:rPr>
              <a:t>Positief gedrag stimuler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Comic Sans MS"/>
              </a:rPr>
              <a:t>Negatief gedrag corriger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Comic Sans MS"/>
              </a:rPr>
              <a:t>Relatie tussen mensen verduidelijk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Belangrijk bij geven van feedba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Beschrijf concreet gedra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mic Sans MS"/>
              </a:rPr>
              <a:t>Gebruik ik-boodsch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Zo snel mogelijk gev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Over gedrag dat iemand kan aanpass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Niet teveel feedback in een ke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Neem de tij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Zorg dat de ander ruimte heeft om te reager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De wijze waaro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Je eigen houd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Dring je informatie niet o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756108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rije ruimte: gedrag van onszelf dat wij en anderen goed kenn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Blinde vlek: Gedragingen die anderen wel waarnemen, jij niet bewust van b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borgen gebied: je weet het van jezelf, anderen weten het nie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nbekende zelf: Bij jou en anderen niet beke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Film gesprekstechnieke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s://www.youtube.com/watch?v=a4W1VkwlbJ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0"/>
          <p:cNvSpPr/>
          <p:nvPr/>
        </p:nvSpPr>
        <p:spPr>
          <a:xfrm>
            <a:off x="1187280" y="1149480"/>
            <a:ext cx="10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31"/>
          <p:cNvSpPr/>
          <p:nvPr/>
        </p:nvSpPr>
        <p:spPr>
          <a:xfrm>
            <a:off x="971640" y="1052640"/>
            <a:ext cx="1584360" cy="398880"/>
          </a:xfrm>
          <a:prstGeom prst="rect">
            <a:avLst/>
          </a:prstGeom>
          <a:solidFill>
            <a:srgbClr val="ffe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zen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3708360" y="1052640"/>
            <a:ext cx="1584360" cy="368280"/>
          </a:xfrm>
          <a:prstGeom prst="rect">
            <a:avLst/>
          </a:prstGeom>
          <a:solidFill>
            <a:srgbClr val="00b2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boodscha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6372360" y="981000"/>
            <a:ext cx="1584360" cy="398880"/>
          </a:xfrm>
          <a:prstGeom prst="rect">
            <a:avLst/>
          </a:prstGeom>
          <a:solidFill>
            <a:srgbClr val="ffe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ontvang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6516720" y="1916280"/>
            <a:ext cx="1584360" cy="368280"/>
          </a:xfrm>
          <a:prstGeom prst="rect">
            <a:avLst/>
          </a:prstGeom>
          <a:solidFill>
            <a:srgbClr val="80dce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waarnem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36"/>
          <p:cNvSpPr/>
          <p:nvPr/>
        </p:nvSpPr>
        <p:spPr>
          <a:xfrm>
            <a:off x="6300720" y="2924280"/>
            <a:ext cx="1873440" cy="368280"/>
          </a:xfrm>
          <a:prstGeom prst="rect">
            <a:avLst/>
          </a:prstGeom>
          <a:solidFill>
            <a:srgbClr val="80dce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interpreter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37"/>
          <p:cNvSpPr/>
          <p:nvPr/>
        </p:nvSpPr>
        <p:spPr>
          <a:xfrm>
            <a:off x="6516720" y="5084640"/>
            <a:ext cx="1584360" cy="398880"/>
          </a:xfrm>
          <a:prstGeom prst="rect">
            <a:avLst/>
          </a:prstGeom>
          <a:solidFill>
            <a:srgbClr val="ffe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zen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40"/>
          <p:cNvSpPr/>
          <p:nvPr/>
        </p:nvSpPr>
        <p:spPr>
          <a:xfrm>
            <a:off x="6156360" y="3933720"/>
            <a:ext cx="2232000" cy="368280"/>
          </a:xfrm>
          <a:prstGeom prst="rect">
            <a:avLst/>
          </a:prstGeom>
          <a:solidFill>
            <a:srgbClr val="80dce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Keuze van gedra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42"/>
          <p:cNvSpPr/>
          <p:nvPr/>
        </p:nvSpPr>
        <p:spPr>
          <a:xfrm>
            <a:off x="3780000" y="5157720"/>
            <a:ext cx="1584000" cy="368280"/>
          </a:xfrm>
          <a:prstGeom prst="rect">
            <a:avLst/>
          </a:prstGeom>
          <a:solidFill>
            <a:srgbClr val="00b2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boodscha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43"/>
          <p:cNvSpPr/>
          <p:nvPr/>
        </p:nvSpPr>
        <p:spPr>
          <a:xfrm>
            <a:off x="1116000" y="5229360"/>
            <a:ext cx="1584360" cy="398880"/>
          </a:xfrm>
          <a:prstGeom prst="rect">
            <a:avLst/>
          </a:prstGeom>
          <a:solidFill>
            <a:srgbClr val="ffe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ontvang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44"/>
          <p:cNvSpPr/>
          <p:nvPr/>
        </p:nvSpPr>
        <p:spPr>
          <a:xfrm>
            <a:off x="7164360" y="14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45"/>
          <p:cNvSpPr/>
          <p:nvPr/>
        </p:nvSpPr>
        <p:spPr>
          <a:xfrm>
            <a:off x="7164360" y="227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46"/>
          <p:cNvSpPr/>
          <p:nvPr/>
        </p:nvSpPr>
        <p:spPr>
          <a:xfrm>
            <a:off x="716436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47"/>
          <p:cNvSpPr/>
          <p:nvPr/>
        </p:nvSpPr>
        <p:spPr>
          <a:xfrm>
            <a:off x="7236000" y="4365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Line 48"/>
          <p:cNvSpPr/>
          <p:nvPr/>
        </p:nvSpPr>
        <p:spPr>
          <a:xfrm flipH="1">
            <a:off x="5364000" y="5373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49"/>
          <p:cNvSpPr/>
          <p:nvPr/>
        </p:nvSpPr>
        <p:spPr>
          <a:xfrm>
            <a:off x="5292720" y="1197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50"/>
          <p:cNvSpPr/>
          <p:nvPr/>
        </p:nvSpPr>
        <p:spPr>
          <a:xfrm>
            <a:off x="2556000" y="1268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52"/>
          <p:cNvSpPr/>
          <p:nvPr/>
        </p:nvSpPr>
        <p:spPr>
          <a:xfrm flipH="1">
            <a:off x="2700000" y="5373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53"/>
          <p:cNvSpPr/>
          <p:nvPr/>
        </p:nvSpPr>
        <p:spPr>
          <a:xfrm>
            <a:off x="1042920" y="4221000"/>
            <a:ext cx="1584360" cy="368280"/>
          </a:xfrm>
          <a:prstGeom prst="rect">
            <a:avLst/>
          </a:prstGeom>
          <a:solidFill>
            <a:srgbClr val="80dce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waarnem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54"/>
          <p:cNvSpPr/>
          <p:nvPr/>
        </p:nvSpPr>
        <p:spPr>
          <a:xfrm>
            <a:off x="971640" y="3284640"/>
            <a:ext cx="1873080" cy="368280"/>
          </a:xfrm>
          <a:prstGeom prst="rect">
            <a:avLst/>
          </a:prstGeom>
          <a:solidFill>
            <a:srgbClr val="80dce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interpreter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55"/>
          <p:cNvSpPr/>
          <p:nvPr/>
        </p:nvSpPr>
        <p:spPr>
          <a:xfrm>
            <a:off x="755640" y="2276640"/>
            <a:ext cx="2232000" cy="368280"/>
          </a:xfrm>
          <a:prstGeom prst="rect">
            <a:avLst/>
          </a:prstGeom>
          <a:solidFill>
            <a:srgbClr val="80dce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Keuze van gedra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56"/>
          <p:cNvSpPr/>
          <p:nvPr/>
        </p:nvSpPr>
        <p:spPr>
          <a:xfrm flipV="1">
            <a:off x="1835280" y="458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57"/>
          <p:cNvSpPr/>
          <p:nvPr/>
        </p:nvSpPr>
        <p:spPr>
          <a:xfrm flipV="1">
            <a:off x="1763640" y="3645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59"/>
          <p:cNvSpPr/>
          <p:nvPr/>
        </p:nvSpPr>
        <p:spPr>
          <a:xfrm flipV="1">
            <a:off x="1763640" y="263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60"/>
          <p:cNvSpPr/>
          <p:nvPr/>
        </p:nvSpPr>
        <p:spPr>
          <a:xfrm flipV="1">
            <a:off x="1763640" y="14839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Communicatiev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Mondel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chriftelij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igita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Benoem een voordeel en nadeel van bovenstaande communicatievorm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Communicatie v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Mondeling: V: persoonlijk karakter, tweezijdige comm, direct. N: niet altijd begrep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Schriftelijk: V: veel info verspreiden, nauwkeurig, bewaren. N:directe reactie ontbreekt, onpersoonlijk.  Eenzijdige com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Digitaal: V: mail, website met info. N: eenzijdige comm. Klopt de gevonden info altij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Media: V: krant, tv, radio. Veel info. N: eenzijdige com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Stelling: klopt di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Niet-communiceren in aanwezigheid van anderen is niet mogelij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8:09:35Z</dcterms:created>
  <dc:creator>Martin Pas</dc:creator>
  <dc:description/>
  <dc:language>en-US</dc:language>
  <cp:lastModifiedBy>Annelies de Groot</cp:lastModifiedBy>
  <dcterms:modified xsi:type="dcterms:W3CDTF">2020-11-12T10:18:31Z</dcterms:modified>
  <cp:revision>45</cp:revision>
  <dc:subject/>
  <dc:title>Hoofdstuk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7E6CDA9E82A08449E9D14AE24C88F02</vt:lpwstr>
  </property>
</Properties>
</file>