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59b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185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185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185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1859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859b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859b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31859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b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1859b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31859b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b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1859b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3185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b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1859b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3185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b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el 1"/>
          <p:cNvSpPr/>
          <p:nvPr/>
        </p:nvSpPr>
        <p:spPr>
          <a:xfrm>
            <a:off x="1785960" y="4786200"/>
            <a:ext cx="54864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1859b"/>
                </a:solidFill>
                <a:latin typeface="Calibri"/>
              </a:rPr>
              <a:t>Klik om de stijl te bewerken</a:t>
            </a:r>
            <a:endParaRPr b="0" lang="en-US" sz="2000" spc="-1" strike="noStrike">
              <a:solidFill>
                <a:srgbClr val="31859b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59b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185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185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185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hte verbindingslijn 1"/>
          <p:cNvSpPr/>
          <p:nvPr/>
        </p:nvSpPr>
        <p:spPr>
          <a:xfrm>
            <a:off x="785880" y="1928880"/>
            <a:ext cx="7500960" cy="1440"/>
          </a:xfrm>
          <a:prstGeom prst="line">
            <a:avLst/>
          </a:prstGeom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185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Regelgeving mestverwerking</a:t>
            </a: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7960" y="2143080"/>
            <a:ext cx="78440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1859b"/>
                </a:solidFill>
                <a:latin typeface="Calibri"/>
              </a:rPr>
              <a:t>Beperkingen of kansen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04880" y="3428640"/>
            <a:ext cx="26114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1859b"/>
                </a:solidFill>
                <a:latin typeface="Calibri"/>
              </a:rPr>
              <a:t>Hans Verkerk</a:t>
            </a:r>
            <a:endParaRPr b="0" lang="en-US" sz="16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04880" y="4000680"/>
            <a:ext cx="36511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31859b"/>
                </a:solidFill>
                <a:latin typeface="Calibri"/>
              </a:rPr>
              <a:t>secretaris meststoffendistributie</a:t>
            </a:r>
            <a:endParaRPr b="0" lang="en-US" sz="16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Eisen (4)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Er moet systematisch preventieve maatregelen tegen vogels, knaagdieren, insecten en ander ongedierte worden getroffen. Hiervoor moet een gedocumenteerd bestrijdingsprogramma worden opgesteld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Voor alle delen van ruimten worden reinigingsprocedures gedocumenteerd en vastgelegd. Voor het reinigen moeten geschikte hulpmiddelen en schoonmaakmiddelen worden verstrekt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Eisen (5)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Controle op hygiëne omvat regelmatige inspectie van de omgeving en de toestellen. De inspectieschema’s en resultaten moeten worden gedocumenteerd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Installaties en toestellen moet goed worden onderhouden en meetapparatuur moet regelmatig worden geijkt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Eisen (6)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Hanteren en opslaan van verwerkte product  moet zo gebeuren dat herbesmetting uitgesloten is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In het proces moet al het materiaal minimaal 60 minuten op 70 graden zijn geweest</a:t>
            </a:r>
            <a:br>
              <a:rPr sz="2800"/>
            </a:b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of</a:t>
            </a:r>
            <a:br>
              <a:rPr sz="2800"/>
            </a:b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uitvoeren van een validatie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Eisen (7)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Representatieve monsters bij de opslag of uitslag moeten voldoen aan: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Salmonella: geen in 25 gram: n=5, c=0, m=0, M=0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Representatieve monsters direct na verwerking moeten voldoen aan: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Escherichia coli: n=5, c=5, m=0, M=1000 in 1 gram</a:t>
            </a:r>
            <a:br>
              <a:rPr sz="2400"/>
            </a:b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of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Enterococcaceae: n=5, c=5, m=0, M=1000 in 1 gram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Eisen (8)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Nationaal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Erkenning door NVWA (toetst op Europese eisen)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Registratie bij Dienst Regelingen (geen toetsing)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Gemeentelijk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Bestemde locatie (anders verzoek tot aanpassing)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Afweging belangen omgeving t.a.v. emissies, geur, geluid, verkeersbewegingen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In- en output registratie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Eisen (9)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Exporteisen product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Binnen EU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Uit erkende installatie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Gebruik handelsdocument Verordening dierlijke bijproducten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Gebruik Vervoersbewijs Dierlijke Mest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Bemonstering, analyse, wegen en AGR/GPS (als vloeibaar), als mestkorrels dan niets.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Vrachten vooraf melden via Client Export Mest (NVWA)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Eisen (10)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Buiten EU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Zelf eisen van ontvangende land opvragen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Eisen indienen bij NVWA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NVWA verstrekt per vracht een gezondheidscertificaat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via Client Export Mest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Toekomstige mestbeleid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Verplichte mestverwerking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Definitie mestverwerking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Drie regio’s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Vast te stellen percentages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Verhandelbaarheid verplichting?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Verplichte afzetcontracten overschotmest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Voerspoor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Productie mineralenconcentraten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1859b"/>
                </a:solidFill>
                <a:latin typeface="Calibri"/>
              </a:rPr>
              <a:t>Vragen?</a:t>
            </a:r>
            <a:endParaRPr b="0" lang="en-US" sz="44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inhoud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Waarom mestverwerking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Eerste stap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Wetgeving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Eisen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Toekomstig mestbeleid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Waarom mestverwerking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1557360"/>
          <a:ext cx="8136000" cy="2224080"/>
        </p:xfrm>
        <a:graphic>
          <a:graphicData uri="http://schemas.openxmlformats.org/drawingml/2006/table">
            <a:tbl>
              <a:tblPr/>
              <a:tblGrid>
                <a:gridCol w="4068720"/>
                <a:gridCol w="4067280"/>
              </a:tblGrid>
              <a:tr h="371520">
                <a:tc>
                  <a:txBody>
                    <a:bodyPr lIns="45000" r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stproductie</a:t>
                      </a:r>
                      <a:endParaRPr b="0" lang="en-US" sz="1800" spc="-1" strike="noStrike">
                        <a:solidFill>
                          <a:srgbClr val="31859b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45000" r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5 miljoen kg fosfaat</a:t>
                      </a:r>
                      <a:endParaRPr b="0" lang="en-US" sz="1800" spc="-1" strike="noStrike">
                        <a:solidFill>
                          <a:srgbClr val="31859b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cddc"/>
                    </a:solidFill>
                  </a:tcPr>
                </a:tc>
              </a:tr>
              <a:tr h="369720">
                <a:tc>
                  <a:txBody>
                    <a:bodyPr lIns="45000" r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1859b"/>
                          </a:solidFill>
                          <a:latin typeface="Calibri"/>
                        </a:rPr>
                        <a:t>Plaatsbaar op landbouwgrond</a:t>
                      </a:r>
                      <a:endParaRPr b="0" lang="en-US" sz="1800" spc="-1" strike="noStrike">
                        <a:solidFill>
                          <a:srgbClr val="31859b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df2"/>
                    </a:solidFill>
                  </a:tcPr>
                </a:tc>
                <a:tc>
                  <a:txBody>
                    <a:bodyPr lIns="45000" r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1859b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31859b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df2"/>
                    </a:solidFill>
                  </a:tcPr>
                </a:tc>
              </a:tr>
              <a:tr h="370080">
                <a:tc>
                  <a:txBody>
                    <a:bodyPr lIns="45000" r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1859b"/>
                          </a:solidFill>
                          <a:latin typeface="Calibri"/>
                        </a:rPr>
                        <a:t>Niet plaatsbaar</a:t>
                      </a:r>
                      <a:endParaRPr b="0" lang="en-US" sz="1800" spc="-1" strike="noStrike">
                        <a:solidFill>
                          <a:srgbClr val="31859b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f9"/>
                    </a:solidFill>
                  </a:tcPr>
                </a:tc>
                <a:tc>
                  <a:txBody>
                    <a:bodyPr lIns="45000" r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1859b"/>
                          </a:solidFill>
                          <a:latin typeface="Calibri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31859b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31859b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f9"/>
                    </a:solidFill>
                  </a:tcPr>
                </a:tc>
              </a:tr>
              <a:tr h="371520">
                <a:tc>
                  <a:txBody>
                    <a:bodyPr lIns="45000" r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1859b"/>
                          </a:solidFill>
                          <a:latin typeface="Calibri"/>
                        </a:rPr>
                        <a:t>Voerspoor</a:t>
                      </a:r>
                      <a:endParaRPr b="0" lang="en-US" sz="1800" spc="-1" strike="noStrike">
                        <a:solidFill>
                          <a:srgbClr val="31859b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df2"/>
                    </a:solidFill>
                  </a:tcPr>
                </a:tc>
                <a:tc>
                  <a:txBody>
                    <a:bodyPr lIns="45000" r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1859b"/>
                          </a:solidFill>
                          <a:latin typeface="Calibri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31859b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31859b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df2"/>
                    </a:solidFill>
                  </a:tcPr>
                </a:tc>
              </a:tr>
              <a:tr h="369720">
                <a:tc>
                  <a:txBody>
                    <a:bodyPr lIns="45000" r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1859b"/>
                          </a:solidFill>
                          <a:latin typeface="Calibri"/>
                        </a:rPr>
                        <a:t>Export</a:t>
                      </a:r>
                      <a:endParaRPr b="0" lang="en-US" sz="1800" spc="-1" strike="noStrike">
                        <a:solidFill>
                          <a:srgbClr val="31859b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f9"/>
                    </a:solidFill>
                  </a:tcPr>
                </a:tc>
                <a:tc>
                  <a:txBody>
                    <a:bodyPr lIns="45000" r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1859b"/>
                          </a:solidFill>
                          <a:latin typeface="Calibri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31859b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31859b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f9"/>
                    </a:solidFill>
                  </a:tcPr>
                </a:tc>
              </a:tr>
              <a:tr h="371520">
                <a:tc>
                  <a:txBody>
                    <a:bodyPr lIns="45000" r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1859b"/>
                          </a:solidFill>
                          <a:latin typeface="Calibri"/>
                        </a:rPr>
                        <a:t>Extra verwerking</a:t>
                      </a:r>
                      <a:endParaRPr b="0" lang="en-US" sz="1800" spc="-1" strike="noStrike">
                        <a:solidFill>
                          <a:srgbClr val="31859b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df2"/>
                    </a:solidFill>
                  </a:tcPr>
                </a:tc>
                <a:tc>
                  <a:txBody>
                    <a:bodyPr lIns="45000" r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1859b"/>
                          </a:solidFill>
                          <a:latin typeface="Calibri"/>
                        </a:rPr>
                        <a:t>    </a:t>
                      </a:r>
                      <a:r>
                        <a:rPr b="0" lang="nl-NL" sz="1800" spc="-1" strike="noStrike">
                          <a:solidFill>
                            <a:srgbClr val="31859b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31859b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df2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 txBox="1"/>
          <p:nvPr/>
        </p:nvSpPr>
        <p:spPr>
          <a:xfrm>
            <a:off x="468360" y="3933720"/>
            <a:ext cx="8145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Bij groei veestapel is meer verwerking nodig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Bij groei export is minder verwerking nodig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Eerste stap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Ketenbenadering:</a:t>
            </a:r>
            <a:br>
              <a:rPr sz="3200"/>
            </a:b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wie wil er producten kopen en welke eisen heeft de potentiele afnemer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Probleem gedreven:</a:t>
            </a:r>
            <a:br>
              <a:rPr sz="3200"/>
            </a:b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welke techniek is er en hoe kan het zo goedkoop mogelijk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Wetgeving (1)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Europees: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Verordening Dierlijke Bijproducten (Vo. (EG) 1069/2009 en Vo. (EU) 1442/2011)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Kunstmestverordening (Vo. (EG) 2001/2001)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Nationaal: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Meststoffenwet (met Uitvoeringsbesluit en Uitvoeringsregeling)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Besluit en regeling dierlijke bijproducten 2011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Wetgeving (2)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Provinciaal of gemeentelijk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Bestemmingsplan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Omgevingsvergunning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Gemeente of provincie afhankelijk van omvang installatie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Eisen (1)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1859b"/>
                </a:solidFill>
                <a:latin typeface="Calibri"/>
              </a:rPr>
              <a:t>Europees</a:t>
            </a: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Ingegeven door dierziekte bestrijding en voedselveiligheid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HACCP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Kritische controlepunten bepalen en controleren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Methoden voor monitoring en controle invoeren en toepassen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Representatieve monsters nemen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Resultaten registeren en minimaal twee jaar bewaren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185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1859b"/>
                </a:solidFill>
                <a:latin typeface="Calibri"/>
              </a:rPr>
              <a:t>Een traceringssysteem van verzonden producten invoeren</a:t>
            </a:r>
            <a:endParaRPr b="0" lang="en-US" sz="2400" spc="-1" strike="noStrike">
              <a:solidFill>
                <a:srgbClr val="31859b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Eisen (2)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De installatie is uitgerust met apparatuur die temperatuur als functie van de tijd meet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De apparatuur die de temperatuur als functie van de tijd meet kan de resultaten permanent registreren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De installatie is voorzien van een adequaat veiligheidssysteem dat voorkomt dat dierlijke bijproducten onvoldoende worden verhit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1859b"/>
                </a:solidFill>
                <a:latin typeface="Calibri"/>
              </a:rPr>
              <a:t>Eisen (3)</a:t>
            </a:r>
            <a:endParaRPr b="1" lang="en-US" sz="4400" spc="-1" strike="noStrike">
              <a:solidFill>
                <a:srgbClr val="31859b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Adequate voorzieningen voor het reinigen en ontsmetten van de voertuigen en recipiënten waarin onbehandelde dierlijke bijproducten worden vervoerd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De dierlijke bijproducten moeten voor behandeling adequaat worden opgeslagen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1859b"/>
                </a:solidFill>
                <a:latin typeface="Calibri"/>
              </a:rPr>
              <a:t>De aangevoerde dierlijke bijproducten moeten zo spoedig mogelijk worden verwerkt</a:t>
            </a:r>
            <a:endParaRPr b="0" lang="en-US" sz="2800" spc="-1" strike="noStrike">
              <a:solidFill>
                <a:srgbClr val="31859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859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7:11:42Z</dcterms:created>
  <dc:creator>Hans Verkerk</dc:creator>
  <dc:description/>
  <dc:language>en-US</dc:language>
  <cp:lastModifiedBy>Edwin Mellema</cp:lastModifiedBy>
  <dcterms:modified xsi:type="dcterms:W3CDTF">2012-10-11T12:28:31Z</dcterms:modified>
  <cp:revision>8</cp:revision>
  <dc:subject/>
  <dc:title>Regelgeving mestverwerking</dc:title>
</cp:coreProperties>
</file>