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A30068-6849-479D-A36A-E60ED3D950B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B3E1F4-39E6-4CB2-A1F5-8794FBC9C18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332000" y="3866400"/>
            <a:ext cx="7354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3200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0084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18880" y="119664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05760" y="119664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332000" y="386640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818880" y="386640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05760" y="386640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196640"/>
            <a:ext cx="7354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331640" y="475920"/>
            <a:ext cx="554508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3200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332000" y="1196640"/>
            <a:ext cx="7354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0084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32000" y="3866400"/>
            <a:ext cx="7354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332000" y="3866400"/>
            <a:ext cx="7354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3200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0084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18880" y="119664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305760" y="119664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332000" y="386640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818880" y="386640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305760" y="386640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32000" y="1196640"/>
            <a:ext cx="7354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331640" y="475920"/>
            <a:ext cx="554508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33200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0084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332000" y="3866400"/>
            <a:ext cx="7354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332000" y="3866400"/>
            <a:ext cx="7354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33200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0084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818880" y="119664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305760" y="119664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332000" y="386640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818880" y="386640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305760" y="386640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331640" y="475920"/>
            <a:ext cx="554508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33200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0084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32000" y="3866400"/>
            <a:ext cx="7354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WEREL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Rechthoek 2"/>
          <p:cNvSpPr/>
          <p:nvPr/>
        </p:nvSpPr>
        <p:spPr>
          <a:xfrm>
            <a:off x="1008000" y="1079640"/>
            <a:ext cx="8136000" cy="180720"/>
          </a:xfrm>
          <a:prstGeom prst="rect">
            <a:avLst/>
          </a:prstGeom>
          <a:solidFill>
            <a:srgbClr val="0089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kstvak 3"/>
          <p:cNvSpPr/>
          <p:nvPr/>
        </p:nvSpPr>
        <p:spPr>
          <a:xfrm>
            <a:off x="1422360" y="576360"/>
            <a:ext cx="4950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89d1"/>
                </a:solidFill>
                <a:latin typeface="Arial"/>
                <a:ea typeface="Arial"/>
              </a:rPr>
              <a:t>WER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7" descr="WEREL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332000" y="1196640"/>
            <a:ext cx="7354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-2700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2286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2860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WEREL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1332000" y="1196640"/>
            <a:ext cx="7354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-2700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2286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2860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1" descr="8037C7E2"/>
          <p:cNvPicPr/>
          <p:nvPr/>
        </p:nvPicPr>
        <p:blipFill>
          <a:blip r:embed="rId1"/>
          <a:stretch/>
        </p:blipFill>
        <p:spPr>
          <a:xfrm>
            <a:off x="1008000" y="1189080"/>
            <a:ext cx="7885080" cy="5254560"/>
          </a:xfrm>
          <a:prstGeom prst="rect">
            <a:avLst/>
          </a:prstGeom>
          <a:ln w="0">
            <a:noFill/>
          </a:ln>
        </p:spPr>
      </p:pic>
      <p:pic>
        <p:nvPicPr>
          <p:cNvPr id="125" name="Afbeelding 5" descr=""/>
          <p:cNvPicPr/>
          <p:nvPr/>
        </p:nvPicPr>
        <p:blipFill>
          <a:blip r:embed="rId2"/>
          <a:stretch/>
        </p:blipFill>
        <p:spPr>
          <a:xfrm>
            <a:off x="1008000" y="5400720"/>
            <a:ext cx="6553440" cy="7189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22000" y="5486400"/>
            <a:ext cx="6095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2 hv 4</a:t>
            </a:r>
            <a:r>
              <a:rPr b="1" lang="nl-NL" sz="2000" spc="-1" strike="noStrike">
                <a:solidFill>
                  <a:srgbClr val="0089d1"/>
                </a:solidFill>
                <a:latin typeface="Arial"/>
                <a:ea typeface="Arial"/>
              </a:rPr>
              <a:t> Water: soms teveel, vaak te weinig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§ 2-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De verdeling van het wa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1332000" y="4797360"/>
            <a:ext cx="3816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r is maar weinig zoet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1332000" y="4005360"/>
            <a:ext cx="5327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r is maar weinig </a:t>
            </a:r>
            <a:r>
              <a:rPr b="0" i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bereikbaar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zoet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1835280" y="3016080"/>
            <a:ext cx="433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3995640" y="3016080"/>
            <a:ext cx="576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5867280" y="3016080"/>
            <a:ext cx="360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1332000" y="3429000"/>
            <a:ext cx="6192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elke uitspraken horen bij welke afbeeld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6877080" y="4005360"/>
            <a:ext cx="647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1332000" y="4403880"/>
            <a:ext cx="4751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Zoet oppervlakte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6877080" y="4398840"/>
            <a:ext cx="585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6877080" y="4797360"/>
            <a:ext cx="585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5"/>
          <p:cNvSpPr/>
          <p:nvPr/>
        </p:nvSpPr>
        <p:spPr>
          <a:xfrm>
            <a:off x="1332000" y="5191200"/>
            <a:ext cx="3816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ntzilten is een dure oplo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6"/>
          <p:cNvSpPr/>
          <p:nvPr/>
        </p:nvSpPr>
        <p:spPr>
          <a:xfrm>
            <a:off x="6877080" y="5191200"/>
            <a:ext cx="503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7"/>
          <p:cNvSpPr/>
          <p:nvPr/>
        </p:nvSpPr>
        <p:spPr>
          <a:xfrm>
            <a:off x="1332000" y="5584680"/>
            <a:ext cx="2663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Bevroren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8"/>
          <p:cNvSpPr/>
          <p:nvPr/>
        </p:nvSpPr>
        <p:spPr>
          <a:xfrm>
            <a:off x="6877080" y="5584680"/>
            <a:ext cx="647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9"/>
          <p:cNvSpPr/>
          <p:nvPr/>
        </p:nvSpPr>
        <p:spPr>
          <a:xfrm>
            <a:off x="1332000" y="5978520"/>
            <a:ext cx="2016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aterd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0"/>
          <p:cNvSpPr/>
          <p:nvPr/>
        </p:nvSpPr>
        <p:spPr>
          <a:xfrm>
            <a:off x="6877080" y="5978520"/>
            <a:ext cx="503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0" descr="C:\Users\Huub\Documents\BuiteNLand\Klas 2\2 hv ICT\80315327.jpg"/>
          <p:cNvPicPr/>
          <p:nvPr/>
        </p:nvPicPr>
        <p:blipFill>
          <a:blip r:embed="rId1"/>
          <a:srcRect l="0" t="77941" r="0" b="0"/>
          <a:stretch/>
        </p:blipFill>
        <p:spPr>
          <a:xfrm>
            <a:off x="895320" y="1052640"/>
            <a:ext cx="62006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De verdeling van het wa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1332000" y="3573360"/>
            <a:ext cx="6769080" cy="11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Bereikbaar zoet water is een schaars goed: je moet er dus zuinig mee omga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Toch stroomt veel neerslag ‘ongebruikt’ terug naar zee omd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1332000" y="4924440"/>
            <a:ext cx="6769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el neerslag valt in dun bevolkte gebied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1332000" y="5711760"/>
            <a:ext cx="76327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el neerslag valt in de winter als het te koud is om aan akkerbouw te doen (einde groeiseizo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1332000" y="5318280"/>
            <a:ext cx="6337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el neerslag valt slechts in een korte peri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0" descr="C:\Users\Huub\Documents\BuiteNLand\Klas 2\2 hv ICT\80315327.jpg"/>
          <p:cNvPicPr/>
          <p:nvPr/>
        </p:nvPicPr>
        <p:blipFill>
          <a:blip r:embed="rId1"/>
          <a:srcRect l="0" t="77941" r="0" b="0"/>
          <a:stretch/>
        </p:blipFill>
        <p:spPr>
          <a:xfrm>
            <a:off x="895320" y="1052640"/>
            <a:ext cx="74404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Risicogebieden voor overstromi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6624720" y="1197000"/>
            <a:ext cx="251928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an elk risicogebied verschijnt eerst een hi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6084720" y="5846760"/>
            <a:ext cx="2592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Rivier- en kustvlak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3419640" y="4941720"/>
            <a:ext cx="208908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ebieden aan de voet van een gebergte met een rotsige ondergr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6732720" y="3645000"/>
            <a:ext cx="20872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ebieden met tropische orka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6624720" y="2432160"/>
            <a:ext cx="234000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ebieden met hevige regenval in de zomer en veel smelt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1187280" y="4941720"/>
            <a:ext cx="244800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ebieden met stroomopwaarts ontbo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0"/>
          <p:cNvSpPr/>
          <p:nvPr/>
        </p:nvSpPr>
        <p:spPr>
          <a:xfrm>
            <a:off x="6084720" y="4941720"/>
            <a:ext cx="22323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ebieden die verstenen (rioler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6" descr="C:\Users\Huub\Documents\BuiteNLand\Klas 2\2 hv ICT\8037C807.jpg"/>
          <p:cNvPicPr/>
          <p:nvPr/>
        </p:nvPicPr>
        <p:blipFill>
          <a:blip r:embed="rId1"/>
          <a:stretch/>
        </p:blipFill>
        <p:spPr>
          <a:xfrm>
            <a:off x="1079640" y="1209600"/>
            <a:ext cx="53830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Risicogebieden voor overstromi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6624720" y="1197000"/>
            <a:ext cx="251928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s de oorzaak het werk van de mens of ligt het aan de natuu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5940360" y="5597640"/>
            <a:ext cx="2592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Rivier- en kustvlak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3276720" y="4692600"/>
            <a:ext cx="208908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ebieden aan de voet van een gebergte met een rotsige ondergr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6661080" y="3500280"/>
            <a:ext cx="20876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ebieden met tro-pische orka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6624720" y="2193840"/>
            <a:ext cx="234000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ebieden met hevige regenval in de zomer en veel smelt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1044720" y="4735440"/>
            <a:ext cx="244764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ebieden met stroomopwaarts ontbo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5850000" y="4692600"/>
            <a:ext cx="3203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ebieden die verste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8"/>
          <p:cNvSpPr/>
          <p:nvPr/>
        </p:nvSpPr>
        <p:spPr>
          <a:xfrm>
            <a:off x="6659640" y="3068640"/>
            <a:ext cx="1800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atu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9"/>
          <p:cNvSpPr/>
          <p:nvPr/>
        </p:nvSpPr>
        <p:spPr>
          <a:xfrm>
            <a:off x="6659640" y="4076640"/>
            <a:ext cx="936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atu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0"/>
          <p:cNvSpPr/>
          <p:nvPr/>
        </p:nvSpPr>
        <p:spPr>
          <a:xfrm>
            <a:off x="1042920" y="5627520"/>
            <a:ext cx="792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M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1"/>
          <p:cNvSpPr/>
          <p:nvPr/>
        </p:nvSpPr>
        <p:spPr>
          <a:xfrm>
            <a:off x="3276720" y="5877000"/>
            <a:ext cx="1657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atu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2"/>
          <p:cNvSpPr/>
          <p:nvPr/>
        </p:nvSpPr>
        <p:spPr>
          <a:xfrm>
            <a:off x="5869080" y="4941720"/>
            <a:ext cx="1655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M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3"/>
          <p:cNvSpPr/>
          <p:nvPr/>
        </p:nvSpPr>
        <p:spPr>
          <a:xfrm>
            <a:off x="5958000" y="5843520"/>
            <a:ext cx="1547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atu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4" descr=""/>
          <p:cNvPicPr/>
          <p:nvPr/>
        </p:nvPicPr>
        <p:blipFill>
          <a:blip r:embed="rId1"/>
          <a:stretch/>
        </p:blipFill>
        <p:spPr>
          <a:xfrm>
            <a:off x="1116000" y="990720"/>
            <a:ext cx="5184720" cy="36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Het aantal overstromingen neemt to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971640" y="5084640"/>
            <a:ext cx="1296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orzake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627280" y="5084640"/>
            <a:ext cx="2449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inder infiltratie do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4859280" y="5084640"/>
            <a:ext cx="3167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ontbossing en verst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8"/>
          <p:cNvSpPr/>
          <p:nvPr/>
        </p:nvSpPr>
        <p:spPr>
          <a:xfrm>
            <a:off x="2627280" y="5388120"/>
            <a:ext cx="1584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het bedij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9"/>
          <p:cNvSpPr/>
          <p:nvPr/>
        </p:nvSpPr>
        <p:spPr>
          <a:xfrm>
            <a:off x="3997440" y="5373720"/>
            <a:ext cx="2879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an riv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1"/>
          <p:cNvSpPr/>
          <p:nvPr/>
        </p:nvSpPr>
        <p:spPr>
          <a:xfrm>
            <a:off x="2627280" y="5732640"/>
            <a:ext cx="1584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bodemda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2"/>
          <p:cNvSpPr/>
          <p:nvPr/>
        </p:nvSpPr>
        <p:spPr>
          <a:xfrm>
            <a:off x="4068720" y="5732640"/>
            <a:ext cx="4248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oor het oppompen van drink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2627280" y="6035760"/>
            <a:ext cx="2665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zeespiegelstijging do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5076720" y="6021360"/>
            <a:ext cx="3240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het versterkte broeikaseff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2" descr="C:\Users\Huub\Documents\BuiteNLand\Klas 2\2 hv ICT\8037C7E5.jpg"/>
          <p:cNvPicPr/>
          <p:nvPr/>
        </p:nvPicPr>
        <p:blipFill>
          <a:blip r:embed="rId1"/>
          <a:stretch/>
        </p:blipFill>
        <p:spPr>
          <a:xfrm>
            <a:off x="1096920" y="1197000"/>
            <a:ext cx="57261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Maatregelen tegen / bij overstromi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042920" y="5084640"/>
            <a:ext cx="5545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7093080" y="1844640"/>
            <a:ext cx="176364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tregelen op korte – of lange termij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1042920" y="5084640"/>
            <a:ext cx="5545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et verminderen van het versterkte broeikaseff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6696000" y="5084640"/>
            <a:ext cx="1548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Lange term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1042920" y="5478480"/>
            <a:ext cx="58341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et weer in het hele stroomgebied in de gaten hou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6732720" y="5483160"/>
            <a:ext cx="1547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Korte term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0"/>
          <p:cNvSpPr/>
          <p:nvPr/>
        </p:nvSpPr>
        <p:spPr>
          <a:xfrm>
            <a:off x="1042920" y="5872320"/>
            <a:ext cx="5545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et weren van nieuwe bewo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1"/>
          <p:cNvSpPr/>
          <p:nvPr/>
        </p:nvSpPr>
        <p:spPr>
          <a:xfrm>
            <a:off x="6732720" y="5872320"/>
            <a:ext cx="1547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Lange term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11" descr="C:\Users\Huub\Documents\BuiteNLand\Klas 2\2 hv ICT\8037C829.jpg"/>
          <p:cNvPicPr/>
          <p:nvPr/>
        </p:nvPicPr>
        <p:blipFill>
          <a:blip r:embed="rId1"/>
          <a:stretch/>
        </p:blipFill>
        <p:spPr>
          <a:xfrm>
            <a:off x="1090440" y="1114560"/>
            <a:ext cx="5785200" cy="38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Maatregelen tegen / bij overstromi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1042920" y="5084640"/>
            <a:ext cx="5545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7093080" y="1844640"/>
            <a:ext cx="176364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tregelen op korte – of lange termij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1042920" y="5084640"/>
            <a:ext cx="5545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et aanleggen van dijken en dam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7308720" y="5084640"/>
            <a:ext cx="1548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Korte term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8"/>
          <p:cNvSpPr/>
          <p:nvPr/>
        </p:nvSpPr>
        <p:spPr>
          <a:xfrm>
            <a:off x="1042920" y="5478480"/>
            <a:ext cx="58341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et veilig stellen van drinkwater na een overstro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7308720" y="5478480"/>
            <a:ext cx="1548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Korte term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1042920" y="5872320"/>
            <a:ext cx="5545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eer ruimte voor de riv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1"/>
          <p:cNvSpPr/>
          <p:nvPr/>
        </p:nvSpPr>
        <p:spPr>
          <a:xfrm>
            <a:off x="7308720" y="5872320"/>
            <a:ext cx="1548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Lange term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2"/>
          <p:cNvSpPr/>
          <p:nvPr/>
        </p:nvSpPr>
        <p:spPr>
          <a:xfrm>
            <a:off x="1042920" y="6265800"/>
            <a:ext cx="4103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vacuaties met burgers oefe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3"/>
          <p:cNvSpPr/>
          <p:nvPr/>
        </p:nvSpPr>
        <p:spPr>
          <a:xfrm>
            <a:off x="7308720" y="6265800"/>
            <a:ext cx="1548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Korte term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11" descr="C:\Users\Huub\Documents\BuiteNLand\Klas 2\2 hv ICT\8037C829.jpg"/>
          <p:cNvPicPr/>
          <p:nvPr/>
        </p:nvPicPr>
        <p:blipFill>
          <a:blip r:embed="rId1"/>
          <a:stretch/>
        </p:blipFill>
        <p:spPr>
          <a:xfrm>
            <a:off x="1090440" y="1114560"/>
            <a:ext cx="5785200" cy="38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ertekorten naar soor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3" descr="8037C809"/>
          <p:cNvPicPr/>
          <p:nvPr/>
        </p:nvPicPr>
        <p:blipFill>
          <a:blip r:embed="rId1"/>
          <a:srcRect l="0" t="0" r="3199" b="20275"/>
          <a:stretch/>
        </p:blipFill>
        <p:spPr>
          <a:xfrm>
            <a:off x="1042920" y="1052640"/>
            <a:ext cx="5797440" cy="339552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4"/>
          <p:cNvSpPr/>
          <p:nvPr/>
        </p:nvSpPr>
        <p:spPr>
          <a:xfrm>
            <a:off x="6840360" y="1052640"/>
            <a:ext cx="2124360" cy="35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Legen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einig of geen watertek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aderend fysiek watertek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fysiek watertek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conomisch watertek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een gegev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5"/>
          <p:cNvSpPr/>
          <p:nvPr/>
        </p:nvSpPr>
        <p:spPr>
          <a:xfrm>
            <a:off x="1619280" y="1628640"/>
            <a:ext cx="144360" cy="42181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6"/>
          <p:cNvSpPr/>
          <p:nvPr/>
        </p:nvSpPr>
        <p:spPr>
          <a:xfrm>
            <a:off x="4140360" y="3139920"/>
            <a:ext cx="144360" cy="25545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8"/>
          <p:cNvSpPr/>
          <p:nvPr/>
        </p:nvSpPr>
        <p:spPr>
          <a:xfrm>
            <a:off x="6227640" y="3760920"/>
            <a:ext cx="827280" cy="16128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9"/>
          <p:cNvSpPr/>
          <p:nvPr/>
        </p:nvSpPr>
        <p:spPr>
          <a:xfrm>
            <a:off x="2771640" y="3760920"/>
            <a:ext cx="0" cy="16128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0"/>
          <p:cNvSpPr/>
          <p:nvPr/>
        </p:nvSpPr>
        <p:spPr>
          <a:xfrm>
            <a:off x="4813200" y="2421000"/>
            <a:ext cx="335160" cy="25923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1"/>
          <p:cNvSpPr/>
          <p:nvPr/>
        </p:nvSpPr>
        <p:spPr>
          <a:xfrm>
            <a:off x="1044720" y="5846760"/>
            <a:ext cx="17269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een gegev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2"/>
          <p:cNvSpPr/>
          <p:nvPr/>
        </p:nvSpPr>
        <p:spPr>
          <a:xfrm>
            <a:off x="1908000" y="5300640"/>
            <a:ext cx="1981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een watertek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3"/>
          <p:cNvSpPr/>
          <p:nvPr/>
        </p:nvSpPr>
        <p:spPr>
          <a:xfrm>
            <a:off x="6840360" y="5383080"/>
            <a:ext cx="19098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fysiek watertek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4"/>
          <p:cNvSpPr/>
          <p:nvPr/>
        </p:nvSpPr>
        <p:spPr>
          <a:xfrm>
            <a:off x="4194000" y="4892760"/>
            <a:ext cx="20145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aderend fysiek watertek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5"/>
          <p:cNvSpPr/>
          <p:nvPr/>
        </p:nvSpPr>
        <p:spPr>
          <a:xfrm>
            <a:off x="3564000" y="5694480"/>
            <a:ext cx="14396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economisch watertek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Great Man-made River Project in Libië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6192720" y="1144440"/>
            <a:ext cx="29512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eze pijpleiding loopt naar een gebied met 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6"/>
          <p:cNvSpPr/>
          <p:nvPr/>
        </p:nvSpPr>
        <p:spPr>
          <a:xfrm>
            <a:off x="6200640" y="1700280"/>
            <a:ext cx="2592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fysiek watertek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6191280" y="3013200"/>
            <a:ext cx="29527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e pijpleiding is bedoeld om de kans 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8"/>
          <p:cNvSpPr/>
          <p:nvPr/>
        </p:nvSpPr>
        <p:spPr>
          <a:xfrm>
            <a:off x="6227640" y="3573360"/>
            <a:ext cx="2987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waterstress te verklei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9"/>
          <p:cNvSpPr/>
          <p:nvPr/>
        </p:nvSpPr>
        <p:spPr>
          <a:xfrm>
            <a:off x="1042920" y="5157720"/>
            <a:ext cx="42498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et fossiele water is afkomstig uit 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0"/>
          <p:cNvSpPr/>
          <p:nvPr/>
        </p:nvSpPr>
        <p:spPr>
          <a:xfrm>
            <a:off x="4935600" y="5157720"/>
            <a:ext cx="1079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aqui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1"/>
          <p:cNvSpPr/>
          <p:nvPr/>
        </p:nvSpPr>
        <p:spPr>
          <a:xfrm>
            <a:off x="1547640" y="5551560"/>
            <a:ext cx="59770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2"/>
          <p:cNvSpPr/>
          <p:nvPr/>
        </p:nvSpPr>
        <p:spPr>
          <a:xfrm>
            <a:off x="1042920" y="5551560"/>
            <a:ext cx="62658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en pijpleiding is beter dan een kanaal omdat er dan mi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3"/>
          <p:cNvSpPr/>
          <p:nvPr/>
        </p:nvSpPr>
        <p:spPr>
          <a:xfrm>
            <a:off x="7740720" y="5956200"/>
            <a:ext cx="649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4"/>
          <p:cNvSpPr/>
          <p:nvPr/>
        </p:nvSpPr>
        <p:spPr>
          <a:xfrm>
            <a:off x="7236000" y="5551560"/>
            <a:ext cx="1223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rdam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5"/>
          <p:cNvSpPr/>
          <p:nvPr/>
        </p:nvSpPr>
        <p:spPr>
          <a:xfrm>
            <a:off x="1042920" y="6102360"/>
            <a:ext cx="936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ier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6"/>
          <p:cNvSpPr/>
          <p:nvPr/>
        </p:nvSpPr>
        <p:spPr>
          <a:xfrm>
            <a:off x="1763640" y="6093000"/>
            <a:ext cx="532944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iet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sprake van duurzaam waterbeh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20" descr="C:\Users\Huub\Documents\BuiteNLand\Klas 2\2 hv ICT\8037C805.jpg"/>
          <p:cNvPicPr/>
          <p:nvPr/>
        </p:nvPicPr>
        <p:blipFill>
          <a:blip r:embed="rId1"/>
          <a:stretch/>
        </p:blipFill>
        <p:spPr>
          <a:xfrm>
            <a:off x="1023840" y="1150920"/>
            <a:ext cx="484344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0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ersparen: vasthouden wat je heb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6469200" y="1538280"/>
            <a:ext cx="2232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oordelen stuwd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6588000" y="2060640"/>
            <a:ext cx="22320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oorraad drink- en irrigatie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6588000" y="2703600"/>
            <a:ext cx="24955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Elektriciteit opwek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7"/>
          <p:cNvSpPr/>
          <p:nvPr/>
        </p:nvSpPr>
        <p:spPr>
          <a:xfrm>
            <a:off x="6613560" y="3068640"/>
            <a:ext cx="24955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Regelen waterstand stroomafwa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1042920" y="5013360"/>
            <a:ext cx="1152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adel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0"/>
          <p:cNvSpPr/>
          <p:nvPr/>
        </p:nvSpPr>
        <p:spPr>
          <a:xfrm>
            <a:off x="2484360" y="5013360"/>
            <a:ext cx="39848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edwongen verhuizi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1"/>
          <p:cNvSpPr/>
          <p:nvPr/>
        </p:nvSpPr>
        <p:spPr>
          <a:xfrm>
            <a:off x="2484360" y="5300640"/>
            <a:ext cx="39848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Het stuwmeer slibt na een tijd di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2"/>
          <p:cNvSpPr/>
          <p:nvPr/>
        </p:nvSpPr>
        <p:spPr>
          <a:xfrm>
            <a:off x="2484360" y="5589720"/>
            <a:ext cx="41292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rgroot kans op aardbevi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4"/>
          <p:cNvSpPr/>
          <p:nvPr/>
        </p:nvSpPr>
        <p:spPr>
          <a:xfrm>
            <a:off x="6661080" y="5267160"/>
            <a:ext cx="2232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uurzamer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5"/>
          <p:cNvSpPr/>
          <p:nvPr/>
        </p:nvSpPr>
        <p:spPr>
          <a:xfrm>
            <a:off x="6684840" y="5516640"/>
            <a:ext cx="24955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water vasthoud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kstvak 1"/>
          <p:cNvSpPr/>
          <p:nvPr/>
        </p:nvSpPr>
        <p:spPr>
          <a:xfrm>
            <a:off x="6692760" y="5784840"/>
            <a:ext cx="2880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10000"/>
              </a:lnSpc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kleinschal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kstvak 2"/>
          <p:cNvSpPr/>
          <p:nvPr/>
        </p:nvSpPr>
        <p:spPr>
          <a:xfrm>
            <a:off x="6707160" y="6021360"/>
            <a:ext cx="25448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10000"/>
              </a:lnSpc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in eigen omge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15" descr="C:\Users\Huub\Documents\BuiteNLand\Klas 2\2 hv ICT\8037C824.jpg"/>
          <p:cNvPicPr/>
          <p:nvPr/>
        </p:nvPicPr>
        <p:blipFill>
          <a:blip r:embed="rId1"/>
          <a:stretch/>
        </p:blipFill>
        <p:spPr>
          <a:xfrm>
            <a:off x="1042920" y="1197000"/>
            <a:ext cx="529452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er: soms teve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C:\Users\Huub\Documents\BuiteNLand\Klas 2\2 hv ICT\8037C814.jpg"/>
          <p:cNvPicPr/>
          <p:nvPr/>
        </p:nvPicPr>
        <p:blipFill>
          <a:blip r:embed="rId1"/>
          <a:stretch/>
        </p:blipFill>
        <p:spPr>
          <a:xfrm>
            <a:off x="1042920" y="1484280"/>
            <a:ext cx="779472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59767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Water sparen: minder gebruiken / meer hergebruik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3" descr="8037C80E"/>
          <p:cNvPicPr/>
          <p:nvPr/>
        </p:nvPicPr>
        <p:blipFill>
          <a:blip r:embed="rId1"/>
          <a:srcRect l="0" t="17551" r="0" b="17385"/>
          <a:stretch/>
        </p:blipFill>
        <p:spPr>
          <a:xfrm>
            <a:off x="1235160" y="1557360"/>
            <a:ext cx="6073560" cy="187164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4"/>
          <p:cNvSpPr/>
          <p:nvPr/>
        </p:nvSpPr>
        <p:spPr>
          <a:xfrm>
            <a:off x="7524720" y="1916280"/>
            <a:ext cx="1008000" cy="12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Jui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njui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971640" y="3789360"/>
            <a:ext cx="65530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1. Dit plaatje past het best bij een gebied met een economisch watertek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971640" y="4797360"/>
            <a:ext cx="6769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2. Hoe verder naar rechts des te minder duurzaam watergebru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971640" y="5445000"/>
            <a:ext cx="7200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3. Hoe zuiniger het watergebruik des te minder infiltr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8"/>
          <p:cNvSpPr/>
          <p:nvPr/>
        </p:nvSpPr>
        <p:spPr>
          <a:xfrm>
            <a:off x="971640" y="6165720"/>
            <a:ext cx="7200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4. De irrigatievorm is van invloed op de nuttige neers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7740720" y="3789360"/>
            <a:ext cx="1079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Onju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7740720" y="4797360"/>
            <a:ext cx="1079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Onju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1"/>
          <p:cNvSpPr/>
          <p:nvPr/>
        </p:nvSpPr>
        <p:spPr>
          <a:xfrm>
            <a:off x="7812000" y="5445000"/>
            <a:ext cx="1008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Ju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2"/>
          <p:cNvSpPr/>
          <p:nvPr/>
        </p:nvSpPr>
        <p:spPr>
          <a:xfrm>
            <a:off x="7812000" y="6165720"/>
            <a:ext cx="1008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Ju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er: vaak te weini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C:\Users\Huub\Documents\BuiteNLand\Klas 2\2 hv ICT\8037C81C.jpg"/>
          <p:cNvPicPr/>
          <p:nvPr/>
        </p:nvPicPr>
        <p:blipFill>
          <a:blip r:embed="rId1"/>
          <a:stretch/>
        </p:blipFill>
        <p:spPr>
          <a:xfrm>
            <a:off x="1042920" y="1197000"/>
            <a:ext cx="787392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er in beweg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6877080" y="1557360"/>
            <a:ext cx="194292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elke vormen kan het water aannemen in de lange kringloop van het wa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7093080" y="3429000"/>
            <a:ext cx="1726920" cy="12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loei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187280" y="5576760"/>
            <a:ext cx="55454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elke vormen kan het water aannemen in de korte kringloop in warme gebied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7164360" y="5445000"/>
            <a:ext cx="122400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loei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C:\Users\Huub\Documents\BuiteNLand\Klas 2\2 hv ICT\80315328.jpg"/>
          <p:cNvPicPr/>
          <p:nvPr/>
        </p:nvPicPr>
        <p:blipFill>
          <a:blip r:embed="rId1"/>
          <a:stretch/>
        </p:blipFill>
        <p:spPr>
          <a:xfrm>
            <a:off x="1076400" y="1557360"/>
            <a:ext cx="540072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er in beweg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1116000" y="5837400"/>
            <a:ext cx="34560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elke kringloop is voor de mens het belangrijkst en waaro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4753080" y="5837400"/>
            <a:ext cx="42480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De lange kringloop want bij de korte blijft zoet water buiten bereik van de m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C:\Users\Huub\Documents\BuiteNLand\Klas 2\2 hv ICT\80315328.jpg"/>
          <p:cNvPicPr/>
          <p:nvPr/>
        </p:nvPicPr>
        <p:blipFill>
          <a:blip r:embed="rId1"/>
          <a:stretch/>
        </p:blipFill>
        <p:spPr>
          <a:xfrm>
            <a:off x="1076400" y="1341360"/>
            <a:ext cx="6375240" cy="42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De verdeling van het wa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7164360" y="1484280"/>
            <a:ext cx="1657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Zoet water</a:t>
            </a:r>
            <a:br>
              <a:rPr sz="18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vers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7486560" y="1989000"/>
            <a:ext cx="1657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zout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7164360" y="3441600"/>
            <a:ext cx="197964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ppervlakte- water </a:t>
            </a:r>
            <a:br>
              <a:rPr sz="18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vers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7596360" y="4292640"/>
            <a:ext cx="1655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rond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1258920" y="5516640"/>
            <a:ext cx="27367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ernieuwbaar water </a:t>
            </a:r>
            <a:br>
              <a:rPr sz="18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vers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1187280" y="6060960"/>
            <a:ext cx="3097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iet-vernieuwbaar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6156360" y="5443560"/>
            <a:ext cx="18003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atte gebieden 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vers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6300720" y="5987880"/>
            <a:ext cx="1800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droge gebied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2" descr="bp48"/>
          <p:cNvPicPr/>
          <p:nvPr/>
        </p:nvPicPr>
        <p:blipFill>
          <a:blip r:embed="rId1"/>
          <a:stretch/>
        </p:blipFill>
        <p:spPr>
          <a:xfrm>
            <a:off x="1042920" y="1197000"/>
            <a:ext cx="61628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er in bala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8037C803"/>
          <p:cNvPicPr/>
          <p:nvPr/>
        </p:nvPicPr>
        <p:blipFill>
          <a:blip r:embed="rId1"/>
          <a:srcRect l="1212" t="15888" r="6852" b="21694"/>
          <a:stretch/>
        </p:blipFill>
        <p:spPr>
          <a:xfrm>
            <a:off x="1547640" y="1268280"/>
            <a:ext cx="6264360" cy="333864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1042920" y="5751360"/>
            <a:ext cx="1081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Aanvo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2124000" y="5238720"/>
            <a:ext cx="208764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eers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rond- en  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rivier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fossiel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5219640" y="5702400"/>
            <a:ext cx="936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Afvo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6372360" y="5229360"/>
            <a:ext cx="3095640" cy="12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rdam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uitstroom in z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ebruik door m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2124000" y="4753080"/>
            <a:ext cx="2665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uttige neerslag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1"/>
          <p:cNvSpPr/>
          <p:nvPr/>
        </p:nvSpPr>
        <p:spPr>
          <a:xfrm>
            <a:off x="4176720" y="4740120"/>
            <a:ext cx="1224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eers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2"/>
          <p:cNvSpPr/>
          <p:nvPr/>
        </p:nvSpPr>
        <p:spPr>
          <a:xfrm>
            <a:off x="5221440" y="4764240"/>
            <a:ext cx="5745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3"/>
          <p:cNvSpPr/>
          <p:nvPr/>
        </p:nvSpPr>
        <p:spPr>
          <a:xfrm>
            <a:off x="5796000" y="4740120"/>
            <a:ext cx="1512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rdam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Afbeelding 1" descr="doorsnede.png"/>
          <p:cNvPicPr/>
          <p:nvPr/>
        </p:nvPicPr>
        <p:blipFill>
          <a:blip r:embed="rId1"/>
          <a:stretch/>
        </p:blipFill>
        <p:spPr>
          <a:xfrm>
            <a:off x="1019160" y="1052640"/>
            <a:ext cx="3632040" cy="519408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er in beweging: wat is wat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8"/>
          <p:cNvSpPr/>
          <p:nvPr/>
        </p:nvSpPr>
        <p:spPr>
          <a:xfrm>
            <a:off x="2987640" y="1268280"/>
            <a:ext cx="2521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9"/>
          <p:cNvSpPr/>
          <p:nvPr/>
        </p:nvSpPr>
        <p:spPr>
          <a:xfrm>
            <a:off x="2987640" y="2454120"/>
            <a:ext cx="2521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0"/>
          <p:cNvSpPr/>
          <p:nvPr/>
        </p:nvSpPr>
        <p:spPr>
          <a:xfrm>
            <a:off x="2271600" y="3121200"/>
            <a:ext cx="3092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1"/>
          <p:cNvSpPr/>
          <p:nvPr/>
        </p:nvSpPr>
        <p:spPr>
          <a:xfrm flipV="1">
            <a:off x="3276720" y="4437000"/>
            <a:ext cx="223200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5940360" y="1071720"/>
            <a:ext cx="2592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eers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3"/>
          <p:cNvSpPr/>
          <p:nvPr/>
        </p:nvSpPr>
        <p:spPr>
          <a:xfrm>
            <a:off x="5940360" y="2257560"/>
            <a:ext cx="1584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nfiltr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5905440" y="2924280"/>
            <a:ext cx="1943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rond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5"/>
          <p:cNvSpPr/>
          <p:nvPr/>
        </p:nvSpPr>
        <p:spPr>
          <a:xfrm>
            <a:off x="3973680" y="5516640"/>
            <a:ext cx="193176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6"/>
          <p:cNvSpPr/>
          <p:nvPr/>
        </p:nvSpPr>
        <p:spPr>
          <a:xfrm>
            <a:off x="5940360" y="3948120"/>
            <a:ext cx="223200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por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este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5905440" y="5500800"/>
            <a:ext cx="223200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ndoorlaatb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la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Afbeelding 1" descr="doorsnede.png"/>
          <p:cNvPicPr/>
          <p:nvPr/>
        </p:nvPicPr>
        <p:blipFill>
          <a:blip r:embed="rId1"/>
          <a:stretch/>
        </p:blipFill>
        <p:spPr>
          <a:xfrm>
            <a:off x="1116000" y="1071720"/>
            <a:ext cx="3411720" cy="48783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Vernieuwbaar of niet-vernieuwbaar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4572000" y="1071720"/>
            <a:ext cx="2592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eers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4930920" y="2467080"/>
            <a:ext cx="1584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nfiltr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4572000" y="3035160"/>
            <a:ext cx="1943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rond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3"/>
          <p:cNvSpPr/>
          <p:nvPr/>
        </p:nvSpPr>
        <p:spPr>
          <a:xfrm>
            <a:off x="4572000" y="4292640"/>
            <a:ext cx="2232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Fossiel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4572000" y="1700280"/>
            <a:ext cx="2232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ppervlakte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6877080" y="1071720"/>
            <a:ext cx="1657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rnieuwb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6877080" y="1700280"/>
            <a:ext cx="1944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rnieuwb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6877080" y="3035160"/>
            <a:ext cx="1871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rnieuwb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6877080" y="4292640"/>
            <a:ext cx="25909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iet–vernieuwb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0"/>
          <p:cNvSpPr/>
          <p:nvPr/>
        </p:nvSpPr>
        <p:spPr>
          <a:xfrm>
            <a:off x="3490920" y="2670120"/>
            <a:ext cx="1440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1"/>
          <p:cNvSpPr/>
          <p:nvPr/>
        </p:nvSpPr>
        <p:spPr>
          <a:xfrm>
            <a:off x="4932360" y="4684680"/>
            <a:ext cx="0" cy="1125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2"/>
          <p:cNvSpPr/>
          <p:nvPr/>
        </p:nvSpPr>
        <p:spPr>
          <a:xfrm>
            <a:off x="4572000" y="5834160"/>
            <a:ext cx="15843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uurzaam waterbehe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4"/>
          <p:cNvSpPr/>
          <p:nvPr/>
        </p:nvSpPr>
        <p:spPr>
          <a:xfrm>
            <a:off x="6156360" y="6165720"/>
            <a:ext cx="3589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5"/>
          <p:cNvSpPr/>
          <p:nvPr/>
        </p:nvSpPr>
        <p:spPr>
          <a:xfrm>
            <a:off x="6770520" y="5834160"/>
            <a:ext cx="22672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ee, niet–duurzaam waterbeh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3:17:36Z</dcterms:created>
  <dc:creator>yetsenga</dc:creator>
  <dc:description>Aangepast voor 2003 versie door Tekst 2000</dc:description>
  <dc:language>en-US</dc:language>
  <cp:lastModifiedBy>Venhoven, Arthur</cp:lastModifiedBy>
  <dcterms:modified xsi:type="dcterms:W3CDTF">2014-04-09T14:52:53Z</dcterms:modified>
  <cp:revision>42</cp:revision>
  <dc:subject/>
  <dc:title>Dia 1</dc:title>
</cp:coreProperties>
</file>