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42D94-9F71-4353-8127-661A50B5D59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36830-22D8-41A9-A785-A6BC4DDD2DD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hthoek 2"/>
          <p:cNvSpPr/>
          <p:nvPr/>
        </p:nvSpPr>
        <p:spPr>
          <a:xfrm>
            <a:off x="1008000" y="1079640"/>
            <a:ext cx="8136000" cy="180720"/>
          </a:xfrm>
          <a:prstGeom prst="rect">
            <a:avLst/>
          </a:prstGeom>
          <a:solidFill>
            <a:srgbClr val="0089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kstvak 3"/>
          <p:cNvSpPr/>
          <p:nvPr/>
        </p:nvSpPr>
        <p:spPr>
          <a:xfrm>
            <a:off x="1422360" y="576360"/>
            <a:ext cx="495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89d1"/>
                </a:solidFill>
                <a:latin typeface="Arial"/>
                <a:ea typeface="Arial"/>
              </a:rPr>
              <a:t>WER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8037C7E2"/>
          <p:cNvPicPr/>
          <p:nvPr/>
        </p:nvPicPr>
        <p:blipFill>
          <a:blip r:embed="rId1"/>
          <a:stretch/>
        </p:blipFill>
        <p:spPr>
          <a:xfrm>
            <a:off x="1008000" y="1189080"/>
            <a:ext cx="7885080" cy="5254560"/>
          </a:xfrm>
          <a:prstGeom prst="rect">
            <a:avLst/>
          </a:prstGeom>
          <a:ln w="0">
            <a:noFill/>
          </a:ln>
        </p:spPr>
      </p:pic>
      <p:pic>
        <p:nvPicPr>
          <p:cNvPr id="125" name="Afbeelding 5" descr=""/>
          <p:cNvPicPr/>
          <p:nvPr/>
        </p:nvPicPr>
        <p:blipFill>
          <a:blip r:embed="rId2"/>
          <a:stretch/>
        </p:blipFill>
        <p:spPr>
          <a:xfrm>
            <a:off x="1008000" y="5400720"/>
            <a:ext cx="6553440" cy="718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22000" y="54864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 hv 4</a:t>
            </a:r>
            <a:r>
              <a:rPr b="1" lang="nl-NL" sz="2000" spc="-1" strike="noStrike">
                <a:solidFill>
                  <a:srgbClr val="0089d1"/>
                </a:solidFill>
                <a:latin typeface="Arial"/>
                <a:ea typeface="Arial"/>
              </a:rPr>
              <a:t> Water: soms teveel, vaak te weini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§ 2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332000" y="479736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r is maar weinig zoe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332000" y="4005360"/>
            <a:ext cx="532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r is maar weinig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reikbaa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zoe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835280" y="3016080"/>
            <a:ext cx="433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3995640" y="3016080"/>
            <a:ext cx="57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5867280" y="3016080"/>
            <a:ext cx="36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332000" y="3429000"/>
            <a:ext cx="619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uitspraken horen bij welke afbeeld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877080" y="4005360"/>
            <a:ext cx="6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1332000" y="4403880"/>
            <a:ext cx="4751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et oppervlakt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6877080" y="4398840"/>
            <a:ext cx="585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877080" y="4797360"/>
            <a:ext cx="585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1332000" y="519120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tzilten is een dure opl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6877080" y="5191200"/>
            <a:ext cx="50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1332000" y="5584680"/>
            <a:ext cx="266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vroren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6877080" y="5584680"/>
            <a:ext cx="6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1332000" y="5978520"/>
            <a:ext cx="2016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erd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6877080" y="5978520"/>
            <a:ext cx="50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0" descr="C:\Users\Huub\Documents\BuiteNLand\Klas 2\2 hv ICT\80315327.jpg"/>
          <p:cNvPicPr/>
          <p:nvPr/>
        </p:nvPicPr>
        <p:blipFill>
          <a:blip r:embed="rId1"/>
          <a:srcRect l="0" t="77941" r="0" b="0"/>
          <a:stretch/>
        </p:blipFill>
        <p:spPr>
          <a:xfrm>
            <a:off x="895320" y="1052640"/>
            <a:ext cx="6200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332000" y="3573360"/>
            <a:ext cx="6769080" cy="11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reikbaar zoet water is een schaars goed: je moet er dus zuinig mee omg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och stroomt veel neerslag ‘ongebruikt’ terug naar zee omd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332000" y="4924440"/>
            <a:ext cx="6769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in dun bevolkte gebie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332000" y="5711760"/>
            <a:ext cx="763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in de winter als het te koud is om aan akkerbouw te doen (einde groeiseizo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332000" y="5318280"/>
            <a:ext cx="6337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slechts in een korte peri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0" descr="C:\Users\Huub\Documents\BuiteNLand\Klas 2\2 hv ICT\80315327.jpg"/>
          <p:cNvPicPr/>
          <p:nvPr/>
        </p:nvPicPr>
        <p:blipFill>
          <a:blip r:embed="rId1"/>
          <a:srcRect l="0" t="77941" r="0" b="0"/>
          <a:stretch/>
        </p:blipFill>
        <p:spPr>
          <a:xfrm>
            <a:off x="895320" y="1052640"/>
            <a:ext cx="74404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isicogebieden voor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6624720" y="1197000"/>
            <a:ext cx="25192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elk risicogebied verschijnt eerst een h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6084720" y="5846760"/>
            <a:ext cx="259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ivier- en kustvlak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419640" y="4941720"/>
            <a:ext cx="208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aan de voet van een gebergte met een rotsige onder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6732720" y="3645000"/>
            <a:ext cx="2087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tropische ork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6624720" y="2432160"/>
            <a:ext cx="2340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hevige regenval in de zomer en veel smelt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1187280" y="4941720"/>
            <a:ext cx="2448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stroomopwaarts ontb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6084720" y="4941720"/>
            <a:ext cx="2232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die verstenen (riol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6" descr="C:\Users\Huub\Documents\BuiteNLand\Klas 2\2 hv ICT\8037C807.jpg"/>
          <p:cNvPicPr/>
          <p:nvPr/>
        </p:nvPicPr>
        <p:blipFill>
          <a:blip r:embed="rId1"/>
          <a:stretch/>
        </p:blipFill>
        <p:spPr>
          <a:xfrm>
            <a:off x="1079640" y="1209600"/>
            <a:ext cx="53830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isicogebieden voor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624720" y="1197000"/>
            <a:ext cx="25192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de oorzaak het werk van de mens of ligt het aan de natuu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5940360" y="559764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Rivier- en kustvlak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276720" y="4692600"/>
            <a:ext cx="208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aan de voet van een gebergte met een rotsige onder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661080" y="3500280"/>
            <a:ext cx="2087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tro-pische ork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624720" y="2193840"/>
            <a:ext cx="2340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hevige regenval in de zomer en veel smelt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44720" y="4735440"/>
            <a:ext cx="2447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stroomopwaarts ontb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5850000" y="4692600"/>
            <a:ext cx="320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die verst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6659640" y="3068640"/>
            <a:ext cx="1800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6659640" y="407664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1042920" y="5627520"/>
            <a:ext cx="7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3276720" y="5877000"/>
            <a:ext cx="1657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5869080" y="4941720"/>
            <a:ext cx="1655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5958000" y="584352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4" descr=""/>
          <p:cNvPicPr/>
          <p:nvPr/>
        </p:nvPicPr>
        <p:blipFill>
          <a:blip r:embed="rId1"/>
          <a:stretch/>
        </p:blipFill>
        <p:spPr>
          <a:xfrm>
            <a:off x="1116000" y="990720"/>
            <a:ext cx="518472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et aantal overstromingen neemt to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971640" y="5084640"/>
            <a:ext cx="129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orzak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627280" y="5084640"/>
            <a:ext cx="2449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inder infiltratie d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4859280" y="5084640"/>
            <a:ext cx="3167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tbossing en ver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2627280" y="538812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bedij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3997440" y="5373720"/>
            <a:ext cx="2879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riv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2627280" y="573264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odemd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4068720" y="5732640"/>
            <a:ext cx="4248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oor het oppompen van drink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2627280" y="6035760"/>
            <a:ext cx="26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eespiegelstijging d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5076720" y="6021360"/>
            <a:ext cx="324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versterkte broeikas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C:\Users\Huub\Documents\BuiteNLand\Klas 2\2 hv ICT\8037C7E5.jpg"/>
          <p:cNvPicPr/>
          <p:nvPr/>
        </p:nvPicPr>
        <p:blipFill>
          <a:blip r:embed="rId1"/>
          <a:stretch/>
        </p:blipFill>
        <p:spPr>
          <a:xfrm>
            <a:off x="1096920" y="1197000"/>
            <a:ext cx="5726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atregelen tegen / bij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042920" y="5084640"/>
            <a:ext cx="554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093080" y="1844640"/>
            <a:ext cx="1763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tregelen op korte – of lange termij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042920" y="508464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verminderen van het versterkte broeikas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6696000" y="508464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042920" y="5478480"/>
            <a:ext cx="5834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weer in het hele stroomgebied in de gaten hou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732720" y="548316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1042920" y="587232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weren van nieuwe bew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6732720" y="587232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C:\Users\Huub\Documents\BuiteNLand\Klas 2\2 hv ICT\8037C829.jpg"/>
          <p:cNvPicPr/>
          <p:nvPr/>
        </p:nvPicPr>
        <p:blipFill>
          <a:blip r:embed="rId1"/>
          <a:stretch/>
        </p:blipFill>
        <p:spPr>
          <a:xfrm>
            <a:off x="1090440" y="1114560"/>
            <a:ext cx="578520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atregelen tegen / bij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042920" y="5084640"/>
            <a:ext cx="554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7093080" y="1844640"/>
            <a:ext cx="1763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tregelen op korte – of lange termij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042920" y="508464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aanleggen van dijken en dam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7308720" y="508464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042920" y="5478480"/>
            <a:ext cx="5834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veilig stellen van drinkwater na een overstr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7308720" y="547848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1042920" y="587232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er ruimte voor de riv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7308720" y="587232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1042920" y="6265800"/>
            <a:ext cx="410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vacuaties met burgers oef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7308720" y="626580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C:\Users\Huub\Documents\BuiteNLand\Klas 2\2 hv ICT\8037C829.jpg"/>
          <p:cNvPicPr/>
          <p:nvPr/>
        </p:nvPicPr>
        <p:blipFill>
          <a:blip r:embed="rId1"/>
          <a:stretch/>
        </p:blipFill>
        <p:spPr>
          <a:xfrm>
            <a:off x="1090440" y="1114560"/>
            <a:ext cx="578520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tekorten naar soo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8037C809"/>
          <p:cNvPicPr/>
          <p:nvPr/>
        </p:nvPicPr>
        <p:blipFill>
          <a:blip r:embed="rId1"/>
          <a:srcRect l="0" t="0" r="3199" b="20275"/>
          <a:stretch/>
        </p:blipFill>
        <p:spPr>
          <a:xfrm>
            <a:off x="1042920" y="1052640"/>
            <a:ext cx="5797440" cy="33955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"/>
          <p:cNvSpPr/>
          <p:nvPr/>
        </p:nvSpPr>
        <p:spPr>
          <a:xfrm>
            <a:off x="6840360" y="1052640"/>
            <a:ext cx="2124360" cy="35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inig of geen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derend 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en 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1619280" y="1628640"/>
            <a:ext cx="144360" cy="4218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"/>
          <p:cNvSpPr/>
          <p:nvPr/>
        </p:nvSpPr>
        <p:spPr>
          <a:xfrm>
            <a:off x="4140360" y="3139920"/>
            <a:ext cx="144360" cy="2554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8"/>
          <p:cNvSpPr/>
          <p:nvPr/>
        </p:nvSpPr>
        <p:spPr>
          <a:xfrm>
            <a:off x="6227640" y="3760920"/>
            <a:ext cx="827280" cy="1612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9"/>
          <p:cNvSpPr/>
          <p:nvPr/>
        </p:nvSpPr>
        <p:spPr>
          <a:xfrm>
            <a:off x="2771640" y="3760920"/>
            <a:ext cx="0" cy="1612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4813200" y="2421000"/>
            <a:ext cx="335160" cy="2592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1044720" y="5846760"/>
            <a:ext cx="1726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en 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1908000" y="5300640"/>
            <a:ext cx="1981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en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6840360" y="5383080"/>
            <a:ext cx="1909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4194000" y="4892760"/>
            <a:ext cx="20145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derend 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3564000" y="5694480"/>
            <a:ext cx="1439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reat Man-made River Project in Libië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192720" y="1144440"/>
            <a:ext cx="2951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ze pijpleiding loopt naar een gebied met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6200640" y="170028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ysiek watertek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6191280" y="3013200"/>
            <a:ext cx="295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 pijpleiding is bedoeld om de kans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6227640" y="3573360"/>
            <a:ext cx="298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waterstress te verkle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1042920" y="5157720"/>
            <a:ext cx="4249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fossiele water is afkomstig uit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4935600" y="515772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qui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1547640" y="5551560"/>
            <a:ext cx="5977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1042920" y="5551560"/>
            <a:ext cx="6265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en pijpleiding is beter dan een kanaal omdat er dan m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7740720" y="5956200"/>
            <a:ext cx="64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7236000" y="5551560"/>
            <a:ext cx="122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5"/>
          <p:cNvSpPr/>
          <p:nvPr/>
        </p:nvSpPr>
        <p:spPr>
          <a:xfrm>
            <a:off x="1042920" y="610236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e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1763640" y="6093000"/>
            <a:ext cx="532944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prake van duurzaam waterbeh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0" descr="C:\Users\Huub\Documents\BuiteNLand\Klas 2\2 hv ICT\8037C805.jpg"/>
          <p:cNvPicPr/>
          <p:nvPr/>
        </p:nvPicPr>
        <p:blipFill>
          <a:blip r:embed="rId1"/>
          <a:stretch/>
        </p:blipFill>
        <p:spPr>
          <a:xfrm>
            <a:off x="1023840" y="1150920"/>
            <a:ext cx="4843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sparen: vasthouden wat je heb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6469200" y="153828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ordelen stuwd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6588000" y="2060640"/>
            <a:ext cx="2232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oorraad drink- en irrigati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6588000" y="2703600"/>
            <a:ext cx="2495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Elektriciteit opwek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6613560" y="3068640"/>
            <a:ext cx="24955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egelen waterstand stroomafwa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1042920" y="5013360"/>
            <a:ext cx="115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del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2484360" y="5013360"/>
            <a:ext cx="398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dwongen verhuiz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2484360" y="5300640"/>
            <a:ext cx="398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stuwmeer slibt na een tijd d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2484360" y="5589720"/>
            <a:ext cx="41292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groot kans op aardbev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661080" y="526716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uurzamer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6684840" y="5516640"/>
            <a:ext cx="2495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water vasthou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kstvak 1"/>
          <p:cNvSpPr/>
          <p:nvPr/>
        </p:nvSpPr>
        <p:spPr>
          <a:xfrm>
            <a:off x="6692760" y="5784840"/>
            <a:ext cx="2880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leinscha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kstvak 2"/>
          <p:cNvSpPr/>
          <p:nvPr/>
        </p:nvSpPr>
        <p:spPr>
          <a:xfrm>
            <a:off x="6707160" y="6021360"/>
            <a:ext cx="254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in eigen omge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5" descr="C:\Users\Huub\Documents\BuiteNLand\Klas 2\2 hv ICT\8037C824.jpg"/>
          <p:cNvPicPr/>
          <p:nvPr/>
        </p:nvPicPr>
        <p:blipFill>
          <a:blip r:embed="rId1"/>
          <a:stretch/>
        </p:blipFill>
        <p:spPr>
          <a:xfrm>
            <a:off x="1042920" y="1197000"/>
            <a:ext cx="52945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: soms teve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Users\Huub\Documents\BuiteNLand\Klas 2\2 hv ICT\8037C814.jpg"/>
          <p:cNvPicPr/>
          <p:nvPr/>
        </p:nvPicPr>
        <p:blipFill>
          <a:blip r:embed="rId1"/>
          <a:stretch/>
        </p:blipFill>
        <p:spPr>
          <a:xfrm>
            <a:off x="1042920" y="1484280"/>
            <a:ext cx="7794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5976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ater sparen: minder gebruiken / meer hergebrui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8037C80E"/>
          <p:cNvPicPr/>
          <p:nvPr/>
        </p:nvPicPr>
        <p:blipFill>
          <a:blip r:embed="rId1"/>
          <a:srcRect l="0" t="17551" r="0" b="17385"/>
          <a:stretch/>
        </p:blipFill>
        <p:spPr>
          <a:xfrm>
            <a:off x="1235160" y="1557360"/>
            <a:ext cx="6073560" cy="18716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4"/>
          <p:cNvSpPr/>
          <p:nvPr/>
        </p:nvSpPr>
        <p:spPr>
          <a:xfrm>
            <a:off x="7524720" y="1916280"/>
            <a:ext cx="100800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u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ju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71640" y="3789360"/>
            <a:ext cx="6553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1. Dit plaatje past het best bij een gebied met een 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71640" y="4797360"/>
            <a:ext cx="6769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2. Hoe verder naar rechts des te minder duurzaam watergebru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971640" y="5445000"/>
            <a:ext cx="7200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3. Hoe zuiniger het watergebruik des te minder 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971640" y="6165720"/>
            <a:ext cx="7200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4. De irrigatievorm is van invloed op de nuttige 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7740720" y="378936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7740720" y="479736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7812000" y="5445000"/>
            <a:ext cx="100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7812000" y="6165720"/>
            <a:ext cx="100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: vaak te wein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Users\Huub\Documents\BuiteNLand\Klas 2\2 hv ICT\8037C81C.jpg"/>
          <p:cNvPicPr/>
          <p:nvPr/>
        </p:nvPicPr>
        <p:blipFill>
          <a:blip r:embed="rId1"/>
          <a:stretch/>
        </p:blipFill>
        <p:spPr>
          <a:xfrm>
            <a:off x="1042920" y="1197000"/>
            <a:ext cx="787392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77080" y="1557360"/>
            <a:ext cx="194292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vormen kan het water aannemen in de lange kringloop van het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93080" y="3429000"/>
            <a:ext cx="172692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loei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87280" y="5576760"/>
            <a:ext cx="5545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vormen kan het water aannemen in de korte kringloop in warme gebie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7164360" y="5445000"/>
            <a:ext cx="1224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loei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:\Users\Huub\Documents\BuiteNLand\Klas 2\2 hv ICT\80315328.jpg"/>
          <p:cNvPicPr/>
          <p:nvPr/>
        </p:nvPicPr>
        <p:blipFill>
          <a:blip r:embed="rId1"/>
          <a:stretch/>
        </p:blipFill>
        <p:spPr>
          <a:xfrm>
            <a:off x="1076400" y="1557360"/>
            <a:ext cx="54007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116000" y="5837400"/>
            <a:ext cx="3456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kringloop is voor de mens het belangrijkst en waa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753080" y="5837400"/>
            <a:ext cx="4248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De lange kringloop want bij de korte blijft zoet water buiten bereik van de 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C:\Users\Huub\Documents\BuiteNLand\Klas 2\2 hv ICT\80315328.jpg"/>
          <p:cNvPicPr/>
          <p:nvPr/>
        </p:nvPicPr>
        <p:blipFill>
          <a:blip r:embed="rId1"/>
          <a:stretch/>
        </p:blipFill>
        <p:spPr>
          <a:xfrm>
            <a:off x="1076400" y="1341360"/>
            <a:ext cx="637524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164360" y="1484280"/>
            <a:ext cx="1657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et water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486560" y="1989000"/>
            <a:ext cx="165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zou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164360" y="3441600"/>
            <a:ext cx="19796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pervlakte- water 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7596360" y="4292640"/>
            <a:ext cx="1655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258920" y="5516640"/>
            <a:ext cx="2736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ernieuwbaar water 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187280" y="6060960"/>
            <a:ext cx="309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-vernieuwbaar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156360" y="5443560"/>
            <a:ext cx="180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tte gebieden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6300720" y="5987880"/>
            <a:ext cx="180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droge gebie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2" descr="bp48"/>
          <p:cNvPicPr/>
          <p:nvPr/>
        </p:nvPicPr>
        <p:blipFill>
          <a:blip r:embed="rId1"/>
          <a:stretch/>
        </p:blipFill>
        <p:spPr>
          <a:xfrm>
            <a:off x="1042920" y="1197000"/>
            <a:ext cx="61628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al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8037C803"/>
          <p:cNvPicPr/>
          <p:nvPr/>
        </p:nvPicPr>
        <p:blipFill>
          <a:blip r:embed="rId1"/>
          <a:srcRect l="1212" t="15888" r="6852" b="21694"/>
          <a:stretch/>
        </p:blipFill>
        <p:spPr>
          <a:xfrm>
            <a:off x="1547640" y="1268280"/>
            <a:ext cx="6264360" cy="3338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1042920" y="5751360"/>
            <a:ext cx="1081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an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124000" y="5238720"/>
            <a:ext cx="20876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rond- en  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ivier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ossiel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219640" y="570240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f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6372360" y="5229360"/>
            <a:ext cx="309564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uitstroom in z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ruik door 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124000" y="4753080"/>
            <a:ext cx="26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uttige neerslag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4176720" y="4740120"/>
            <a:ext cx="1224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5221440" y="4764240"/>
            <a:ext cx="5745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5796000" y="4740120"/>
            <a:ext cx="151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Afbeelding 1" descr="doorsnede.png"/>
          <p:cNvPicPr/>
          <p:nvPr/>
        </p:nvPicPr>
        <p:blipFill>
          <a:blip r:embed="rId1"/>
          <a:stretch/>
        </p:blipFill>
        <p:spPr>
          <a:xfrm>
            <a:off x="1019160" y="1052640"/>
            <a:ext cx="3632040" cy="5194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: wat is wa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2987640" y="1268280"/>
            <a:ext cx="252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2987640" y="2454120"/>
            <a:ext cx="252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2271600" y="3121200"/>
            <a:ext cx="3092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 flipV="1">
            <a:off x="3276720" y="4437000"/>
            <a:ext cx="2232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5940360" y="107172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5940360" y="225756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5905440" y="2924280"/>
            <a:ext cx="194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3973680" y="5516640"/>
            <a:ext cx="193176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940360" y="3948120"/>
            <a:ext cx="223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por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ste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905440" y="5500800"/>
            <a:ext cx="223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doorlaatb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l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Afbeelding 1" descr="doorsnede.png"/>
          <p:cNvPicPr/>
          <p:nvPr/>
        </p:nvPicPr>
        <p:blipFill>
          <a:blip r:embed="rId1"/>
          <a:stretch/>
        </p:blipFill>
        <p:spPr>
          <a:xfrm>
            <a:off x="1116000" y="1071720"/>
            <a:ext cx="3411720" cy="4878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ernieuwbaar of niet-vernieuwbaa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572000" y="107172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4930920" y="246708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572000" y="3035160"/>
            <a:ext cx="194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4572000" y="429264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ossiel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4572000" y="170028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pervlakt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6877080" y="1071720"/>
            <a:ext cx="165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6877080" y="1700280"/>
            <a:ext cx="1944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6877080" y="3035160"/>
            <a:ext cx="1871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6877080" y="4292640"/>
            <a:ext cx="259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–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3490920" y="2670120"/>
            <a:ext cx="1440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1"/>
          <p:cNvSpPr/>
          <p:nvPr/>
        </p:nvSpPr>
        <p:spPr>
          <a:xfrm>
            <a:off x="4932360" y="4684680"/>
            <a:ext cx="0" cy="1125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4572000" y="5834160"/>
            <a:ext cx="1584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uurzaam waterbehe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4"/>
          <p:cNvSpPr/>
          <p:nvPr/>
        </p:nvSpPr>
        <p:spPr>
          <a:xfrm>
            <a:off x="6156360" y="6165720"/>
            <a:ext cx="358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6770520" y="5834160"/>
            <a:ext cx="2267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, niet–duurzaam waterbeh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17:36Z</dcterms:created>
  <dc:creator>yetsenga</dc:creator>
  <dc:description>Aangepast voor 2003 versie door Tekst 2000</dc:description>
  <dc:language>en-US</dc:language>
  <cp:lastModifiedBy>Venhoven, Arthur</cp:lastModifiedBy>
  <dcterms:modified xsi:type="dcterms:W3CDTF">2014-04-09T14:52:53Z</dcterms:modified>
  <cp:revision>42</cp:revision>
  <dc:subject/>
  <dc:title>Dia 1</dc:title>
</cp:coreProperties>
</file>