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0C8A-E0F3-4FE6-B19F-FAC427557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CFD5-F9A9-406D-9BDF-BBA6848B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7976-2375-4164-A68E-8B95ED2C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436C-AF49-49C0-A189-FE5A1EA3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DBF1-252C-4DF8-98CE-E712230F7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04D1-32B3-4F1E-AE0E-1565A9DC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FFA4-929C-47E2-AC26-CFE4EC19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87B7-794C-475A-9CD5-EAE50EBD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DD3D-8B07-4143-9644-09F7590A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73EE-376B-4ABA-9B09-194F6A8B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3DB4-CF4C-493F-AE01-4DF645E8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486-DF9B-4D53-866D-62BABF0D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8E7B-933D-45CF-8C0C-B7851E2C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5828C-44CF-4559-9002-D666338D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5DED-031A-48BD-979D-540ADDFF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D780-B254-4C86-B908-7021D064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3EA1-DA9E-4CA5-92E2-7887BC2C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0D42B-CB07-436D-B8FE-D5E5EA98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3C0CE-A437-48F6-8FED-5DF79D7D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24DD7-E9AC-42AF-BE98-62729F4E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8644A-6D5D-4D31-A7F2-DBAD62BB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2404-AD48-4E4C-AE2E-A22E92F1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57EA-48AE-4DF0-A617-927CF49D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EB258-0781-408F-A0D1-5E6DF600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45B95-8693-495E-8F97-5465D763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B0675-8B59-469F-9130-6F7B8F64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59930-651B-4730-868A-35A19C66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25BAB-B443-47B6-96B5-5B879D6E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48395-C6D3-4DC2-90A4-4CC30C7A4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17F46-2988-4687-9C3B-2D3C5259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BE650-8502-4F03-95EA-A0091D6C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860D2-1B54-48D9-9D19-F0D83748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009ED-5450-4F11-88BD-76213500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E6D-C054-4825-9CB8-FF8AE0E8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A270A-7402-4B23-9452-127123C5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4ABE4-277D-4D5F-B401-BAA540DA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59CA3-54FF-47C5-BE8E-439D514A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CAC9B-88D0-4D2A-9B63-765065A0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5205E-4466-4598-BBD7-F7A3DA51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DF059-8E44-4B49-A2B1-23F5543C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01EE2-06C1-484F-9647-12BF0EF8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22983-B3BA-4667-9DFA-25183F01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3A49C-F8D2-4949-B147-91500AA1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7D774-E09B-4797-A3DA-0708CB5E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3170-E7A9-4B20-ABC3-49231238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CAC8D-A8CE-4419-87DE-79BF9F9F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3DA19-2C4A-4AC7-8289-B205FC21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BFCAE-97D2-412F-A5E9-9C0BF4B7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68ABF-FCDE-432B-9F91-95E1E52D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EBC97-7910-4833-BCA4-4B2EA852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713B1-D3B9-4F5E-AF5A-56B51889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5CFBE-8CC8-4183-9D99-DB8FECBC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54709-771E-4BBA-B657-537A9DA0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7BC6A-C9E7-4C3C-A27D-43E3676A2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1236E-1C6D-4AB1-B5B4-5188508A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B829-576E-44BA-A6B1-EB86E246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26FD0-355E-43FF-967E-DECC54B4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3A2B4-6997-4170-A842-703DA06FA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51378-9E23-4CD1-857A-762E7D1C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505C6-A52E-4990-AD8C-CBD5FA77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34120-5E5F-4316-A20B-F4040EF1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D5CE4-C3AB-4E91-9CC6-21AEC582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900D1-6680-490B-BF56-EA87F8BB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6C614-877D-4387-9CEF-A8C922BA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7504D-17E4-49F6-A746-729C00A1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0CB41-BF3C-4BA7-8A24-3560E61E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892-6A1C-4E97-897E-D075E814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70D38-942A-4D94-97EF-207623C7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6D7A7-321A-4B77-AC92-9C3A1A30B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21160-1097-4155-87B8-C40C04FE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B2A89-21BE-448A-837C-02E35A35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FAF78-02C3-4EBE-A93C-011770E6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BAD4B-4B89-4CCD-BE12-8FE1FBF7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2EF47-8F66-4F63-9E89-294D9D73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7F956-ED50-4178-8184-6B36EBC6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BD647-E1A2-42F7-9388-0067585B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C6FF1-02A3-4141-8BCC-3CC23F40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90DB-7545-4957-9DC5-7C133627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11569-186F-40FB-900F-924578CC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45144-6052-47A9-AA9B-D4EA3920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5ABE3-4B12-4980-9C2B-53C8DCE2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61975-2F51-49DD-B214-A096185A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5FC10-C16E-425F-9340-89026930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089-E274-4725-99D0-7A4AD821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0162-0DBC-49EC-ACF6-F43EA7515D06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9485-A42E-4961-B317-02309A115C52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7B89-DE93-475E-8C6B-B75F9E14C86A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0023D-1207-4704-A2A6-FFD11006A60E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DC0D-7C2E-45C8-8B8C-D55A914C1D2C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4861-435F-4FD1-B3CB-26E71168CD08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0159-2FB5-4924-81C6-0AE3F9EDD323}" type="slidenum">
              <a:rPr b="0" lang="nl-NL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Zorg voor de ademhaling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andara"/>
              </a:rPr>
              <a:t>Uitzuigen Mond Keel en Neu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39" name="Picture 5" descr="lgn01"/>
          <p:cNvPicPr/>
          <p:nvPr/>
        </p:nvPicPr>
        <p:blipFill>
          <a:blip r:embed="rId1"/>
          <a:stretch/>
        </p:blipFill>
        <p:spPr>
          <a:xfrm>
            <a:off x="1763640" y="1413000"/>
            <a:ext cx="5327640" cy="44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2" name="Picture 5" descr="external image tekening_longinhoud3.jpg"/>
          <p:cNvPicPr/>
          <p:nvPr/>
        </p:nvPicPr>
        <p:blipFill>
          <a:blip r:embed="rId1"/>
          <a:stretch/>
        </p:blipFill>
        <p:spPr>
          <a:xfrm>
            <a:off x="2771640" y="1413000"/>
            <a:ext cx="345924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9280" y="1773000"/>
            <a:ext cx="748044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73e87"/>
                </a:solidFill>
                <a:latin typeface="Candara"/>
              </a:rPr>
              <a:t>Wanneer en waarom ga je uitzuigen van de mond/neus keel holte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tzuigen van de mond neus keel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2556000" y="2997360"/>
            <a:ext cx="414000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Als een zorgvrager niet in staat is om zelf slijm / sputum op te hoesten, kan dat via de mond of neus worden uitgezogen.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Het uitzuigen dient twee doeleinden: 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rijhouden van de luchtwegen</a:t>
            </a:r>
            <a:br>
              <a:rPr sz="2800"/>
            </a:br>
            <a:r>
              <a:rPr b="0" lang="nl-NL" sz="2800" spc="-1" strike="noStrike">
                <a:solidFill>
                  <a:srgbClr val="073e87"/>
                </a:solidFill>
                <a:latin typeface="Candara"/>
              </a:rPr>
              <a:t>-het voorkomen van luchtweginfecti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andara"/>
              </a:rPr>
              <a:t>Uitzuigen van de mond/keel-neusholt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utumophoping voorkomen / verwijderen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          </a:t>
            </a: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in de neus of mond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de gasuitwisseling verbeteren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sputum verkrijgen voor onderzoek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aspiratie</a:t>
            </a:r>
            <a:br>
              <a:rPr sz="2400"/>
            </a:b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-     bloeding in de mond / keelholt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826920" y="2060280"/>
            <a:ext cx="745344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867280" y="4437000"/>
            <a:ext cx="275904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Controleer altijd de zuigkrach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 niet zuigend in  de neu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Breng de katheter niet zuigend in de mond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73e87"/>
                </a:solidFill>
                <a:latin typeface="Candara"/>
              </a:rPr>
              <a:t>Spoel de zuigkatheter door met water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ndara"/>
              </a:rPr>
              <a:t>Aandachtspunten bij het uitzuigen: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8T13:27:49Z</dcterms:created>
  <dc:creator>Rina</dc:creator>
  <dc:description/>
  <dc:language>en-US</dc:language>
  <cp:lastModifiedBy>A.R. Niemeijer</cp:lastModifiedBy>
  <dcterms:modified xsi:type="dcterms:W3CDTF">2016-12-07T09:16:48Z</dcterms:modified>
  <cp:revision>13</cp:revision>
  <dc:subject/>
  <dc:title>De ademhaling:</dc:title>
</cp:coreProperties>
</file>