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982-21B3-43C9-929C-48033600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C346-D074-4411-98C7-7DCE2171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7AA-2432-471D-8947-6802D759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64E-79A0-4770-87F0-B6CE4E0B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C382-A907-4119-847B-00CF7924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62B-A77A-4D9C-8924-01766789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23D-9672-4E8D-8D7B-FD21B8C2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A536-6C51-470B-82B1-DF089F6E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355-1927-43DD-90A9-8D28A523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67A-CC2C-4D8C-B034-9971C25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C88-1A43-46C8-AF05-EE42CF48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15E-8A53-4772-833E-4829FE02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F409-F2AA-423D-907F-C8C0023F3B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58920" y="191592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Stencil"/>
              </a:rPr>
              <a:t>Verschillende soorten &amp; ma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Stencil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Stenci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Stencil"/>
              </a:rPr>
              <a:t>Bloempotten en vazen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Gerba-pot11"/>
          <p:cNvPicPr/>
          <p:nvPr/>
        </p:nvPicPr>
        <p:blipFill>
          <a:blip r:embed="rId1"/>
          <a:stretch/>
        </p:blipFill>
        <p:spPr>
          <a:xfrm>
            <a:off x="6443640" y="3686040"/>
            <a:ext cx="2857680" cy="31719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3"/>
          <p:cNvSpPr/>
          <p:nvPr/>
        </p:nvSpPr>
        <p:spPr>
          <a:xfrm>
            <a:off x="4284720" y="2781360"/>
            <a:ext cx="22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Stencil"/>
              </a:rPr>
              <a:t>de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2" descr="grobal-plant-green-pot-270408"/>
          <p:cNvPicPr/>
          <p:nvPr/>
        </p:nvPicPr>
        <p:blipFill>
          <a:blip r:embed="rId2"/>
          <a:stretch/>
        </p:blipFill>
        <p:spPr>
          <a:xfrm>
            <a:off x="1258920" y="3962520"/>
            <a:ext cx="3382920" cy="2895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4" descr="hurenplanten"/>
          <p:cNvPicPr/>
          <p:nvPr/>
        </p:nvPicPr>
        <p:blipFill>
          <a:blip r:embed="rId3"/>
          <a:srcRect l="32546" t="0" r="0" b="0"/>
          <a:stretch/>
        </p:blipFill>
        <p:spPr>
          <a:xfrm>
            <a:off x="7020000" y="1268280"/>
            <a:ext cx="2313000" cy="2686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6" descr="036"/>
          <p:cNvPicPr/>
          <p:nvPr/>
        </p:nvPicPr>
        <p:blipFill>
          <a:blip r:embed="rId4"/>
          <a:stretch/>
        </p:blipFill>
        <p:spPr>
          <a:xfrm>
            <a:off x="0" y="1542960"/>
            <a:ext cx="1266840" cy="5315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8" descr="10251"/>
          <p:cNvPicPr/>
          <p:nvPr/>
        </p:nvPicPr>
        <p:blipFill>
          <a:blip r:embed="rId5"/>
          <a:stretch/>
        </p:blipFill>
        <p:spPr>
          <a:xfrm>
            <a:off x="3635280" y="4621320"/>
            <a:ext cx="2772000" cy="2236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Beton kwalitei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49200" y="1267920"/>
            <a:ext cx="6994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on is er in verschillende kwalitei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t goedkoopst is een mengsel van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zand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c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it is makkelijk te bewerken, maar kwet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ls je er grind door mengt krijg je een sterker resul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oed mengen zorgt ervoor dat het beton ‘dich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ordt., het is dan beter bestand tegen vo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sier%20pot%20groot"/>
          <p:cNvPicPr/>
          <p:nvPr/>
        </p:nvPicPr>
        <p:blipFill>
          <a:blip r:embed="rId1"/>
          <a:srcRect l="5524" t="1537" r="19112" b="0"/>
          <a:stretch/>
        </p:blipFill>
        <p:spPr>
          <a:xfrm>
            <a:off x="0" y="2276640"/>
            <a:ext cx="214308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95640" y="1773000"/>
            <a:ext cx="6480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ut is een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organisch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org dat je rekening houd met de eigenschappen van h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t werkt, dat wil zeggen dat hout onder vochtige omstandigheden zwelt terwijl het krimp bij droog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urzame hout soorten lopen gevaar door schimmels bij hoge luchtvochtigheid voor langer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Hout"/>
          <p:cNvPicPr/>
          <p:nvPr/>
        </p:nvPicPr>
        <p:blipFill>
          <a:blip r:embed="rId1"/>
          <a:stretch/>
        </p:blipFill>
        <p:spPr>
          <a:xfrm>
            <a:off x="0" y="466236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3280" y="260280"/>
            <a:ext cx="8640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Stencil"/>
              </a:rPr>
              <a:t>Mand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n mand heeft een heel natuurlijke uitstraling en past daardoor goed bij bloemwe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DICHTHE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komen door kant en klare voering van plastic of stuk cellofaan of plastic zelf toe te voe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isico: gevaar voor lekkage door gaatjes in pla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200762132250"/>
          <p:cNvPicPr/>
          <p:nvPr/>
        </p:nvPicPr>
        <p:blipFill>
          <a:blip r:embed="rId1"/>
          <a:stretch/>
        </p:blipFill>
        <p:spPr>
          <a:xfrm>
            <a:off x="0" y="4808520"/>
            <a:ext cx="226836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Wilgente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49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lgentenen zijn zeer geschikt voor het vlechten van m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n wilgentenen kunnen verschillende uitvoeringen voor manden worden gebrui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ufteen, na het afsnijden 24 uur koken en daarna schillen. Roodbruine kleur. Bijv. hondenmand, fietsma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Grauwe teen, teen in haar oorspronkelijke staat, met bast. Bijv. aardappelm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Witte teen, geschilde teen. Afgesneden en op water gezet, zo wordt de bas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 algn="ctr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ilgentenen%20urn%201"/>
          <p:cNvPicPr/>
          <p:nvPr/>
        </p:nvPicPr>
        <p:blipFill>
          <a:blip r:embed="rId1"/>
          <a:stretch/>
        </p:blipFill>
        <p:spPr>
          <a:xfrm>
            <a:off x="0" y="4149720"/>
            <a:ext cx="2004840" cy="2708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tn_witte_teen_3"/>
          <p:cNvPicPr/>
          <p:nvPr/>
        </p:nvPicPr>
        <p:blipFill>
          <a:blip r:embed="rId2"/>
          <a:stretch/>
        </p:blipFill>
        <p:spPr>
          <a:xfrm>
            <a:off x="7308720" y="0"/>
            <a:ext cx="1835280" cy="1382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Geïmporteer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7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immende palmsoort (Calamus siphomaspathus) komt veel voor in Indonesië. Bekend van tuinstoelen, meu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mb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assoort met houtachtige steng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f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maakt van bladvezels van de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affiapa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kosvez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n de bladvoet van de bladeren van de kokospa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OCOSVEZEL%20LOS_3"/>
          <p:cNvPicPr/>
          <p:nvPr/>
        </p:nvPicPr>
        <p:blipFill>
          <a:blip r:embed="rId1"/>
          <a:stretch/>
        </p:blipFill>
        <p:spPr>
          <a:xfrm>
            <a:off x="0" y="472428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Kunstst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1332000" y="1484280"/>
            <a:ext cx="8280360" cy="60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delen kunstst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aat niet snel ka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aterd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zw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aal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ij  grote belangstelling brengt een fabrikant het in grote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     aantallen op de markt. Dat levert een mooi product op voor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     een betaalbare prij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exclusivitei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is dan echter verdwen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0" y="3284640"/>
            <a:ext cx="2705040" cy="3573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Met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92000" y="1267920"/>
            <a:ext cx="6994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e populariteit van metaal wordt st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paald door mode en tr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t ene jaar rustiek zink, het andere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litsend 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ade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Oxideren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als het met water i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raking komt, er ontstaa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adelijke stoffen voor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oemen en pla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Gerba-pot3-lood"/>
          <p:cNvPicPr/>
          <p:nvPr/>
        </p:nvPicPr>
        <p:blipFill>
          <a:blip r:embed="rId1"/>
          <a:stretch/>
        </p:blipFill>
        <p:spPr>
          <a:xfrm>
            <a:off x="0" y="49528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Met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267920"/>
            <a:ext cx="70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talen producten zijn er in allerlei soor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K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oed te bewerken metaal. In buitenlucht krijgt het groene oxidatielaag die tegen verdere aantasting beschermt. Rood van kl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Z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Gemakkelijk te verwerken metaal. Je ziet het als vazen en bakken, maar ook als werkbl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Metaal dat vloeibaar kan worden verwerkt. Voorwerpen worden van tin gegoten. Zuiver tin is wit van kleur. Als je het kouder dan -13 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  <a:ea typeface="Arial"/>
              </a:rPr>
              <a:t>˚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C bewaart valt het op den duur uiteen als poe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IJ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Wordt verwerkt tot bakken. Soms wordt het bewerkt zodat er geen oxidatie optreed. Zorgvuldig omgaan met ijzer in combinatie met vo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Lood is GIFT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Gerba-pot2"/>
          <p:cNvPicPr/>
          <p:nvPr/>
        </p:nvPicPr>
        <p:blipFill>
          <a:blip r:embed="rId1"/>
          <a:stretch/>
        </p:blipFill>
        <p:spPr>
          <a:xfrm>
            <a:off x="0" y="5202360"/>
            <a:ext cx="2484360" cy="165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Gerba-pot4-zink"/>
          <p:cNvPicPr/>
          <p:nvPr/>
        </p:nvPicPr>
        <p:blipFill>
          <a:blip r:embed="rId2"/>
          <a:stretch/>
        </p:blipFill>
        <p:spPr>
          <a:xfrm>
            <a:off x="0" y="1268280"/>
            <a:ext cx="2484360" cy="16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koperen_pot"/>
          <p:cNvPicPr/>
          <p:nvPr/>
        </p:nvPicPr>
        <p:blipFill>
          <a:blip r:embed="rId3"/>
          <a:stretch/>
        </p:blipFill>
        <p:spPr>
          <a:xfrm>
            <a:off x="0" y="3213000"/>
            <a:ext cx="248436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Be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49200" y="1267920"/>
            <a:ext cx="6994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an oorsprong een bouw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Wit of gri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nnenhuis minder geschi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t is zwaar en oogt erg lo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ton is poreus, daardoor kan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t niet lang water vasthouden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potten_beton"/>
          <p:cNvPicPr/>
          <p:nvPr/>
        </p:nvPicPr>
        <p:blipFill>
          <a:blip r:embed="rId1"/>
          <a:stretch/>
        </p:blipFill>
        <p:spPr>
          <a:xfrm>
            <a:off x="0" y="4387680"/>
            <a:ext cx="3708360" cy="2470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0:46:04Z</dcterms:created>
  <dc:creator>default</dc:creator>
  <dc:description/>
  <dc:language>en-US</dc:language>
  <cp:lastModifiedBy>Kor&amp;Annoeschka</cp:lastModifiedBy>
  <dcterms:modified xsi:type="dcterms:W3CDTF">2018-03-20T09:10:11Z</dcterms:modified>
  <cp:revision>21</cp:revision>
  <dc:subject/>
  <dc:title>Bloempotten en vazen</dc:title>
</cp:coreProperties>
</file>