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E9B-A191-47CA-88B4-84B6D2B6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E01-244B-40AA-8C52-C0940AFE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1239-DF87-4E76-8847-91A933EA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B5D7-1627-4460-AF85-8F97F1F8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5B49-8DA2-488A-A561-956F49CE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9551-F015-4FC0-8EA9-DEC59C1F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3937-672B-4FBA-A5CB-3317DD79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748-0624-4CB2-A5B0-47C164EB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D84-2E0F-489F-B39B-2EA13DEF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A55C-B75B-49F5-B2D6-ED187E0F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C0B-365E-4BDE-995A-798F23B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FBA7-6D1E-4B3B-A716-63A8698B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3DAC-CC7A-49C9-ABDE-87B9B77F0C0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Orchidee%20in%20pot"/>
          <p:cNvPicPr/>
          <p:nvPr/>
        </p:nvPicPr>
        <p:blipFill>
          <a:blip r:embed="rId1"/>
          <a:stretch/>
        </p:blipFill>
        <p:spPr>
          <a:xfrm>
            <a:off x="7089840" y="1125360"/>
            <a:ext cx="2054160" cy="2652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vaas2"/>
          <p:cNvPicPr/>
          <p:nvPr/>
        </p:nvPicPr>
        <p:blipFill>
          <a:blip r:embed="rId2"/>
          <a:stretch/>
        </p:blipFill>
        <p:spPr>
          <a:xfrm>
            <a:off x="2843280" y="2421000"/>
            <a:ext cx="1522440" cy="1806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Stencil"/>
              </a:rPr>
              <a:t>Verschillende soorten &amp; m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download"/>
          <p:cNvPicPr/>
          <p:nvPr/>
        </p:nvPicPr>
        <p:blipFill>
          <a:blip r:embed="rId3"/>
          <a:stretch/>
        </p:blipFill>
        <p:spPr>
          <a:xfrm>
            <a:off x="6688080" y="3716280"/>
            <a:ext cx="2455920" cy="3141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003-811641631852007710-vazen"/>
          <p:cNvPicPr/>
          <p:nvPr/>
        </p:nvPicPr>
        <p:blipFill>
          <a:blip r:embed="rId4"/>
          <a:stretch/>
        </p:blipFill>
        <p:spPr>
          <a:xfrm>
            <a:off x="4716360" y="2490840"/>
            <a:ext cx="2592360" cy="1800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9" descr="arch_potten"/>
          <p:cNvPicPr/>
          <p:nvPr/>
        </p:nvPicPr>
        <p:blipFill>
          <a:blip r:embed="rId5"/>
          <a:stretch/>
        </p:blipFill>
        <p:spPr>
          <a:xfrm>
            <a:off x="0" y="0"/>
            <a:ext cx="2484360" cy="166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Stencil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Stenci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Stencil"/>
              </a:rPr>
              <a:t>Bloempotten en vazen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loempot0049wn"/>
          <p:cNvPicPr/>
          <p:nvPr/>
        </p:nvPicPr>
        <p:blipFill>
          <a:blip r:embed="rId6"/>
          <a:stretch/>
        </p:blipFill>
        <p:spPr>
          <a:xfrm>
            <a:off x="0" y="2590920"/>
            <a:ext cx="2847960" cy="4267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foto2"/>
          <p:cNvPicPr/>
          <p:nvPr/>
        </p:nvPicPr>
        <p:blipFill>
          <a:blip r:embed="rId7"/>
          <a:stretch/>
        </p:blipFill>
        <p:spPr>
          <a:xfrm>
            <a:off x="2771640" y="4246560"/>
            <a:ext cx="40323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Keram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s van gebakken k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ijvoorbe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akpa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mpo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klei"/>
          <p:cNvPicPr/>
          <p:nvPr/>
        </p:nvPicPr>
        <p:blipFill>
          <a:blip r:embed="rId1"/>
          <a:stretch/>
        </p:blipFill>
        <p:spPr>
          <a:xfrm>
            <a:off x="0" y="4589640"/>
            <a:ext cx="226836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schillen in grondstoffen en wijze van verwer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eramiek is een verzamelnaam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rde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Porsel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porselein"/>
          <p:cNvPicPr/>
          <p:nvPr/>
        </p:nvPicPr>
        <p:blipFill>
          <a:blip r:embed="rId1"/>
          <a:stretch/>
        </p:blipFill>
        <p:spPr>
          <a:xfrm>
            <a:off x="0" y="4897440"/>
            <a:ext cx="3059280" cy="1960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Aarde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Kun je onderverdelen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oreus &amp; waterd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eglazuurd &amp; ongeglazu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root &amp; kl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. &amp;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GerardOskamMatgroenGlazuur2_JPG"/>
          <p:cNvPicPr/>
          <p:nvPr/>
        </p:nvPicPr>
        <p:blipFill>
          <a:blip r:embed="rId1"/>
          <a:stretch/>
        </p:blipFill>
        <p:spPr>
          <a:xfrm>
            <a:off x="0" y="4589640"/>
            <a:ext cx="3348000" cy="226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Roodstenen aarde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ls pot om een kamerplant in te p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Bijna altijd zelfd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Por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ebakken bij 1000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Als pot voor in de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erschillende vormen, kleuren, afkomstig uit de hele wer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et alle potten kunnen tegen vo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Door middel van een siliconenbad behandeling winterhard m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vorstbestendige potten worden bij minimaal 1200 °C gebak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bloempot"/>
          <p:cNvPicPr/>
          <p:nvPr/>
        </p:nvPicPr>
        <p:blipFill>
          <a:blip r:embed="rId1"/>
          <a:srcRect l="16468" t="0" r="15193" b="0"/>
          <a:stretch/>
        </p:blipFill>
        <p:spPr>
          <a:xfrm>
            <a:off x="0" y="5095800"/>
            <a:ext cx="1943280" cy="1762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Aarde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 Gevormde klei laten drogen      Leerh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an kun je glazuur aanbrengen en   vervolgens bakken op 1150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  <a:ea typeface="Arial"/>
              </a:rPr>
              <a:t>2. Na het vormen en drogen bakken op 1000 °C. De pot is dan nog poreus       biscuit. Op de gebakken pot wordt glazuurlaag aangebracht. Dan opnieuw bakken 1150 °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724360" y="19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148360" y="4653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Glazuu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92000" y="1267920"/>
            <a:ext cx="6994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lasachtig materiaal dat aardewe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Sterker maak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Glanzend uiterlijk gee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Eventueel een kleur gee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Waterdicht maak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ffff"/>
                </a:solidFill>
                <a:latin typeface="Arial"/>
              </a:rPr>
              <a:t>Glazuren door middel v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Domp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Overgi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Kwa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ffffff"/>
                </a:solidFill>
                <a:latin typeface="Arial"/>
              </a:rPr>
              <a:t>Spu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Rek-potten"/>
          <p:cNvPicPr/>
          <p:nvPr/>
        </p:nvPicPr>
        <p:blipFill>
          <a:blip r:embed="rId1"/>
          <a:stretch/>
        </p:blipFill>
        <p:spPr>
          <a:xfrm>
            <a:off x="0" y="4935600"/>
            <a:ext cx="2556000" cy="19224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Stencil"/>
              </a:rPr>
              <a:t>Porsel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orselein is 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orschijn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por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ak wit van kl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rond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Porseleinaa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ldsp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Kw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e eigenschappen zijn afhankelijk van de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houding tussen deze 3 grondstoff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ijvoorbeeld: Veel porseleinaarde zorgt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oor verminderde doorschijnendheid,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ldspaat wordt het meer doorschijnend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aar ook bross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8952Style%20Point%20022"/>
          <p:cNvPicPr/>
          <p:nvPr/>
        </p:nvPicPr>
        <p:blipFill>
          <a:blip r:embed="rId1"/>
          <a:stretch/>
        </p:blipFill>
        <p:spPr>
          <a:xfrm>
            <a:off x="0" y="4867200"/>
            <a:ext cx="2987640" cy="1990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0:46:04Z</dcterms:created>
  <dc:creator>default</dc:creator>
  <dc:description/>
  <dc:language>en-US</dc:language>
  <cp:lastModifiedBy>Kor&amp;Annoeschka</cp:lastModifiedBy>
  <dcterms:modified xsi:type="dcterms:W3CDTF">2018-03-20T09:09:23Z</dcterms:modified>
  <cp:revision>9</cp:revision>
  <dc:subject/>
  <dc:title>Bloempotten en vazen</dc:title>
</cp:coreProperties>
</file>