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5840" y="-180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68400" y="747720"/>
            <a:ext cx="4921200" cy="368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584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BD6E-1E28-4FE3-9ED2-CA22EC4882E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9377280"/>
            <a:ext cx="2971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1114-15E1-4E74-9D19-BBDBBAFA3265}" type="slidenum">
              <a:rPr b="0" lang="nl-N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E03-421C-47C0-AE5F-B6D3C0AD4230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082-E787-4299-8E90-DE6B5C84DD41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3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3D48-16E1-4328-A67F-3E86A8E2618A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6.6 EML/ Zie paragraaf 7.2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 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sselende agendapunten: doornummeren en kopje geven in agenda en notulen dat de lading d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anvulling bij bespreken wisselende agendap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7048-C276-4DA6-90F7-31D385A5E3C7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ook EML blz 93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CC21-9CAF-42B2-9637-FDD12242B823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E9A-6368-4F6C-8E41-30AFB040A935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772B-CC43-41AD-8152-4613EEFD8999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53F2-F4E7-46B7-B640-F2D8A474D2EB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6890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5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deze workshop ligt de nadruk op het stuctureren, de procedures van teamwe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8743-E912-40D7-9808-5F691D764218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75F4-A720-4D76-8D9C-416322025D03}" type="slidenum">
              <a:rPr b="0" i="1" lang="en-GB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1.7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erdoelen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en paragraaf 5.2 over SMART-doelen in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0F6-A1E4-4930-A578-A4285CF1B964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agraaf 7.4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1 en 6.2 E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D6DF-B769-47E7-9630-47E7FF4866C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 beva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endragend plaatje. Alternatief: geef de link naar deze pagina, maar niet in de 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 par. 6.2 EML Wat zijn effectieve tea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ianummer 3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CA52-7008-48CB-9302-82D7CFDD3406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4E4C-F250-4D4D-A115-13CEA21B654F}" type="slidenum">
              <a:rPr b="0" i="1" lang="nl-NL" sz="1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69840" y="747720"/>
            <a:ext cx="4918320" cy="36878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e paragraaf 6.6 EML en 7.4 Zelf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667-CA25-4781-AC53-5ACEF6E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F93-7C1F-48DF-BC15-E4886957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B0C-368C-457F-A4C5-60B5AD2B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A812-05C8-4CA3-A1C4-E3CA14AA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0E19-C57E-4B3B-A51D-3B05CB48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6A0-FBC6-431B-8652-D668C0EF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2A9-67A4-40AC-BD60-BE9F9DA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21DA-C578-4E26-9029-188E292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4EE-3C2A-47C7-967F-DC687D7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458D-77BC-4646-AA18-B5CCC8AB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0021-8D67-4E6C-AE6B-D43B240D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7361-6A94-4001-BB48-6476365A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984C-13B0-4FDE-8C9E-2112B17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C1D3-9AE6-4988-A21E-BD0B4CDB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39AB-32A1-4950-A351-A0D9B505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2B28-527C-4F4C-9756-1EF6275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7B44-B19F-4F61-AAB5-27F56735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C34E-353D-43F1-81CD-26805F3F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EC07-962D-447C-96BA-032626BD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314C-7B6F-46FA-835D-9B3ABDF7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B3FA-ED36-4A20-AF0F-11EEA694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C749-B188-4728-B970-480AAC8E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A87-AFC9-4FCF-B81D-30AAA86F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A2E3-4554-42B6-8403-9E4BB1A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5E58-F0D3-4CC0-8A49-A483C34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A9D31-596F-4F27-B51D-395850F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B86D6-67C3-4F2C-9155-49564C4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0ABFD-8C63-4679-BD1D-3220A4A3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BC81-2693-44B0-8CDF-3194BE1E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63EA5-43B9-44F8-A899-BE9FFCC0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5A5CF-B43B-4FC5-B02E-783B893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1047-83A8-4F63-9241-D6F3453E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6DD9A-F322-4CCE-A2DF-B6ACDEB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05F-9E49-48BD-AA89-CFBB5A6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0FCD-7AE8-45DE-B56A-44AE8739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B0033-D57D-4847-9B35-F252EDB8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98FC8-A98B-4AB8-A412-8919FBC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73BF0-1685-427C-BFE8-7B3E329D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517E-DA94-4008-8E27-3CEFAD3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8B0E-F85A-4E93-AE4A-62FA4D1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2F90E-B8F9-4509-BA0B-4120575B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D17A5-5285-4405-B952-32F4F13B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80365-DB16-4BE5-A9B5-EEA41CD4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93C00-004C-4DA8-B602-19EC3807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6EC-C857-41AA-BD52-AFD35ED9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14F5-AA59-440C-A3E1-00C7CEF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F829-545B-4F05-977F-C9962234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5DCBC-A02E-40DB-9D89-AEDA5F8F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83CD2-FC1F-4433-8594-B5B05568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513B9-DF0E-49C7-874C-1260F9EF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BD6F1-B52F-4B5D-ADFE-514CE7A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E28E4-3DD3-4792-957E-B0BB2BD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6433-1BE9-4BD1-B810-51B0BFF6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8F88C-789F-430D-82FE-EE7B8A50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BD3D2-285F-4142-8142-6178074A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129-AB57-4516-833E-BF599945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DA58B-D694-4032-BB1C-83622697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5C4EF-9010-42EE-832D-55E37FD2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4FB4-394F-4F8B-A04D-98A2B7F3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B082-B7AD-448C-91F1-C56818D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4F6FF-1D71-4BB4-80D4-3EB401DF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215A0-FB1E-4DA6-9EB4-DB3D55E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1B2C-4D94-4C82-A42E-0B10E6E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41542-DC6D-4FD1-B7B1-84ACADC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2CA5-D8EC-4B3A-B8C9-B135054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A5D7-FF58-4BA9-9F67-3A396DB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A8E-2CEC-4D82-9DA9-18D9754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C575-4847-4B22-8C8C-F2058DD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0FED-9D7E-4B4A-AA44-7B9299D1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7A4F4-7040-4648-81B7-34E0F261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F3C40-B063-4B55-A01F-6EB565BB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21CF-26AC-4BFD-97C0-B0CE9CE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D0A6-53E0-4A0B-BF1E-C1D7CD6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C18C0-04A2-4C2C-BC94-C2ACB69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25804-038E-470C-A7D2-0DDDFE8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66560" y="887040"/>
            <a:ext cx="717228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A7E6D-A21C-4A41-87C8-EDD6D806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4F39E-7645-4FEC-B6BD-F1AF8C2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CD4-9E13-46DB-A13E-6629A28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1B17F-50F8-4EBF-BA44-DB6E5CE3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AA3B-B8D1-49FA-9EBE-4BDE1C90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69A0D-C0D4-400E-AA62-CE298DB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104440" y="402588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34A0E-ACE1-43FE-AABB-A53B8A74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3328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300000" y="184464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36692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83328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300000" y="4025880"/>
            <a:ext cx="2348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6FA3-BBDD-456F-BD58-92495924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4440" y="1844640"/>
            <a:ext cx="3559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6920" y="4025880"/>
            <a:ext cx="7294320" cy="1991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288-B71A-47F3-B5CB-CFE0233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6560" y="1952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6920" y="2852640"/>
            <a:ext cx="7294320" cy="3167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0200" y="6400440"/>
            <a:ext cx="167652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9A3A-96FD-426D-B9F8-CD08C22D60B0}" type="datetime">
              <a:rPr b="0" lang="nl-NL" sz="10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7680" y="609552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5160" y="6246720"/>
            <a:ext cx="38124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08B-9CA7-49F8-8F46-F32D33B1F327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4747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39ad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39ad6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474747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552-BAAE-4BA3-B9E9-DDB5B3BAE498}" type="datetime">
              <a:rPr b="0" lang="nl-NL" sz="7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33160" y="62481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7320" y="624816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41CB-548A-4702-A132-CC1EBA15B4BD}" type="slidenum">
              <a:rPr b="0" lang="nl-NL" sz="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1652-EB14-4B01-8FF5-F9AE2F4BBAAC}" type="datetime">
              <a:rPr b="0" lang="en-GB" sz="1200" spc="-1" strike="noStrike">
                <a:solidFill>
                  <a:srgbClr val="045c75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5471-6C7C-4E5D-8506-123D8EB4444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4F4-5730-4BEB-9185-1DD6D4AE1CB2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19A-9307-4387-9834-4762D4DD9808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62F2-30E5-459C-9115-9FC743A196DF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3EB1-AF05-4B23-B3FD-A7DFA2341A9F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2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2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9E4F-B3FC-46BA-8A54-0C629BFD3224}" type="datetime">
              <a:rPr b="0" lang="nl-NL" sz="1200" spc="-1" strike="noStrike">
                <a:solidFill>
                  <a:srgbClr val="d1eaee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EA3-D79D-40BC-8958-F1655D294EFD}" type="slidenum">
              <a:rPr b="0" lang="en-GB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A8A3-6DA2-477D-8760-BD4DCA22A584}" type="datetime">
              <a:rPr b="0" lang="nl-NL" sz="1200" spc="-1" strike="noStrike">
                <a:solidFill>
                  <a:srgbClr val="045c75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FF08-C4F9-48C3-90BE-89A5AAE8D35F}" type="slidenum">
              <a:rPr b="0" lang="en-GB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1840" y="3645000"/>
            <a:ext cx="6021360" cy="129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Effectief en motiverend leidinggeven 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nl-NL" sz="3600" spc="-1" strike="noStrike">
                <a:solidFill>
                  <a:srgbClr val="ffffff"/>
                </a:solidFill>
                <a:latin typeface="Calibri"/>
              </a:rPr>
              <a:t>Projectmatig werk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301840" y="5127480"/>
            <a:ext cx="6021360" cy="935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ijdelijke aanduiding voor voettekst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Arial"/>
              </a:rPr>
              <a:t>© 2012 Noordhoff Uitgevers b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Projectfas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79280" y="1916280"/>
            <a:ext cx="6620760" cy="4388400"/>
            <a:chOff x="179280" y="1916280"/>
            <a:chExt cx="6620760" cy="4388400"/>
          </a:xfrm>
        </p:grpSpPr>
        <p:sp>
          <p:nvSpPr>
            <p:cNvPr id="352" name="Rectangle 7"/>
            <p:cNvSpPr/>
            <p:nvPr/>
          </p:nvSpPr>
          <p:spPr>
            <a:xfrm>
              <a:off x="179280" y="1916280"/>
              <a:ext cx="1872720" cy="438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nitia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1585440" y="1916280"/>
              <a:ext cx="2157120" cy="4388400"/>
            </a:xfrm>
            <a:prstGeom prst="rect">
              <a:avLst/>
            </a:prstGeom>
            <a:solidFill>
              <a:srgbClr val="dbf5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efinitie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9"/>
            <p:cNvSpPr/>
            <p:nvPr/>
          </p:nvSpPr>
          <p:spPr>
            <a:xfrm>
              <a:off x="3094920" y="1916280"/>
              <a:ext cx="1943640" cy="4388400"/>
            </a:xfrm>
            <a:prstGeom prst="rect">
              <a:avLst/>
            </a:prstGeom>
            <a:solidFill>
              <a:srgbClr val="b3ea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Ontwerpfa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10"/>
            <p:cNvSpPr/>
            <p:nvPr/>
          </p:nvSpPr>
          <p:spPr>
            <a:xfrm>
              <a:off x="4642920" y="1916280"/>
              <a:ext cx="2157120" cy="4388400"/>
            </a:xfrm>
            <a:prstGeom prst="rect">
              <a:avLst/>
            </a:prstGeom>
            <a:solidFill>
              <a:srgbClr val="77d9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ffffff"/>
                  </a:solidFill>
                  <a:latin typeface="Arial"/>
                </a:rPr>
                <a:t>Voorbereid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Rectangle 10"/>
          <p:cNvSpPr/>
          <p:nvPr/>
        </p:nvSpPr>
        <p:spPr>
          <a:xfrm>
            <a:off x="6300720" y="1916280"/>
            <a:ext cx="1366920" cy="4389120"/>
          </a:xfrm>
          <a:prstGeom prst="rect">
            <a:avLst/>
          </a:prstGeom>
          <a:solidFill>
            <a:srgbClr val="21b2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kstvak 10"/>
          <p:cNvSpPr/>
          <p:nvPr/>
        </p:nvSpPr>
        <p:spPr>
          <a:xfrm>
            <a:off x="0" y="4365720"/>
            <a:ext cx="1692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oronderz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dracht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erken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W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menwerkings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vereenkom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hthoek 12"/>
          <p:cNvSpPr/>
          <p:nvPr/>
        </p:nvSpPr>
        <p:spPr>
          <a:xfrm>
            <a:off x="2286000" y="2828880"/>
            <a:ext cx="430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kstvak 13"/>
          <p:cNvSpPr/>
          <p:nvPr/>
        </p:nvSpPr>
        <p:spPr>
          <a:xfrm>
            <a:off x="1619280" y="4365720"/>
            <a:ext cx="1440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n van Aanp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gramma van eis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kstvak 15"/>
          <p:cNvSpPr/>
          <p:nvPr/>
        </p:nvSpPr>
        <p:spPr>
          <a:xfrm>
            <a:off x="3132000" y="4365720"/>
            <a:ext cx="1511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totype Bouwtekening Sce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gitaal ontwerp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kstvak 17"/>
          <p:cNvSpPr/>
          <p:nvPr/>
        </p:nvSpPr>
        <p:spPr>
          <a:xfrm>
            <a:off x="4788000" y="4365720"/>
            <a:ext cx="1368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aaiboe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koop materialen en hulpmiddel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ructies uitvoeren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kstvak 18"/>
          <p:cNvSpPr/>
          <p:nvPr/>
        </p:nvSpPr>
        <p:spPr>
          <a:xfrm>
            <a:off x="6443640" y="4437000"/>
            <a:ext cx="10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duct komt tot l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7596360" y="1916280"/>
            <a:ext cx="1368360" cy="4389120"/>
          </a:xfrm>
          <a:prstGeom prst="rect">
            <a:avLst/>
          </a:prstGeom>
          <a:solidFill>
            <a:srgbClr val="11596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valu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kstvak 21"/>
          <p:cNvSpPr/>
          <p:nvPr/>
        </p:nvSpPr>
        <p:spPr>
          <a:xfrm>
            <a:off x="7596360" y="4437000"/>
            <a:ext cx="1368360" cy="1159560"/>
          </a:xfrm>
          <a:prstGeom prst="rect">
            <a:avLst/>
          </a:prstGeom>
          <a:solidFill>
            <a:srgbClr val="1159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indversla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bevel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Naz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anpassin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kstvak 16"/>
          <p:cNvSpPr/>
          <p:nvPr/>
        </p:nvSpPr>
        <p:spPr>
          <a:xfrm>
            <a:off x="32400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reiding vergader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6924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oel: beeldvormend, oordeelvormend, besluitvormen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atum en tijdstip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laat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rollen en functi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opste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nodi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90756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Projectrol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00000" y="1844280"/>
            <a:ext cx="640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Projectleider: planning en taakverdel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zitter:  taakgericht en groeps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ist: uitvoerig en / of beknopt verslag, besluitenlijst en actie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: expertise, verantwoordelijkheid, motivatie en assertiviteit                                                                      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17228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genda</a:t>
            </a:r>
            <a:br>
              <a:rPr sz="3200"/>
            </a:b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32000" y="1557000"/>
            <a:ext cx="7627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otulen van de vorige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gekomen stu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dedeling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isselende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.v.t.t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ondvraa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luit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31640" y="83628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esluitvorming: BOMB-mod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280" y="2060280"/>
            <a:ext cx="81723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eldvorming: signaleren, analyseren, creatief denken, formuleren kernvragen en thema’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O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denen (voorzitter): samenvat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M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ningsvorming (discussie): argumen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B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esluitvorming: kiezen (aan de hand van  criteria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Besluitvorming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58560" y="1915920"/>
            <a:ext cx="788508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og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rderheidsbesluit &gt; 50% of &gt; 2/3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Unanimite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Consensus (zoveel mogelijk overeenstemming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Eenmansbeslissing (veto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Aandachtspunten notuler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31640" y="1989000"/>
            <a:ext cx="7196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Tijdens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uisteren / not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fkor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structur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474747"/>
                </a:solidFill>
                <a:latin typeface="Arial"/>
              </a:rPr>
              <a:t>Na de vergadering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uitwerken met aandacht voor: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electi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rden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aalhant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Basisgegevens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cati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gintijd en datum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anwezigen + functie in vergader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afwezigen m.k. en z.k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onderwerp bespreking (kan algemeen zijn)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Uitwerking notu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asisgegevens boven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namen sprekers onderstrep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houd volgorde van de agenda aa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kopjes boven/ witregels tussen de onderde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oed Nederlands: geen telegramstij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tegenwoordige tij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ergadertyp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rappenmak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wijg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rijder van stokpaardj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jdeltui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ngsthaa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cht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meelope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lobbyis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warhoofd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15640" y="11966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Programma projectmatig werk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6480" y="2349360"/>
            <a:ext cx="8507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Groep of team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arshmallow challeng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ces – Inhoud – Procedure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aakgericht en relatiegerich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Projectfas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39ad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Functionele rollen en documen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SMART-doelen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66920" y="1844640"/>
            <a:ext cx="72943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Specifiek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t ga ik precies doe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Meet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anneer heb ik het goed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gedaan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Acceptabel / aanwijsbaa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wie is / zijn daarvoor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(mede)verantwoordelijk?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Realistisch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haalbaar? Anders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ijstellen!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Tijdgebonden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eindtijd waarop het doel 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  behaald moet zijn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Voorbeeld SMART-doel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66560" y="1844640"/>
            <a:ext cx="6373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  </a:t>
            </a:r>
            <a:r>
              <a:rPr b="0" i="1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Ik zorg dat na iedere vergadering op dinsdag de uitgewerkte notulen uiterlijk woensdag17:00 uur via Dropbox voor alle teamleden beschikbaar zijn. 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	</a:t>
            </a:r>
            <a:r>
              <a:rPr b="0" lang="nl-NL" sz="2000" spc="-1" strike="noStrike">
                <a:solidFill>
                  <a:srgbClr val="474747"/>
                </a:solidFill>
                <a:latin typeface="Arial"/>
                <a:ea typeface="Arial Unicode MS"/>
              </a:rPr>
              <a:t>Dit doe ik volgens ons format met een  bijbehorende besluiten- en actiepuntenlijst.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ijdelijke aanduiding voor voettekst 4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58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Taken voorzitter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oorbereiden van de bespreking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ing openen en slui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introduceren agendapunt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agenda bewaken en de tijd in de gaten hou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deelnemers stimuler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zorgen dat iedereen aan bod kom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ructuur en sfeer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regelmatig samenvatten en conclusies trek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sluitvorming bege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stemmingen lei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vergaderprocedures hanteren en bewak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bemiddelen bij conflicten en meningsverschill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kstvak 2"/>
          <p:cNvSpPr/>
          <p:nvPr/>
        </p:nvSpPr>
        <p:spPr>
          <a:xfrm>
            <a:off x="900000" y="1773360"/>
            <a:ext cx="68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erdoele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het verschil tussen een groep en een te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grijpt hoe het proces en de procedure de inhoud beïnvloeden bij het samen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ent de fases van projectmatig wer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samen met je teamleden een samenwerkingsovereenkomst (SWO) en een Plan van aanpak (PVA) opstellen (aan de hand van format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weet wat de rol van voorzitter, notulist en deelnemer vooraf, tijdens en na een vergadering inhou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bent je bewust van het verschil tussen taakgericht en procesgericht vergad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kunt een agenda en notulen met besluitenlijst mak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47474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Je ziet de noodzaak van SMART-doelen formule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ijdelijke aanduiding voor voettekst 1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kstvak 2"/>
          <p:cNvSpPr/>
          <p:nvPr/>
        </p:nvSpPr>
        <p:spPr>
          <a:xfrm>
            <a:off x="611280" y="981000"/>
            <a:ext cx="78483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SC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s groep gaan jullie een schip ontwerpen en tekenen. De tekening mo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 voorstellen en weerge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groep samenwerk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ar ze vandaan komt en waar ze naartoe gaa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hoe de rollen over de bemanning zijn verdeel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De groep als geheel is het schip; de deelnemers zijn de bemann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Ontwerp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1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Bespreek eerst met elkaar het ontwerp, ga nog niet teken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eken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ongeveer 30 minute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ak een tekening van het schip. Bespreek de taakverdeling aan boord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erdeel de functies onder de aanwezigen. Het is niet de bedoeling d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groepsleden functies gaan del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ogelijke functies zijn: scheepseigenaar, kapitein, eerste en twee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stuurman, scheepsarts, scheepsdominee, bootsman, eerste machinis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marconist, scheepstimmerman, zeilmaker, kok, koksmaatje, matrozen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ketelbinkie, verstekeling, drenkeling, scheepskat, boegbeeld, zeemeeuw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albat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Presentatiefase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(maximaal 5 minuten per groe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lke groep presenteert het eindresultaat. Aansluitend evaluatie (aan de h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van opname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32000" y="887040"/>
            <a:ext cx="720720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Groep of team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914400" y="1915920"/>
            <a:ext cx="8229600" cy="39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Groep = mensen ie samenwerken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474747"/>
                </a:solidFill>
                <a:latin typeface="Arial"/>
              </a:rPr>
              <a:t>Team = elkaar aanvullen met competenties zodat synergie ontstaat.</a:t>
            </a:r>
            <a:endParaRPr b="0" lang="en-US" sz="26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74747"/>
                </a:solidFill>
                <a:latin typeface="Arial"/>
              </a:rPr>
              <a:t>	</a:t>
            </a:r>
            <a:r>
              <a:rPr b="1" lang="nl-NL" sz="8900" spc="-1" strike="noStrike">
                <a:solidFill>
                  <a:srgbClr val="039ad6"/>
                </a:solidFill>
                <a:latin typeface="Arial"/>
              </a:rPr>
              <a:t>1  + 1 = 3</a:t>
            </a: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9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76000" y="887040"/>
            <a:ext cx="706284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De </a:t>
            </a:r>
            <a:r>
              <a:rPr b="1" i="1" lang="nl-NL" sz="3200" spc="-1" strike="noStrike">
                <a:solidFill>
                  <a:srgbClr val="474747"/>
                </a:solidFill>
                <a:latin typeface="Calibri"/>
                <a:ea typeface="Arial Unicode MS"/>
              </a:rPr>
              <a:t>marshmallow challenge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474747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0" name="Rechthoek 7"/>
          <p:cNvSpPr/>
          <p:nvPr/>
        </p:nvSpPr>
        <p:spPr>
          <a:xfrm>
            <a:off x="1403280" y="1844640"/>
            <a:ext cx="59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uw met vier personen in 18 minuten een zo hoog mogelijke stabiele toren van 20 sprieten spaghetti, een meter plakband en een meter tou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Arial"/>
                <a:ea typeface="Arial"/>
              </a:rPr>
              <a:t>Bovenop de toren moet een marshmallow kunnen liggen, zonder dat de toren instor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pic>
        <p:nvPicPr>
          <p:cNvPr id="343" name="Picture 13" descr="figuur_06"/>
          <p:cNvPicPr/>
          <p:nvPr/>
        </p:nvPicPr>
        <p:blipFill>
          <a:blip r:embed="rId1"/>
          <a:stretch/>
        </p:blipFill>
        <p:spPr>
          <a:xfrm>
            <a:off x="1187280" y="765000"/>
            <a:ext cx="7156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66560" y="887040"/>
            <a:ext cx="7172280" cy="6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474747"/>
                </a:solidFill>
                <a:latin typeface="Calibri"/>
              </a:rPr>
              <a:t>Wat heeft een team nodig?</a:t>
            </a:r>
            <a:endParaRPr b="0" lang="en-US" sz="3200" spc="-1" strike="noStrike">
              <a:solidFill>
                <a:srgbClr val="474747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1640" y="1915920"/>
            <a:ext cx="8569080" cy="4141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000" spc="-1" strike="noStrike">
                <a:solidFill>
                  <a:srgbClr val="474747"/>
                </a:solidFill>
                <a:latin typeface="Arial"/>
              </a:rPr>
              <a:t>Gemeenschappelijk doel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Betrokkenheid op doel en op elkaar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Duidelijke rollen en verantwoordelijkheden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Heldere werkafspraken en procedures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39ad6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BE" sz="2000" spc="-1" strike="noStrike">
                <a:solidFill>
                  <a:srgbClr val="474747"/>
                </a:solidFill>
                <a:latin typeface="Arial"/>
              </a:rPr>
              <a:t>Onderling vertrouwen en respect</a:t>
            </a:r>
            <a:endParaRPr b="0" lang="en-US" sz="2000" spc="-1" strike="noStrike">
              <a:solidFill>
                <a:srgbClr val="47474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ijdelijke aanduiding voor voettekst 3"/>
          <p:cNvSpPr/>
          <p:nvPr/>
        </p:nvSpPr>
        <p:spPr>
          <a:xfrm>
            <a:off x="533520" y="624852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© 2012 Noordhoff Uitgevers bv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16" descr="figuur_07"/>
          <p:cNvPicPr/>
          <p:nvPr/>
        </p:nvPicPr>
        <p:blipFill>
          <a:blip r:embed="rId1"/>
          <a:stretch/>
        </p:blipFill>
        <p:spPr>
          <a:xfrm>
            <a:off x="231840" y="1700280"/>
            <a:ext cx="86788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4T09:09:16Z</dcterms:created>
  <dc:creator>Brakkee</dc:creator>
  <dc:description/>
  <dc:language>en-US</dc:language>
  <cp:lastModifiedBy>Ingrid Buckx</cp:lastModifiedBy>
  <cp:lastPrinted>2009-09-28T07:25:02Z</cp:lastPrinted>
  <dcterms:modified xsi:type="dcterms:W3CDTF">2018-03-28T13:56:31Z</dcterms:modified>
  <cp:revision>165</cp:revision>
  <dc:subject/>
  <dc:title>Algemeen</dc:title>
</cp:coreProperties>
</file>