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F5B-945B-4929-801A-87FB0F2E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E46-4721-4C44-9538-8595C97C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E4D-1537-48EC-8987-291E2CB2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751-9911-4BEA-A502-876520D2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9356-A9F0-4AF6-9750-CE806DC2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65E4-7868-4B4C-B099-408B6652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5FEA-E13D-490A-88BF-EDBAECE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383C-3FD1-4469-834C-E8F2367A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7966-A1A5-46DD-B291-F3823741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A8FB-743B-4EA4-BB37-67DAC905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2E31-D30B-4AC2-BE96-7C1C5A0F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5B94-1985-40E0-B7D0-314C681A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8D91-AC2C-474D-8D38-F0A1CABF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4279-7D97-4162-8991-028B0910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C6BE-1BD1-40B9-B6E3-C423194A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21BC-64C3-4F77-A664-488E5313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72342-7AAB-4E66-AEF4-827DA8DC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D542-FFD7-4311-B8E3-80A154BD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F574-80FF-4F02-AD92-D10A2CD2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183DF-C29F-457F-BBEC-E81C0A8D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465A-65E9-4454-800A-2C0F09DD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4A04-432E-44AD-8DB6-87B6B68C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0A5-ECC0-46BA-93EF-C1AA6EB5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C77B-6AF5-4CA1-81E2-1BAE012A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BF02A-EC34-42A6-A4FD-5D82CC3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F321-8792-4109-A457-449FC239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A1B0-5A45-4203-85C9-D7205554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F3561-E55F-4416-B5A1-A18E2BCF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3F94-3E5F-4A2A-B282-FD0E1514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B7B42-6131-45B4-9E45-47A8CB3A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DE531-6B62-4910-8ADB-797198C1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4AE77-0A8E-4899-A28B-BD57B5C1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FA721-95D8-427E-9C9D-00357ED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30F-BCFD-4608-BECA-B276999D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8089-6E68-4B41-BE13-DEC290A7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8BB5-CE9C-4634-B3F9-D9174D00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2A122-992C-4E40-8B61-BE011C57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43B40-A749-4B3D-917A-D8A86CA6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869A4-C669-42EF-B43E-10E09891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A6D5B-358A-4990-A92E-772615B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196DA-279B-43D5-8CC8-318125E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914F2-739F-447F-9D67-CCD312D8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1DDB-9619-4915-A28E-81FAD5DD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5DB-D79D-4FB1-928A-E574DC13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E922-0771-4C81-AA4A-F886070A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813-7BE7-4865-B71D-70DA0580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080-BBDB-4960-BDC1-93E9286C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30E-BCF3-490E-B2D5-1C772CCF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00BE-7551-45AA-8822-8B0D4FC1783B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9E23-3185-49FF-A509-F75C4DD5B5B4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5B69-3C35-4210-BD32-64DF6A8F6FDE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0BBA-A98F-4E04-BBA7-911FB6056B7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antacida&amp;start=158&amp;um=1&amp;hl=nl&amp;sa=N&amp;biw=1280&amp;bih=801&amp;tbm=isch&amp;tbnid=mtfaM2B-ClcrzM:&amp;imgrefurl=http://www.lekarna-net.cz/kategorie/0109/2/hvlp/antacida-(vcetne-antiulcerosnich-leciv)&amp;docid=BsAMXflxG0bpqM&amp;imgurl=http://www.lekarna-net.cz/obrazek.php%253Fpdk%253D5000158066359&amp;w=400&amp;h=400&amp;ei=YxYqUdTqNNCW0QXNiYDoBQ&amp;zoom=1&amp;iact=hc&amp;vpx=1008&amp;vpy=199&amp;dur=1609&amp;hovh=225&amp;hovw=225&amp;tx=126&amp;ty=139&amp;sig=110308519874302738132&amp;page=5&amp;tbnh=147&amp;tbnw=146&amp;ndsp=37&amp;ved=1t:429,i:217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nstantia"/>
              </a:rPr>
              <a:t>Geneesmiddelen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727280" y="3736800"/>
            <a:ext cx="5711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65e9c"/>
                </a:solidFill>
                <a:latin typeface="Franklin Gothic Book"/>
              </a:rPr>
              <a:t>Maag en dar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Anti - Emet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nderdrukken braakneig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oepassen bij symptomatische bestrijding van misselijkheid en brak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isselijkheid is een vervelend gevoel in de buik o.a. door vertraagde darmperistaltiek m.a.g. een vertraagde maagontlediging 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ervolg: brake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erste  maanden van de zwangerscha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migrain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Komt vaak voor bij radiotherapie of chemotherap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Kytril en Zofran zijn krachtige anti-emetica en worden hierbij toegepas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iddelen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826920" y="1981080"/>
            <a:ext cx="7250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mperidon en primperan zorgen voor een snellere maagontlediging waardoor de misselijkheidsklachten verdwij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matour en cyclizine bij reisziekte en    migr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 drie zijn zonder recept verkrijgbaa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Geneesmiddelen voor darmaandoening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idiarrho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ntstekingsremmende 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xanti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pasmolyt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Antidiarrhoic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topmiddel’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operamide of imodiu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mt darmperistaltiek, maar oorzaak verdwijnt nie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arbo adsorbens (Norit) is werking nooit aangetoon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Zelfzorg: O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69660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Ontstekingsremmende midde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Prednison (oraal) en Pentasa (rectaal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chronische darmontstek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rale toediening: tabletten vaak voorzien van maagsapresistentie: inhoud komt pas vrij in de darmen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Laxanti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toelgang bevorder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Contactlaxantia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: prikkelen van darmwand: incidenteel en kortdurend gebruik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sacodyl (O) en microlax (R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Osmotische laxantia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: houden vocht vast in dikke darm. Milde werking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ctulose (O) en movicolon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ervolg laxanti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lume vergrotende middelen: onverteerbare vezel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etamucil (O) en volcolon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el bij drink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Spasmolytic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m darmkrampen op te heffen, gat verkramping van de spieren in darmwand te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ij prikkelbare darmsyndroo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uspatal (O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nstantia"/>
              </a:rPr>
              <a:t>Geneesmiddelen voor maagaandoeninge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acid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agzuursecretieremmende 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ucosaprotectiv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edicijnkuren bij Helicobacter Pylori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nti-emetic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Antacid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Verminderen maagzuur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Ze mogen zonder recept verkocht word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Ze moeten snel werken &gt; </a:t>
            </a:r>
            <a:r>
              <a:rPr b="0" lang="nl-NL" sz="2200" spc="-1" strike="noStrike">
                <a:solidFill>
                  <a:srgbClr val="aa2b1e"/>
                </a:solidFill>
                <a:latin typeface="Franklin Gothic Book"/>
              </a:rPr>
              <a:t>suspensie</a:t>
            </a: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vorm  of eventueel een </a:t>
            </a:r>
            <a:r>
              <a:rPr b="0" lang="nl-NL" sz="2200" spc="-1" strike="noStrike">
                <a:solidFill>
                  <a:srgbClr val="aa2b1e"/>
                </a:solidFill>
                <a:latin typeface="Franklin Gothic Book"/>
              </a:rPr>
              <a:t>kauw</a:t>
            </a: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tablett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4-6 per dag  innemen wanneer er veel zuur is: een uur na de maaltijd en voor de nacht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Kunnen ook tijdens zwangerschap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Franklin Gothic Book"/>
              </a:rPr>
              <a:t>Antacida mogen niet gelijktijdig met maagzuursecretieremmers worden ingenomen</a:t>
            </a: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Voorbeelden antacida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ltaci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Gaviscon en Renni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7318440" y="1403280"/>
            <a:ext cx="1608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7010280" y="4952880"/>
            <a:ext cx="2179800" cy="19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46080" y="0"/>
            <a:ext cx="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"/>
          <p:cNvSpPr/>
          <p:nvPr/>
        </p:nvSpPr>
        <p:spPr>
          <a:xfrm>
            <a:off x="46080" y="2376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8" descr="http://t2.gstatic.com/images?q=tbn:ANd9GcSH4Qcx54xUvw7D4UnNqn80YTivu13tgQYHhsGIQoW8wyOy6doyJ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191120"/>
            <a:ext cx="2266920" cy="24955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0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1646280" y="3344760"/>
            <a:ext cx="1743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5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6"/>
          <p:cNvSpPr/>
          <p:nvPr/>
        </p:nvSpPr>
        <p:spPr>
          <a:xfrm flipH="1" flipV="1">
            <a:off x="46440" y="744120"/>
            <a:ext cx="33814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7"/>
          <p:cNvSpPr/>
          <p:nvPr/>
        </p:nvSpPr>
        <p:spPr>
          <a:xfrm flipH="1">
            <a:off x="2285280" y="6127920"/>
            <a:ext cx="104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4" descr="http://t0.gstatic.com/images?q=tbn:ANd9GcREXWYIewN_G_GLVpNzPe-G1Q0ihEYoej9FcpFA88RAUkoEZDff"/>
          <p:cNvPicPr/>
          <p:nvPr/>
        </p:nvPicPr>
        <p:blipFill>
          <a:blip r:embed="rId3"/>
          <a:stretch/>
        </p:blipFill>
        <p:spPr>
          <a:xfrm>
            <a:off x="3519360" y="4952880"/>
            <a:ext cx="2103480" cy="177480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28"/>
          <p:cNvSpPr/>
          <p:nvPr/>
        </p:nvSpPr>
        <p:spPr>
          <a:xfrm>
            <a:off x="-46080" y="-22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9"/>
          <p:cNvSpPr/>
          <p:nvPr/>
        </p:nvSpPr>
        <p:spPr>
          <a:xfrm>
            <a:off x="5754600" y="2562120"/>
            <a:ext cx="1143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3"/>
          <p:cNvSpPr/>
          <p:nvPr/>
        </p:nvSpPr>
        <p:spPr>
          <a:xfrm>
            <a:off x="-46080" y="-22320"/>
            <a:ext cx="184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34"/>
          <p:cNvSpPr/>
          <p:nvPr/>
        </p:nvSpPr>
        <p:spPr>
          <a:xfrm flipH="1" flipV="1">
            <a:off x="1599480" y="6855840"/>
            <a:ext cx="6858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5"/>
          <p:cNvSpPr/>
          <p:nvPr/>
        </p:nvSpPr>
        <p:spPr>
          <a:xfrm flipH="1" flipV="1">
            <a:off x="5257800" y="4376160"/>
            <a:ext cx="1295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2" descr="http://t3.gstatic.com/images?q=tbn:ANd9GcRQe7_N6aKOrf4-wV2IYwFzxF1qU8brZp-ZdqJ-PMxkBcNeZm4m"/>
          <p:cNvPicPr/>
          <p:nvPr/>
        </p:nvPicPr>
        <p:blipFill>
          <a:blip r:embed="rId4"/>
          <a:stretch/>
        </p:blipFill>
        <p:spPr>
          <a:xfrm>
            <a:off x="152280" y="5105520"/>
            <a:ext cx="18590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aagzuur secretieremmer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emmen de maagzuurproduct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erken via de bloedbaa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eïnvloeden andere organen: meer bijwerk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oegepast vooral bij patiënten die chronisch NSAID’s gebruik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64600" indent="-264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wee groepen: </a:t>
            </a:r>
            <a:r>
              <a:rPr b="1" lang="nl-NL" sz="2400" spc="-1" strike="noStrike">
                <a:solidFill>
                  <a:srgbClr val="000000"/>
                </a:solidFill>
                <a:latin typeface="Franklin Gothic Book"/>
              </a:rPr>
              <a:t>H2 receptorantagonisten en protonpompremme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H2 receptorantagonisten v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nitidine (Zantac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Famotidine en Ranitidine zijn in lage doseringen zelfzorg medicat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nitidine geeft de minste interactie met andere geneesmidd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Protonpompremmers vb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meprazol  - Lose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Lanso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Panto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rabeprazo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Mucosaprotectiva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eschermen van de maagwan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echten zich aan beschadigde slijmvliezen en leggen een beschermlaagj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ucralfaat - Ulcoga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Combinatiekuur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Toegepast bij ulcus pepticum veroorzaakt door Helicobacter Pylori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2 delen:  hoog gedoseerde antibiotica en secretie remmer (doodt de bact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De kuur heeft veel bijwerking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Deze kuur ook wel triple therapie genoemd duurt meestal 7 dage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Vaak: amoxicilline/clarithromycine en metronidazol </a:t>
            </a:r>
            <a:r>
              <a:rPr b="1" lang="nl-NL" sz="2800" spc="-1" strike="noStrike">
                <a:solidFill>
                  <a:srgbClr val="000000"/>
                </a:solidFill>
                <a:latin typeface="Franklin Gothic Book"/>
              </a:rPr>
              <a:t>en</a:t>
            </a: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  omeprazol of pantoprazo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Franklin Gothic Book"/>
              </a:rPr>
              <a:t>Er is een standaardkuur: PantoPac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3:17:59Z</dcterms:created>
  <dc:creator>Agnieta</dc:creator>
  <dc:description/>
  <dc:language>en-US</dc:language>
  <cp:lastModifiedBy>Uw naam</cp:lastModifiedBy>
  <dcterms:modified xsi:type="dcterms:W3CDTF">2016-03-06T19:21:19Z</dcterms:modified>
  <cp:revision>9</cp:revision>
  <dc:subject/>
  <dc:title>Tractus Digestivus</dc:title>
</cp:coreProperties>
</file>