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C7CF-8339-40B2-910D-6381666D53D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aagwandbeschermer= mucoprotectiva bv sucrolfaat=ulcog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b : ranitidine, esomeprazol, omeprazol, pantaproz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DEA3-B491-450C-8C32-FD722F96C3E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matemisis = bloedbrak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elaena= bloed in de ontla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3DB0-2F1F-44A7-9BC4-2DCE8F7491C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(1) Antacida = antagel, gaviscon, renn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E8E1-B280-47E7-A438-3EA6003BB55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324A-535D-4C5D-9C88-2A724D875FF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Verdacht voedingsmiddel mag een paar weken niet gegeten worden, daarna rustig weer toevoegen, patiënt moet een dagboek bijhou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 keer op verschillende dagen een testvoeding in opklimmende hoeveelheid, 1</a:t>
            </a:r>
            <a:r>
              <a:rPr b="0" lang="nl-NL" sz="1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 keer placebo, andere keer het echte voedingsmiddel, patiënt moet de verschijnselen note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175D-03F4-49EB-91F4-5767801B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A99E-E28C-4F73-AA24-49E62D72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01CF-C93C-4754-A32D-0CEB1D9C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4C0B-7CBA-47C6-B509-4C05CD9B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211D-56BF-40E1-8A76-E3CE0B77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2CC2-1A28-4EF2-8ED5-41CEE112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A2F8-779D-4544-A340-08D2BFB7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913-6011-4410-B980-2F63C52A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CE43-9087-4FA4-9451-C4BD0809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A087-E809-43F9-9CD4-D53F0A6A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2B41-81F8-44D3-B270-28495926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26D4-AA65-4E65-8903-2395B06C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FE17-75D9-4AB4-BBCE-1D557FFD32F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oogle.nl/imgres?q=hernia+diafragmatica&amp;hl=nl&amp;safe=active&amp;sa=X&amp;biw=1111&amp;bih=708&amp;tbm=isch&amp;prmd=imvnsb&amp;tbnid=KlBdcfDX2gVc8M:&amp;imgrefurl=http://www.barrett.nl/website/html/algemeenfoto04a.htm&amp;docid=ykKrD_rYRpvcDM&amp;w=300&amp;h=300&amp;ei=UyByTvnpMM6YOpz8xJIJ&amp;zoom=1&amp;iact=rc&amp;dur=15&amp;page=1&amp;tbnh=167&amp;tbnw=167&amp;start=0&amp;ndsp=12&amp;ved=1t:429,r:1,s:0&amp;tx=102&amp;ty=107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andoeningen van het Spijsverteringsstel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aak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3135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astr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55280" y="3611520"/>
            <a:ext cx="7777080" cy="2338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steking van het maagslijmv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5881680" y="557280"/>
            <a:ext cx="2655720" cy="2135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755640" y="2060640"/>
            <a:ext cx="26478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coh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SAID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uderdom: atrofie van het slijmv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rugstromen van gal uit d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fectie met helicobacter pylori bacte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schijns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 in de bovenbuik, zuurbra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 opgeblazen gevoel na weinig e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fl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heid, soms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lies van eetl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ms diar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 en onderzo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fhankelijk oorzaak, onthouding va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gwandbeschermer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gzuursecretieremmer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iet 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stros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astro-enterit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ontsteking van het slijmvlies van maag en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ok wel buikgriep genoem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ms een epidemiet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ok door voedselvergifti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ak virale infec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oms bacterieel (oa.salmonel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arree, min of meer water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chte buik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isselijkheid en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erminderde eetl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estal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ge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ko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824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Dehydratie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(uitdroging),  vooral 0-2 jarigen en de zeer ouden van da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schijnselen van uitdroging zij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roge mond, l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gevallen 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gevallen fontanel(baby’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uilen zonder tra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inder urin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ikkelbaar/agressief of  su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772400" cy="4543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at vaak vanzelf 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ten is niet no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rinken heel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o nodig 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oede (extra) hygiëne en preven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derzoek: Fecesk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503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Ulcus peptic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280" y="3789000"/>
            <a:ext cx="7775640" cy="184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lcus ventriculi = ma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lcus duodeni = dunne d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aagzwe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39970-maagzweer-symptomen-klachten-behandeling-en-dieet"/>
          <p:cNvPicPr/>
          <p:nvPr/>
        </p:nvPicPr>
        <p:blipFill>
          <a:blip r:embed="rId1"/>
          <a:stretch/>
        </p:blipFill>
        <p:spPr>
          <a:xfrm>
            <a:off x="3772080" y="2629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o2401"/>
          <p:cNvPicPr/>
          <p:nvPr/>
        </p:nvPicPr>
        <p:blipFill>
          <a:blip r:embed="rId2"/>
          <a:stretch/>
        </p:blipFill>
        <p:spPr>
          <a:xfrm>
            <a:off x="6180120" y="4199040"/>
            <a:ext cx="2286000" cy="2593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h_pylori%20scott%20smith"/>
          <p:cNvPicPr/>
          <p:nvPr/>
        </p:nvPicPr>
        <p:blipFill>
          <a:blip r:embed="rId3"/>
          <a:stretch/>
        </p:blipFill>
        <p:spPr>
          <a:xfrm>
            <a:off x="304920" y="2209680"/>
            <a:ext cx="2307960" cy="2819520"/>
          </a:xfrm>
          <a:prstGeom prst="rect">
            <a:avLst/>
          </a:prstGeom>
          <a:ln w="0">
            <a:noFill/>
          </a:ln>
        </p:spPr>
      </p:pic>
      <p:sp>
        <p:nvSpPr>
          <p:cNvPr id="90" name="Rechthoek 1"/>
          <p:cNvSpPr/>
          <p:nvPr/>
        </p:nvSpPr>
        <p:spPr>
          <a:xfrm>
            <a:off x="4003560" y="5029200"/>
            <a:ext cx="27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1.Zwe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2.Opening naar de 12vingerige d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3.Maagw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maagzweer"/>
          <p:cNvPicPr/>
          <p:nvPr/>
        </p:nvPicPr>
        <p:blipFill>
          <a:blip r:embed="rId4"/>
          <a:stretch/>
        </p:blipFill>
        <p:spPr>
          <a:xfrm>
            <a:off x="6319800" y="1844640"/>
            <a:ext cx="20066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oed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lergie - intoleran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licobacter pylori,  een bacterie(&gt;6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SAID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 hoge zoutzuurproductie en/of slechte kwaliteit van het slijmv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ute, hevige 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evige pijn in de bovenbuik, bij ulcus ventriculi, vooral na het e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uurbra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el oprispingen / bo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peekselvlo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ongergevoel / hongerpijn, vooral bij ulcus duod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rage stoelg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lecht verdragen van sommige voedingsmiddelen, o.a. koffie, alcohol, pittig eten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: gastrosc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908310220313257"/>
          <p:cNvPicPr/>
          <p:nvPr/>
        </p:nvPicPr>
        <p:blipFill>
          <a:blip r:embed="rId1"/>
          <a:stretch/>
        </p:blipFill>
        <p:spPr>
          <a:xfrm>
            <a:off x="4667400" y="3284640"/>
            <a:ext cx="3720960" cy="2984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ANd9GcRD6l_PMnAu7GpQWc-ji63_bWfyLNQ0eyAj1YxBkJjv7yxyazUUsp9QqejIXQ"/>
          <p:cNvPicPr/>
          <p:nvPr/>
        </p:nvPicPr>
        <p:blipFill>
          <a:blip r:embed="rId2"/>
          <a:stretch/>
        </p:blipFill>
        <p:spPr>
          <a:xfrm>
            <a:off x="152280" y="2421000"/>
            <a:ext cx="342900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9"/>
          <p:cNvGrpSpPr/>
          <p:nvPr/>
        </p:nvGrpSpPr>
        <p:grpSpPr>
          <a:xfrm>
            <a:off x="1351080" y="2571840"/>
            <a:ext cx="6443640" cy="1646280"/>
            <a:chOff x="1351080" y="2571840"/>
            <a:chExt cx="6443640" cy="1646280"/>
          </a:xfrm>
        </p:grpSpPr>
        <p:sp>
          <p:nvSpPr>
            <p:cNvPr id="100" name="Rectangle 2"/>
            <p:cNvSpPr/>
            <p:nvPr/>
          </p:nvSpPr>
          <p:spPr>
            <a:xfrm>
              <a:off x="1351080" y="2571840"/>
              <a:ext cx="644364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8"/>
            <p:cNvGrpSpPr/>
            <p:nvPr/>
          </p:nvGrpSpPr>
          <p:grpSpPr>
            <a:xfrm>
              <a:off x="1351080" y="2571840"/>
              <a:ext cx="3357720" cy="1646280"/>
              <a:chOff x="1351080" y="2571840"/>
              <a:chExt cx="3357720" cy="1646280"/>
            </a:xfrm>
          </p:grpSpPr>
          <p:sp>
            <p:nvSpPr>
              <p:cNvPr id="102" name="Rectangle 3"/>
              <p:cNvSpPr/>
              <p:nvPr/>
            </p:nvSpPr>
            <p:spPr>
              <a:xfrm>
                <a:off x="1351080" y="2571840"/>
                <a:ext cx="285768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" name="Group 7"/>
              <p:cNvGrpSpPr/>
              <p:nvPr/>
            </p:nvGrpSpPr>
            <p:grpSpPr>
              <a:xfrm>
                <a:off x="1351080" y="2571840"/>
                <a:ext cx="3357720" cy="1646280"/>
                <a:chOff x="1351080" y="2571840"/>
                <a:chExt cx="3357720" cy="1646280"/>
              </a:xfrm>
            </p:grpSpPr>
            <p:sp>
              <p:nvSpPr>
                <p:cNvPr id="104" name="Rectangle 4"/>
                <p:cNvSpPr/>
                <p:nvPr/>
              </p:nvSpPr>
              <p:spPr>
                <a:xfrm>
                  <a:off x="1351080" y="2571840"/>
                  <a:ext cx="335772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Rectangle 5"/>
                <p:cNvSpPr/>
                <p:nvPr/>
              </p:nvSpPr>
              <p:spPr>
                <a:xfrm>
                  <a:off x="1351080" y="2571840"/>
                  <a:ext cx="3357720" cy="1646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nl-NL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nl-NL" sz="10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0" lang="nl-NL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                                                              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06" name="Picture 6" descr="gastroscopie"/>
          <p:cNvPicPr/>
          <p:nvPr/>
        </p:nvPicPr>
        <p:blipFill>
          <a:blip r:embed="rId1"/>
          <a:stretch/>
        </p:blipFill>
        <p:spPr>
          <a:xfrm>
            <a:off x="1752480" y="1714680"/>
            <a:ext cx="464832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Faeceskweek om te kijken of de bacterie  helicobacter pylori aanwezig i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t kan ook door bloedonderzo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392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gbloeding :hematemesis (1) en melaena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oor de chronische prikkeling: maagkan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gperforatie m.a.g. periton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ittekenvorming, mag een stenose en daardoor ontledigingsproblemen, projectiel br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, afh. oorza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oppen met 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edingsproducten die de klachten verergeren vermij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tibiotica in combinatie me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aagzuurbindende middelen(antacida)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ress vermij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ernia diafragmatica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ynoniem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Hiatus he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liding her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iddenrifbre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mschrijv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 opening tussen borst- en buikholte is wijder dan normaal waardoor de maag voor een deel de borstholte inglij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478400" y="318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>
            <a:hlinkClick r:id="rId1"/>
          </p:cNvPr>
          <p:cNvSpPr/>
          <p:nvPr/>
        </p:nvSpPr>
        <p:spPr>
          <a:xfrm>
            <a:off x="4570560" y="3527280"/>
            <a:ext cx="79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478400" y="3182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4570560" y="3527280"/>
            <a:ext cx="7920" cy="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647640" y="20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647640" y="208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6523200" y="2930400"/>
            <a:ext cx="1885680" cy="184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736560" y="243036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5"/>
          <p:cNvSpPr/>
          <p:nvPr/>
        </p:nvSpPr>
        <p:spPr>
          <a:xfrm>
            <a:off x="739800" y="2430360"/>
            <a:ext cx="79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7" descr="De%20binnenzijde%20van%20een%20normale%20slokdarm%20met%20hernia"/>
          <p:cNvPicPr/>
          <p:nvPr/>
        </p:nvPicPr>
        <p:blipFill>
          <a:blip r:embed="rId2"/>
          <a:stretch/>
        </p:blipFill>
        <p:spPr>
          <a:xfrm>
            <a:off x="3352680" y="3657600"/>
            <a:ext cx="3429000" cy="3200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http://www.merckmanual.nl/media/mmhe2/figures/2004GI123_01.gif"/>
          <p:cNvPicPr/>
          <p:nvPr/>
        </p:nvPicPr>
        <p:blipFill>
          <a:blip r:embed="rId3"/>
          <a:stretch/>
        </p:blipFill>
        <p:spPr>
          <a:xfrm>
            <a:off x="1450800" y="519120"/>
            <a:ext cx="62406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Klachten door omhoog stromend van de maaginhou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16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aak geen klachten, 40%  van de mensen boven de 60 jaar heeft h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uurbra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ïrriteerde k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oestkla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, branderig gevoel achter het borstbeen, soms uitstralend naar de r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erschijnsel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d: jeuk, uitslag, galbulten, oede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uchtwegen: astma(piepen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rtademigheid), neus- en/of oogklach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DK: prikkelend gevoel in de mond, braken, misselijk, diarree, versto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art- en vaatstelsel: anafylactische shoc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plicatie:slokdarmontste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foto02mini"/>
          <p:cNvPicPr/>
          <p:nvPr/>
        </p:nvPicPr>
        <p:blipFill>
          <a:blip r:embed="rId1"/>
          <a:stretch/>
        </p:blipFill>
        <p:spPr>
          <a:xfrm>
            <a:off x="324000" y="1844640"/>
            <a:ext cx="4228920" cy="2943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6443640" y="1873080"/>
            <a:ext cx="2457360" cy="1857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4595760" y="3745080"/>
            <a:ext cx="31114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 Röntgen: slikfoto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astr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Medicijnen: maagsapsecretierem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eefregels:* boveneinde bed 10 cm omho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* voeding aanpassen(vetarm, geen alcohol, chocola,pepermunt, scherpe kruiden, citrusvruchten)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*niet ro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peratie , als bovenstaande niet hel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De%20binnenzijde%20van%20een%20normale%20slokdarm%20met%20kort%20Barrett%20seg"/>
          <p:cNvPicPr/>
          <p:nvPr/>
        </p:nvPicPr>
        <p:blipFill>
          <a:blip r:embed="rId1"/>
          <a:stretch/>
        </p:blipFill>
        <p:spPr>
          <a:xfrm>
            <a:off x="2590920" y="28195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264px-Barretts_esophagus"/>
          <p:cNvPicPr/>
          <p:nvPr/>
        </p:nvPicPr>
        <p:blipFill>
          <a:blip r:embed="rId2"/>
          <a:stretch/>
        </p:blipFill>
        <p:spPr>
          <a:xfrm>
            <a:off x="5715000" y="380880"/>
            <a:ext cx="3017880" cy="27432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647640" y="1895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647640" y="1895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736560" y="2239920"/>
            <a:ext cx="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8" descr="ANd9GcTOdjhQBmN7t_HqIJw4IKr_4shTKHyA6oYz-cZOtd-YxZzYcrpB"/>
          <p:cNvPicPr/>
          <p:nvPr/>
        </p:nvPicPr>
        <p:blipFill>
          <a:blip r:embed="rId3"/>
          <a:stretch/>
        </p:blipFill>
        <p:spPr>
          <a:xfrm>
            <a:off x="228600" y="457200"/>
            <a:ext cx="269712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namnese en lichamelijk onderzo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loedonderzoek:IG E, R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uidprik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ik-priktest:eerst in product, dan in de h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liminatie-Provocatie test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ubbelblind placebo onderzoek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an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eglaten van de voedingsmiddelen waarop wordt gereagee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pipen, Anapen, dit zijn met adrenaline gevulde injectiepen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cute Bu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en toestand waarbij de buikpijn plotseling (binnen enkele uren) is ontstaan, erg hevig is en men aan een ernstige oorzaak denkt, die chirurgisch handelen nodig maak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orza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511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cute Ontstekingen: appendicitis,  peritonitis, cholecystitis (galblaas), pancreatitis, ovaritis/adnexitis (eierst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erforatie van holle organen: maag, darm, galblaas, bloedva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efrolithiasis (niersten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xtra-uteriene graviditeit (EU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11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ympto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vige pijn, druk- en loslaatp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raken, misselijk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iar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nkharde buik (défense musculai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ymptomen passend bij de oorza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Onderzoeken en thera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solidFill>
            <a:srgbClr val="d6d6f5"/>
          </a:solidFill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X Rönt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T-s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choscop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ltijd in een ziekenhu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ericht op het behandelen van de oorza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ijnbestrij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09:17Z</dcterms:created>
  <dc:creator>Agnieta</dc:creator>
  <dc:description/>
  <dc:language>en-US</dc:language>
  <cp:lastModifiedBy>Eke Postma-Eisma</cp:lastModifiedBy>
  <dcterms:modified xsi:type="dcterms:W3CDTF">2018-03-01T10:28:06Z</dcterms:modified>
  <cp:revision>30</cp:revision>
  <dc:subject/>
  <dc:title>Aandoeningen van het Spijsverteringsstelsel</dc:title>
</cp:coreProperties>
</file>