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A4DA-BEEB-46B7-BB22-05312CDA9BF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ulkvormers : zemelen, psyllicumvez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nalgetica : pijnstillers zoals pcm, nsaï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chtvasthouders : movicolon, klean pr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51D2-053B-498D-B8B3-20DAF8265F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bstructie door tumor, littekenweefsel, of draaiing in de darm = volv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armverlamming kan ontstaan als gevolg van buikvliesontsteking, abces in de buik, alvleesklierontsteking, medicatie, grote buikoperat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801A-A020-4E10-93FB-D307C7E6ECD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1) Shockverschijnselen : bleke, koude, klamme, zweterige huid. Ingevallen gezicht, spitse neus, misselijk/ziek gevoel, zieke indruk, dorst, krachteloos, snelle hartslag, onrust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BC1F-E905-477F-B0B3-BE195367BD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rale laxantia : bisacodyl, lactulose, macrog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nti-emetica : domperidon, metocloperamide, mecloz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D1F0-D967-4A16-B602-7B088767D9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33F-190E-4093-A7E2-BA325C41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001-B4D0-45AB-B088-95E7F9EB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943-7DB4-46A2-9188-1C7013B0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A64-A065-4A85-B5C3-F535CCA1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D1C8-2F79-48EF-99E7-A347B0E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92C-3F90-4CB5-970E-000831E8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53E2-5D8D-4036-A441-3B331025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F30-7DDF-43D7-9798-E86E2FCB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B7DD-ACAC-4BDB-9F5C-4AFE9CE0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8AFF-865F-4AAC-8CD0-7EAEF420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125-5DB0-4F67-BD34-80758D9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D85-BE0A-4103-82AD-8A0FC0B7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C6F2-5DC7-47DF-B07F-7C9C9694458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8VhCl4J_lo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rohn.nl/animatie.html" TargetMode="Externa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kana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 1      2de vervol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astisch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rritable bowel syndr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523880" y="4038480"/>
            <a:ext cx="6400800" cy="175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Spastische d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x8VhCl4J_lo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orzaak is onbek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en rol spel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ewegingsstoornissen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oedingsfactoren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aagde pijndrempel in het maagdarmkanaal;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sychosociale factore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ingen in de darmflo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gelijke ontstekingscellen in de darmen.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&gt; 6 maanden en 3 maanden actief aan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lachten wisselend aan- en afwez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eurende, krampende of stekende  pijn in de buik die soms vermindert na defecatie of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ijn soms zo hevig dat de activiteiten niet meer lu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fwijkend ontlasting patr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volg 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wisselend diarree en obstip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blazen gevo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ndere kl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ofd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blemen met urinelo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regelmatige menstru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bij of na seksuele gemeen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pierpijn en/of gewrichts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 specifieke onderzoeken, goede anamnese en lichamelijk onderzoek is voldoe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 (geen stress): be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ventueel medicijnen afh. van de klachten     bulkvormers (1), analgetica,(2) vochtvasthouders,(3) laxantia, (antidepress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gnitieve gedragstherapie: Voorkom vermijdingsgedr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permuntolie, chinese kruiden, lijnzaad, aloë ver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rnia incarce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reu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4114800" cy="199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1905120" y="1981080"/>
            <a:ext cx="411480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efinit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uitstulping van ingewanden of buikvlies door een opening in de buikwand m.a.g. </a:t>
            </a:r>
            <a:r>
              <a:rPr b="1" lang="nl-NL" sz="3200" spc="-1" strike="noStrike">
                <a:solidFill>
                  <a:srgbClr val="ff0000"/>
                </a:solidFill>
                <a:latin typeface="Times New Roman"/>
              </a:rPr>
              <a:t>afsterving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n het weefsel in de breukz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kelbare darm synd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klemde bre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rbus Cr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or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Liesbreuk | Medinova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itteken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41972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Navelbreu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1371600" y="2222640"/>
            <a:ext cx="571500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ote breu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1676520" y="2017800"/>
            <a:ext cx="472428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cale ontstekingsverschijns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irurg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litis Ulcer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darmziekte waarbij de dikke darm ontstoken i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nnenkant van de darm wordt rood en zwelt o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w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gelijkbaar is ziekte van Cr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weersy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arree, vaak met blo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moeidheid,  slechte eetlust, gewichtsver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Ko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loopt in gol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loedarmo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eite met ophouden van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http://www.accurioja.com/img/colitis.jpg"/>
          <p:cNvPicPr/>
          <p:nvPr/>
        </p:nvPicPr>
        <p:blipFill>
          <a:blip r:embed="rId1"/>
          <a:stretch/>
        </p:blipFill>
        <p:spPr>
          <a:xfrm>
            <a:off x="1714680" y="304920"/>
            <a:ext cx="5715000" cy="2941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http://www.spinabifidainfo.nl/colitisbv.jpg"/>
          <p:cNvPicPr/>
          <p:nvPr/>
        </p:nvPicPr>
        <p:blipFill>
          <a:blip r:embed="rId2"/>
          <a:stretch/>
        </p:blipFill>
        <p:spPr>
          <a:xfrm>
            <a:off x="685800" y="3597120"/>
            <a:ext cx="2997360" cy="326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www.gastrointestinalatlas.com/SevereUlcerative_Colitis13.jpg"/>
          <p:cNvPicPr/>
          <p:nvPr/>
        </p:nvPicPr>
        <p:blipFill>
          <a:blip r:embed="rId3"/>
          <a:stretch/>
        </p:blipFill>
        <p:spPr>
          <a:xfrm>
            <a:off x="4343400" y="3807000"/>
            <a:ext cx="4572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zowel dunne als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FSLU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eces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 = buik overzichtsfo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 -, oog- en gewrichtsklachten en ontstekingen van de galwegen in en buiten de le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steoporose, door verminderde kalkop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te gene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ontstekings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: colonresectie/ colect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Ziekte van Cr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itis terminal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orbus Cro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chronische ontstekingsziekte van het maag-darmstels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nne en/of dikke darm is ontst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tp://www.crohn.nl/animatie.html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26" descr="http://medischcontact.artsennet.nl/static/images/medischcontact/AMGATE_6059_138_TICH_R227196430371217.jpg"/>
          <p:cNvPicPr/>
          <p:nvPr/>
        </p:nvPicPr>
        <p:blipFill>
          <a:blip r:embed="rId1"/>
          <a:stretch/>
        </p:blipFill>
        <p:spPr>
          <a:xfrm>
            <a:off x="6156360" y="4010040"/>
            <a:ext cx="2987640" cy="2847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27" descr="http://www.ysl.nl/fileadmin/site/ysl/medischabc/afbeeldingen/MK_ziektevancrohn.gif"/>
          <p:cNvPicPr/>
          <p:nvPr/>
        </p:nvPicPr>
        <p:blipFill>
          <a:blip r:embed="rId2"/>
          <a:stretch/>
        </p:blipFill>
        <p:spPr>
          <a:xfrm>
            <a:off x="108000" y="115920"/>
            <a:ext cx="6858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bek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felijk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weersy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/kr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wichtsverl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e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acerbaties en remiss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tijdens opvlamming van de zi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met bioptaf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likken videocaps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istel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klev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pijnstillers, anti-diarree middelen, vitamines, foliumzuur en ijzer gebrui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ook medicijnen die werken tegen de ontsteking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seifmedgraphics.com/ileus.jpg"/>
          <p:cNvPicPr/>
          <p:nvPr/>
        </p:nvPicPr>
        <p:blipFill>
          <a:blip r:embed="rId1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xa.yimg.com/kq/groups/1660280/homepage/name/homepage.jpg?type=sn"/>
          <p:cNvPicPr/>
          <p:nvPr/>
        </p:nvPicPr>
        <p:blipFill>
          <a:blip r:embed="rId1"/>
          <a:stretch/>
        </p:blipFill>
        <p:spPr>
          <a:xfrm>
            <a:off x="1981080" y="723960"/>
            <a:ext cx="45691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topping </a:t>
            </a: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obstructie (1)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van de darmdoor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echanische blokkade door inklemming (invaginatie), afklemming of verdraai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kleving van de darmwand aan het buikv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zw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verlamming (paralytische ileus)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nvallen van hevige buikpijn(</a:t>
            </a: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kolieken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armbewegingen zichtbaar op de buik(niet bij paralytische ileus, stille bu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ootsteengeruisen te ho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Times New Roman"/>
              </a:rPr>
              <a:t>Opgezette bu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vig braken tot fecaal braken aan t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gblijven van winden en ontl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hock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coloninloop (dikke d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d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necro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zo nodig met st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liggende oorzaak behand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servatief: maaghevel (speciale neussonde), infuus, klysma's, later orale laxantia (1), pijnstillers, anti-emetic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9:38:35Z</dcterms:created>
  <dc:creator>Agnieta</dc:creator>
  <dc:description/>
  <dc:language>en-US</dc:language>
  <cp:lastModifiedBy>Eke Postma-Eisma</cp:lastModifiedBy>
  <dcterms:modified xsi:type="dcterms:W3CDTF">2018-03-01T10:58:29Z</dcterms:modified>
  <cp:revision>23</cp:revision>
  <dc:subject/>
  <dc:title>Aandoeningen van het spijsverteringskanaal</dc:title>
</cp:coreProperties>
</file>