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E400-1416-434F-B292-4FB27E6AE5D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AA04-D53B-41A2-A0FF-D304CAAAA31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9773-CC1D-4B04-B7EB-F387AC5E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73F8-5459-4F99-8C9B-C402C13B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4999-09B2-4EAD-85C4-EE2500A2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433F-3C50-4069-9C84-5119A1DD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A1EF-B08F-4024-B00A-D304BF50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5234-A8EF-40EC-8599-DCAB3768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4BA2-24EE-4A40-AD9A-9D7D0E00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8739-7972-43F4-9819-C34E87E2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2655-A5C4-4543-B9D3-EF4A863E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82F3-522B-47FB-B2F6-4400EFD5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8BF3-D643-4A31-8DF0-1632D7F6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79A5-BA36-435F-BFA3-38A4C467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E94F-29C7-4895-B74A-833CBA332A5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epat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everontste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http://healthlob.com/wp-content/uploads/2011/05/hepatitis-300x181.jpg"/>
          <p:cNvPicPr/>
          <p:nvPr/>
        </p:nvPicPr>
        <p:blipFill>
          <a:blip r:embed="rId1"/>
          <a:stretch/>
        </p:blipFill>
        <p:spPr>
          <a:xfrm>
            <a:off x="609480" y="457200"/>
            <a:ext cx="4648320" cy="280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www.huidziekten.nl/afbeeldingen/hepatitis-b-4.jpg"/>
          <p:cNvPicPr/>
          <p:nvPr/>
        </p:nvPicPr>
        <p:blipFill>
          <a:blip r:embed="rId2"/>
          <a:stretch/>
        </p:blipFill>
        <p:spPr>
          <a:xfrm>
            <a:off x="4343400" y="3581280"/>
            <a:ext cx="430524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erstelf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estal genezing binnen 6-8 we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oms kunnen gedurende een  jaar no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moeidheid,  Lusteloosh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latulen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tintolerant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tr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chronische hepat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el patiënten hebben geen symptomen of dezelfde als bij de acute v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moeidheid, een grotere behoefte aan slaap, pijnlijke spieren en gewrich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eriodieke lichte druk of pijn onder de rechterribben als gevolg van een vergrote l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elzucht is een zeer laat symptoom van chronische hepatitis: het is een teken dat de ziekte ernstig is geword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 en urine onderzo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patitis B door HBs-AG (australi-antigeen) aan te t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patitis A: g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patitis B: levercirrose = leververv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patitis C: levercirrose, levercarcin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ttps://www.youtube.com/watch?v=Q9L7ZQPc8EA Engels gesprok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http://www.youtube.com/watch J5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ttps://www.youtube.com/watch?v=Q9L7ZQ8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han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en directe behandeling, hooguit symptoombestrij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3951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el hepatitis gevallen worden aanvankelijk aangezien voor griep omdat de klachten erg kunnen lijken op griepverschijns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ziekteverloop%20hepC"/>
          <p:cNvPicPr/>
          <p:nvPr/>
        </p:nvPicPr>
        <p:blipFill>
          <a:blip r:embed="rId1"/>
          <a:stretch/>
        </p:blipFill>
        <p:spPr>
          <a:xfrm>
            <a:off x="1042920" y="836640"/>
            <a:ext cx="71215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evercirr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chrompeling, verbindweefseling van de l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Leverklachten: symptomen levercirrose, cirrose en alcohol"/>
          <p:cNvPicPr/>
          <p:nvPr/>
        </p:nvPicPr>
        <p:blipFill>
          <a:blip r:embed="rId1"/>
          <a:stretch/>
        </p:blipFill>
        <p:spPr>
          <a:xfrm>
            <a:off x="2362320" y="1600200"/>
            <a:ext cx="46576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lever"/>
          <p:cNvPicPr/>
          <p:nvPr/>
        </p:nvPicPr>
        <p:blipFill>
          <a:blip r:embed="rId1"/>
          <a:stretch/>
        </p:blipFill>
        <p:spPr>
          <a:xfrm>
            <a:off x="826920" y="1125360"/>
            <a:ext cx="7452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ronische hepatitis B en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ronisch alcoholgebr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en opgezette lever en (vage) buikpij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isselijkheid en brak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minderde eetlust en gewichtsverl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lgehele zwakte en vermoeidhe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elzucht; het geel zien van de huid en het oogw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Jeu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leine ‘spinvormige’ bloedvaatjes op de huid (spider naevi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Nog meer sympt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sc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ataderen in slokdarm en ma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stapeling van giftige stoffen oa.in de hersenen met o.a. verwardheid en tot slot c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www.huidziekten.nl/afbeeldingen/hepatitis-b-2.jpg"/>
          <p:cNvPicPr/>
          <p:nvPr/>
        </p:nvPicPr>
        <p:blipFill>
          <a:blip r:embed="rId1"/>
          <a:stretch/>
        </p:blipFill>
        <p:spPr>
          <a:xfrm>
            <a:off x="704880" y="609480"/>
            <a:ext cx="3867120" cy="4419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http://upload.wikimedia.org/wikipedia/commons/thumb/4/42/Spider_nevus.jpg/230px-Spider_nevus.jpg"/>
          <p:cNvPicPr/>
          <p:nvPr/>
        </p:nvPicPr>
        <p:blipFill>
          <a:blip r:embed="rId2"/>
          <a:stretch/>
        </p:blipFill>
        <p:spPr>
          <a:xfrm>
            <a:off x="5410080" y="0"/>
            <a:ext cx="2629080" cy="4422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www.sciencephoto.com/image/259930/large/M2200067-Spider_naevus_on_skin-SPL.jpg"/>
          <p:cNvPicPr/>
          <p:nvPr/>
        </p:nvPicPr>
        <p:blipFill>
          <a:blip r:embed="rId3"/>
          <a:stretch/>
        </p:blipFill>
        <p:spPr>
          <a:xfrm>
            <a:off x="4876920" y="4489560"/>
            <a:ext cx="340992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onderzoek: leverfunc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 BOZ, MRI.lever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graf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everpunctie/ biops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leen symptomatis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evertransplant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ancreatit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2716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vleesklierontste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ttp://plazilla.com/page/4294981047/pancreatitis-wat-is-dat-precie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84368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 van acute pancreat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t gedeelte wat spijsverteringssappen maakt is ontst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r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neesmidd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lsten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15280" cy="114300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schijnsel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9640" y="1412640"/>
            <a:ext cx="8315280" cy="544500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ak een mild ver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nstige pijn in de bovenb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stralend naar de r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atiënt zit rechtop en voorovergebo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 en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iekenhuisopna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mylase sterk verhoogd in het blo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Pancreatitis symptomen: buikpijn, misselijk, braken &amp; koorts"/>
          <p:cNvPicPr/>
          <p:nvPr/>
        </p:nvPicPr>
        <p:blipFill>
          <a:blip r:embed="rId1"/>
          <a:stretch/>
        </p:blipFill>
        <p:spPr>
          <a:xfrm>
            <a:off x="7093080" y="4437000"/>
            <a:ext cx="17618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08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irussen: hepatitis A, B, C, D, E, F en G , Epstein-Barrvirus (Z. Pfeiffer), cytomegalievirus(herpesvir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cohol-  /drugsgebr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dicijnen bijv overdosis paracetam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ofwisselingsziekt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ttps://www.youtube.com/watch?v=12q3byhdt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handeling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unstmatige voe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ware pijnsti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lstenen worden verwijde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% overlij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 chronische pancreatiti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coholmisbr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ngebo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beke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chron. pancreat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sselende pijn in de buik of in de r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name pijn rechtop voorover gebogen zi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ttige ontlasting door tekort aan verteringssap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eindelijk aantasting endocriene cellen m.a.g. diabetes melli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handel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bestrij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rugzakreis.nl/images/medisch-hepatitis-a.gif"/>
          <p:cNvPicPr/>
          <p:nvPr/>
        </p:nvPicPr>
        <p:blipFill>
          <a:blip r:embed="rId1"/>
          <a:stretch/>
        </p:blipFill>
        <p:spPr>
          <a:xfrm>
            <a:off x="228600" y="0"/>
            <a:ext cx="5029200" cy="3521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http://www.rugzakreis.nl/images/medisch-hepatitis.gif"/>
          <p:cNvPicPr/>
          <p:nvPr/>
        </p:nvPicPr>
        <p:blipFill>
          <a:blip r:embed="rId2"/>
          <a:stretch/>
        </p:blipFill>
        <p:spPr>
          <a:xfrm>
            <a:off x="3657600" y="3313080"/>
            <a:ext cx="548640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smettingswe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816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, E: besmet voedsel, water met faecalië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,C,D: seksueel contact, bloed/- transfusies en  naalden delen door  drugsgebrui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patitis 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ttp://www.stophepatitis-c.nl/vide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www.umm.edu/graphics/images/en/18140.jpg"/>
          <p:cNvPicPr/>
          <p:nvPr/>
        </p:nvPicPr>
        <p:blipFill>
          <a:blip r:embed="rId1"/>
          <a:stretch/>
        </p:blipFill>
        <p:spPr>
          <a:xfrm>
            <a:off x="304920" y="38088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www.huidziekten.nl/afbeeldingen/hepatitis-b-1.jpg"/>
          <p:cNvPicPr/>
          <p:nvPr/>
        </p:nvPicPr>
        <p:blipFill>
          <a:blip r:embed="rId2"/>
          <a:stretch/>
        </p:blipFill>
        <p:spPr>
          <a:xfrm>
            <a:off x="4800600" y="2819520"/>
            <a:ext cx="434340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ypen hepat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ute hepatitis - duurt minder dan zes maanden, de virussen hepatitis A en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ronische hepatitis - duurt langer dan zes maanden,  de virussen hepatitis B,C en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 acute hepat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moeidheid, algemene malaise, lichte ko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arree, misselijkheid, slechte eetlust, veranderingen in sma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ruk of pijn onder de rechterribben veroorzaakt door een vergrote le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lijke spieren en gewrichten, hoofdpijn, huiduitsl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n de icterusfas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geling van de witte gedeelten van de ogen, de huid en de slijmvlie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onkere ur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cht gekleurde ontlasting (stopver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ond deze tijd verdwijnen de andere sympto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erstel: uiteindelijk blijft alleen vermoeidheid over, die langzamerhand verdwij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08:32:41Z</dcterms:created>
  <dc:creator>Agnieta</dc:creator>
  <dc:description/>
  <dc:language>en-US</dc:language>
  <cp:lastModifiedBy>Eke Postma-Eisma</cp:lastModifiedBy>
  <cp:lastPrinted>2015-03-20T11:56:38Z</cp:lastPrinted>
  <dcterms:modified xsi:type="dcterms:W3CDTF">2018-03-01T11:13:37Z</dcterms:modified>
  <cp:revision>19</cp:revision>
  <dc:subject/>
  <dc:title>Hepatitis</dc:title>
</cp:coreProperties>
</file>