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6858000" y="6583320"/>
            <a:ext cx="2133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304920" y="6438960"/>
            <a:ext cx="42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UNICATIE HANDBO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396720" y="404640"/>
            <a:ext cx="8352000" cy="597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8"/>
          <p:cNvSpPr/>
          <p:nvPr/>
        </p:nvSpPr>
        <p:spPr>
          <a:xfrm>
            <a:off x="6156360" y="645336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© 2015  |  Noordhoff Uitgevers b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C:\Users\is4442\Desktop\K179\JPEG\4 Colour_INF_9789001863029_COMMUNICATIE HANDBK (CAMPUZ_TOM)_cPDF\15_1.jpg"/>
          <p:cNvPicPr/>
          <p:nvPr/>
        </p:nvPicPr>
        <p:blipFill>
          <a:blip r:embed="rId1"/>
          <a:stretch/>
        </p:blipFill>
        <p:spPr>
          <a:xfrm>
            <a:off x="838080" y="2019240"/>
            <a:ext cx="7524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is4442\Desktop\K179\JPEG\4 Colour_INF_9789001863029_COMMUNICATIE HANDBK (CAMPUZ_TOM)_cPDF\15_2.jpg"/>
          <p:cNvPicPr/>
          <p:nvPr/>
        </p:nvPicPr>
        <p:blipFill>
          <a:blip r:embed="rId1"/>
          <a:stretch/>
        </p:blipFill>
        <p:spPr>
          <a:xfrm>
            <a:off x="884160" y="1738440"/>
            <a:ext cx="7336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9:09:11Z</dcterms:created>
  <dc:creator>PPMP</dc:creator>
  <dc:description/>
  <dc:language>en-US</dc:language>
  <cp:lastModifiedBy>Ingrid Buckx</cp:lastModifiedBy>
  <dcterms:modified xsi:type="dcterms:W3CDTF">2018-03-12T10:08:01Z</dcterms:modified>
  <cp:revision>181</cp:revision>
  <dc:subject/>
  <dc:title>PowerPoint Presentation</dc:title>
</cp:coreProperties>
</file>