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-180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5840" y="-180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68400" y="747720"/>
            <a:ext cx="4921200" cy="368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584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9E3F-9D56-484A-9F62-84AB4BB6CC5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C40C-C079-4424-8EEE-34DF45BFDF2D}" type="slidenum">
              <a:rPr b="0" lang="nl-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8FFF-B1E3-4FD1-B23F-A51FD17AC29F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AAA4-D5B0-41F3-9DDE-C38FD469B150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3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C3F5-A697-4422-93E2-79D670B9DC74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6.6 EML/ Zie paragraaf 7.2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  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isselende agendapunten: doornummeren en kopje geven in agenda en notulen dat de lading dek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anvulling bij bespreken wisselende agendapu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EA4E-1AD0-4893-BF0F-87E903A2DF2F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ook EML blz 93 cons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4FB8-A3E3-4AD1-BBC2-553F480B3FF1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D6CF-0ED9-427A-AEC1-BDDBE0084FEC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ACAE-DC89-4A1D-8ACF-D51E25BF4227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1467-6FDA-4765-8F0E-78127104149B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 deze workshop ligt de nadruk op het stuctureren, de procedures van teamwe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2131-6A1F-44B9-A9C9-5598C35F1198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1BFD-AA00-4960-B51D-E76F0CCF1C6F}" type="slidenum">
              <a:rPr b="0" i="1" lang="en-GB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1.7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Leerdoelen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en paragraaf 5.2 over SMART-doelen in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5513-09FE-4332-961E-2B784FD802F4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4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. 6.1 en 6.2 E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D957-BC56-4337-8CFA-CAE9EBCBEDD9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a beva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chtendragend plaatje. Alternatief: geef de link naar deze pagina, maar niet in de 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. 6.2 EML Wat zijn effectieve tea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80E1-662E-4634-BBA8-FD56461A618C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C345-6E34-4C31-988D-ADEF41DBEE97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e paragraaf 6.6 EML en 7.4 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69F-5BEE-47B3-9398-EB538DF3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CFC-0FAD-44A0-9984-EBB318A5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62B-0999-42F4-90B4-2CDBA5A5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C99-CA63-4C58-AF0B-4F8EC0D9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2CF3-3C18-41BE-9BB3-DC90AE91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6B79-527A-4B47-A388-F8F475E4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B868-ED1A-4965-B9AA-68FE7CBA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F329-A950-4EE4-ACC8-958F61A4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7DEF-270B-4299-AA0A-5FE313E3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749F-7A3F-49B3-97ED-675DAC41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03C9-F0B9-4262-87AB-CD148D5C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61DD-1102-4E81-B4BE-4F8D2B4C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8A1B-57D8-4E22-AEE9-2DA205F5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6B91-98E1-4DFB-9712-2E212E97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D05A-66A7-43DD-9210-1A636F02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6E83-DBD1-4E81-96D1-401A642B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BD82-59FA-4DD3-AA71-98C139B7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A4197-E489-455B-9DF9-F168D73E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78014-5415-43A3-B6B0-D748346F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84A16-AC3E-48DB-A12E-05E1EA13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7D98A-5CEE-4D8E-A4D6-86C9A9F7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87FAD-3F0C-4843-A884-75DFB193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0AC-56F8-4FA2-97F6-4DC2BE55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FB734-2830-4B6E-A187-F0418EDB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A7D40-3B11-4368-B71D-6A0F937E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7987F-6A0B-4708-A61D-0B291895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CFDFF-6D6C-40E9-98E5-6D85E074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0629C-870D-42C1-8314-8AD18D94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9A695-61E1-4D13-85B9-5E999DA9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457A1-2820-41F1-8A0C-4531BDB1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5EDE5-1AB1-4E29-81DA-514145E0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17086-E0FA-4CA6-A741-3C14421D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AADDE-F5F0-44DB-AE4C-F73F97A8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591-04C0-4298-A454-6B2DF9D2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28FF5-89EF-4181-8B99-F7670AD8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B833B-707F-45F0-ABE8-8BEC923C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75BB1-7FC1-4AD8-9F2C-D527FA76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6A943-A626-4690-904B-1752BB2C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5D1A0-4479-4033-B31B-388BC63C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747BD-1749-4A89-9122-5AAA6696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5B8A3-AA59-4DF9-9F4D-707C934A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B08FA-A515-4881-B31B-7918527C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FBB0-607F-48B8-821C-B1CE1538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A6590-4A60-478B-9790-3FD25B43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0C51-E374-499D-85A5-C5C46E33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7D386-4638-42B8-B6B3-D16DF078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461C5-4A8F-402D-85D9-2352E0A6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9AD35-629E-4A5A-A3B8-7F4EF887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EA014-4D40-407E-80BA-C5B5CCAA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45F5E-434F-4D4A-8EBC-E1B8DA37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4BC24-08FA-4681-9794-6C064818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13BE0-217A-4F50-A44A-81B45D67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0FB6F-C6CB-4A8D-B246-FD4B0B43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078E5-88BA-4B29-9328-83259C05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4E291-E972-46E4-9705-C16D05BD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8D1-9BC0-4842-9679-4DD6A218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0AEC6-BE1C-4A80-95D4-9539233E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BD46C-BAAF-46DE-9DDD-BEAC012F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65C08-8B8C-4C4A-9EA2-7CB035EE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4EDEE-65F3-4343-973F-748BCC7B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D414C-D6F2-4B9C-AE27-4D5B3E44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E754D-B5CA-4F49-B746-D7F65FBB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D612D-D756-47D7-B760-626D9352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C8D2C-FA04-40AB-B583-CDE616AF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F4015-A3D4-491E-8C8F-1540D30B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43D8F-6041-4728-B7B0-B45D296C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173-0CAE-4F57-B6AF-C40EA9F1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466A3-8456-4CAB-80C4-6D3C9AB1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AB5AF-75FB-47DA-B9F3-6DD8D36C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6B58C-ADAA-4DA0-A3E6-D6EB0690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8C209-E619-43FB-80C4-CCBEA3B4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D9C4C-44A3-4E29-9A3A-A8365CCD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0B5B0-46BD-4A94-9B1F-AAF868DB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BF9D9-FDEC-46C0-A565-BD4E73D0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AEBA6-7849-4D4D-A411-5D1167BC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3042C-DA5E-4CD0-8B78-34EB7F19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163FD-9AB9-48F6-BD05-B8B31285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F62-99CC-46CE-A1C9-7F47A14D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0D879-81CF-41D6-B142-BE4BE1D6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055A6-2B43-4CF9-99AB-27A6FDA0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F85B8-DC76-4534-A00D-FD13A5C1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DD1B6-70EF-4C15-87C8-4BADDD54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12615-29F2-4030-9E7E-BE97BE15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46C-4A07-481D-B1FB-BF06C741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6560" y="195228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6920" y="2852640"/>
            <a:ext cx="7294320" cy="316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0200" y="6400440"/>
            <a:ext cx="16765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AA0F-C506-40C4-96DC-7B555B82FF9F}" type="datetime">
              <a:rPr b="0" lang="nl-NL" sz="1000" spc="-1" strike="noStrike">
                <a:solidFill>
                  <a:srgbClr val="000000"/>
                </a:solidFill>
                <a:latin typeface="Calibri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7680" y="6095520"/>
            <a:ext cx="190332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2012 Noordhoff Uitgevers b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5160" y="6246720"/>
            <a:ext cx="38124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D12C-65D3-4633-AD60-3FCEC5CA5D87}" type="slidenum">
              <a:rPr b="0" lang="nl-NL" sz="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39ad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39ad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39ad6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39ad6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47474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47474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160" y="647676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A695-CBDE-41C2-A5A0-61CB5C5AF69B}" type="datetime">
              <a:rPr b="0" lang="nl-NL" sz="700" spc="-1" strike="noStrike">
                <a:solidFill>
                  <a:srgbClr val="000000"/>
                </a:solidFill>
                <a:latin typeface="Calibri"/>
              </a:rPr>
              <a:t>30-07-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33160" y="624816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7320" y="624816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12A6-E772-4111-AD6F-16CB29C5CF5F}" type="slidenum">
              <a:rPr b="0" lang="nl-NL" sz="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A642-3C4A-4EE8-8BD0-C5776F65492B}" type="datetime">
              <a:rPr b="0" lang="en-GB" sz="1200" spc="-1" strike="noStrike">
                <a:solidFill>
                  <a:srgbClr val="045c75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6C05-3BF2-4929-8D12-EA0981585448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282B-9CF8-4D66-A5A1-04434DB5B882}" type="datetime">
              <a:rPr b="0" lang="nl-NL" sz="1200" spc="-1" strike="noStrike">
                <a:solidFill>
                  <a:srgbClr val="045c75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7FDD-0719-4EFB-A12A-E7D949208C5F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2E29-1433-47D9-9033-990ABCA0F019}" type="datetime">
              <a:rPr b="0" lang="nl-NL" sz="1200" spc="-1" strike="noStrike">
                <a:solidFill>
                  <a:srgbClr val="d1eaee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3400-9B82-4508-8EF1-7718353E60F9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2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F5D1-18B9-44EB-99CF-87EB04F3A4A2}" type="datetime">
              <a:rPr b="0" lang="nl-NL" sz="1200" spc="-1" strike="noStrike">
                <a:solidFill>
                  <a:srgbClr val="d1eaee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4B2C-A3A2-4749-8EB9-35762C2EC1D9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D813-C4C8-48B1-9631-42411F662274}" type="datetime">
              <a:rPr b="0" lang="nl-NL" sz="1200" spc="-1" strike="noStrike">
                <a:solidFill>
                  <a:srgbClr val="045c75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3FEF-E15E-4C57-9BC7-20D8C50A96DC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01840" y="3645000"/>
            <a:ext cx="6021360" cy="1295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Calibri"/>
              </a:rPr>
              <a:t>Effectief en motiverend leidinggeven 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nl-NL" sz="3600" spc="-1" strike="noStrike">
                <a:solidFill>
                  <a:srgbClr val="ffffff"/>
                </a:solidFill>
                <a:latin typeface="Calibri"/>
              </a:rPr>
              <a:t>Projectmatig werk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301840" y="5127480"/>
            <a:ext cx="6021360" cy="935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ijdelijke aanduiding voor voettekst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rojectfase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351" name="Group 6"/>
          <p:cNvGrpSpPr/>
          <p:nvPr/>
        </p:nvGrpSpPr>
        <p:grpSpPr>
          <a:xfrm>
            <a:off x="179280" y="1916280"/>
            <a:ext cx="6620760" cy="4388400"/>
            <a:chOff x="179280" y="1916280"/>
            <a:chExt cx="6620760" cy="4388400"/>
          </a:xfrm>
        </p:grpSpPr>
        <p:sp>
          <p:nvSpPr>
            <p:cNvPr id="352" name="Rectangle 7"/>
            <p:cNvSpPr/>
            <p:nvPr/>
          </p:nvSpPr>
          <p:spPr>
            <a:xfrm>
              <a:off x="179280" y="1916280"/>
              <a:ext cx="1872720" cy="438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Initiatie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1585440" y="1916280"/>
              <a:ext cx="2157120" cy="4388400"/>
            </a:xfrm>
            <a:prstGeom prst="rect">
              <a:avLst/>
            </a:prstGeom>
            <a:solidFill>
              <a:srgbClr val="dbf5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efinitie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9"/>
            <p:cNvSpPr/>
            <p:nvPr/>
          </p:nvSpPr>
          <p:spPr>
            <a:xfrm>
              <a:off x="3094920" y="1916280"/>
              <a:ext cx="1943640" cy="4388400"/>
            </a:xfrm>
            <a:prstGeom prst="rect">
              <a:avLst/>
            </a:prstGeom>
            <a:solidFill>
              <a:srgbClr val="b3ea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</a:rPr>
                <a:t>Ontwerp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10"/>
            <p:cNvSpPr/>
            <p:nvPr/>
          </p:nvSpPr>
          <p:spPr>
            <a:xfrm>
              <a:off x="4642920" y="1916280"/>
              <a:ext cx="2157120" cy="4388400"/>
            </a:xfrm>
            <a:prstGeom prst="rect">
              <a:avLst/>
            </a:prstGeom>
            <a:solidFill>
              <a:srgbClr val="77d9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</a:rPr>
                <a:t>Voorbereid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Rectangle 10"/>
          <p:cNvSpPr/>
          <p:nvPr/>
        </p:nvSpPr>
        <p:spPr>
          <a:xfrm>
            <a:off x="6300720" y="1916280"/>
            <a:ext cx="1366920" cy="43891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vo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kstvak 10"/>
          <p:cNvSpPr/>
          <p:nvPr/>
        </p:nvSpPr>
        <p:spPr>
          <a:xfrm>
            <a:off x="0" y="4365720"/>
            <a:ext cx="1692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oronderzo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pdracht-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erken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W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menwerkings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vereenkom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hthoek 12"/>
          <p:cNvSpPr/>
          <p:nvPr/>
        </p:nvSpPr>
        <p:spPr>
          <a:xfrm>
            <a:off x="2286000" y="2828880"/>
            <a:ext cx="430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kstvak 13"/>
          <p:cNvSpPr/>
          <p:nvPr/>
        </p:nvSpPr>
        <p:spPr>
          <a:xfrm>
            <a:off x="1619280" y="4365720"/>
            <a:ext cx="1440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n van Aanp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amma van eis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kstvak 15"/>
          <p:cNvSpPr/>
          <p:nvPr/>
        </p:nvSpPr>
        <p:spPr>
          <a:xfrm>
            <a:off x="3132000" y="4365720"/>
            <a:ext cx="151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totype Bouwtekening Scen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gitaal ontwerp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kstvak 17"/>
          <p:cNvSpPr/>
          <p:nvPr/>
        </p:nvSpPr>
        <p:spPr>
          <a:xfrm>
            <a:off x="4788000" y="4365720"/>
            <a:ext cx="1368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aaibo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koop materialen en hulpmiddel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ructies uitvoerend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kstvak 18"/>
          <p:cNvSpPr/>
          <p:nvPr/>
        </p:nvSpPr>
        <p:spPr>
          <a:xfrm>
            <a:off x="6443640" y="4437000"/>
            <a:ext cx="107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duct komt tot le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7596360" y="1916280"/>
            <a:ext cx="1368360" cy="4389120"/>
          </a:xfrm>
          <a:prstGeom prst="rect">
            <a:avLst/>
          </a:prstGeom>
          <a:solidFill>
            <a:srgbClr val="115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valu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kstvak 21"/>
          <p:cNvSpPr/>
          <p:nvPr/>
        </p:nvSpPr>
        <p:spPr>
          <a:xfrm>
            <a:off x="7596360" y="4437000"/>
            <a:ext cx="1368360" cy="1159560"/>
          </a:xfrm>
          <a:prstGeom prst="rect">
            <a:avLst/>
          </a:prstGeom>
          <a:solidFill>
            <a:srgbClr val="115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indversl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anbevelin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Naz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anpassin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kstvak 16"/>
          <p:cNvSpPr/>
          <p:nvPr/>
        </p:nvSpPr>
        <p:spPr>
          <a:xfrm>
            <a:off x="324000" y="2637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oorbereiding vergadering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86924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oel: beeldvormend, oordeelvormend, besluitvormen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atum en tijdstip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Plaat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: rollen en functie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genda opstel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Uitnodig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71280" y="90756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Projectrol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00000" y="1844280"/>
            <a:ext cx="6408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Projectleider: planning en taakverdel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zitter:  taakgericht en groepsgerich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otulist: uitvoerig en / of beknopt verslag, besluitenlijst en actie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: expertise, verantwoordelijkheid, motivatie en assertiviteit                                                                       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17228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Agenda</a:t>
            </a:r>
            <a:br>
              <a:rPr sz="3200"/>
            </a:b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332000" y="1557000"/>
            <a:ext cx="7627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pen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otulen van de vorige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ngekomen stuk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Mededeling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isselende agenda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.v.t.t.k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ondvraa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luit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31640" y="83628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Besluitvorming: BOMB-model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71280" y="2060280"/>
            <a:ext cx="81723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B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eldvorming: signaleren, analyseren, creatief denken, formuleren kernvragen en thema’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O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denen (voorzitter): samenvat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M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ningsvorming (discussie): argument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B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sluitvorming: kiezen (aan de hand van  criteria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Besluitvorming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258560" y="1915920"/>
            <a:ext cx="788508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ogelijkhe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eerderheidsbesluit &gt; 50% of &gt; 2/3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Unanimitei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Consensus (zoveel mogelijk overeenstemming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Eenmansbeslissing (veto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Aandachtspunten notuler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31640" y="1989000"/>
            <a:ext cx="7196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Tijdens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uisteren / not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fkor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structur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Na de vergadering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uitwerken met aandacht voor: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electi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rden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taalhant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Basisgegevens notu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ocatie besprek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gintijd en datum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aanwezigen + functie in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afwezigen m.k. en z.k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nderwerp bespreking (kan algemeen zijn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Uitwerking notu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asisgegevens bovenaa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sprekers onderstrep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houd volgorde van de agenda aa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kopjes boven/ witregels tussen de onderde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oed Nederlands: geen telegramstijl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tegenwoordige tij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ergadertyp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rappenmak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zwijg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rijder van stokpaardj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jdeltui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ngsthaa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cht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meelop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obbyis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arhoof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15640" y="11966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Programma projectmatig werk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36480" y="2349360"/>
            <a:ext cx="8507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Groep of team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arshmallow challeng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Proces – Inhoud – Procedur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Taakgericht en relatiegerich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Projectfas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Functionele rollen en documen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SMART-doe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Specifiek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at ga ik precies doen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eetbaa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anneer heb ik het goed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gedaan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Acceptabel / aanwijsbaa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ie is / zijn daarvoo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(mede)verantwoordelijk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Realistisch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haalbaar? Anders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bijstellen!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Tijdgebonden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eindtijd waarop het doel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behaald moet zijn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oorbeeld SMART-doel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66560" y="1844640"/>
            <a:ext cx="63738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</a:t>
            </a: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Ik zorg dat na iedere vergadering op dinsdag de uitgewerkte notulen uiterlijk woensdag17:00 uur via Dropbox voor alle teamleden beschikbaar zijn. 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Dit doe ik volgens ons format met een  bijbehorende besluiten- en actiepuntenlijst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58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Taken voorzitter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bereiden van de besprek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rgadering openen en slui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ntroduceren agenda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genda bewaken en de tijd in de gaten hou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 stimul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zorgen dat iedereen aan bod kom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tructuur en sfeer bewa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egelmatig samenvatten en conclusies trek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sluitvorming begelei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temmingen lei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rgaderprocedures hanteren en bewa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middelen bij conflicten en meningsverschil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voettekst 1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kstvak 2"/>
          <p:cNvSpPr/>
          <p:nvPr/>
        </p:nvSpPr>
        <p:spPr>
          <a:xfrm>
            <a:off x="900000" y="1773360"/>
            <a:ext cx="68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eerdoele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ent het verschil tussen een groep en een te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begrijpt hoe het proces en de procedure de inhoud beïnvloeden bij het samenwer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ent de fases van projectmatig wer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unt samen met je teamleden een samenwerkingsovereenkomst (SWO) en een Plan van aanpak (PVA) opstellen (aan de hand van forma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weet wat de rol van voorzitter, notulist en deelnemer vooraf, tijdens en na een vergadering inhoud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bent je bewust van het verschil tussen taakgericht en procesgericht vergade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unt een agenda en notulen met besluitenlijst ma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ziet de noodzaak van SMART-doelen formule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ijdelijke aanduiding voor voettekst 1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kstvak 2"/>
          <p:cNvSpPr/>
          <p:nvPr/>
        </p:nvSpPr>
        <p:spPr>
          <a:xfrm>
            <a:off x="611280" y="981000"/>
            <a:ext cx="78483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ET SC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ls groep gaan jullie een schip ontwerpen en tekenen. De tekening moet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groep voorstellen en weerge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hoe de groep samenwerk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aar ze vandaan komt en waar ze naartoe ga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hoe de rollen over de bemanning zijn verdeel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De groep als geheel is het schip; de deelnemers zijn de bemann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Ontwerp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ongeveer 10 minute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Bespreek eerst met elkaar het ontwerp, ga nog niet teken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eken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ongeveer 30 minute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aak een tekening van het schip. Bespreek de taakverdeling aan boord 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verdeel de functies onder de aanwezigen. Het is niet de bedoeling d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groepsleden functies gaan del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ogelijke functies zijn: scheepseigenaar, kapitein, eerste en twee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stuurman, scheepsarts, scheepsdominee, bootsman, eerste machinis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arconist, scheepstimmerman, zeilmaker, kok, koksmaatje, matrozen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ketelbinkie, verstekeling, drenkeling, scheepskat, boegbeeld, zeemeeuw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lbatr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Presentatie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maximaal 5 minuten per groe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lke groep presenteert het eindresultaat. Aansluitend evaluatie (aan de h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van opnames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2000" y="887040"/>
            <a:ext cx="720720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Groep of team?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1915920"/>
            <a:ext cx="8229600" cy="39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Groep = mensen ie samenwerken.</a:t>
            </a:r>
            <a:endParaRPr b="0" lang="en-US" sz="26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Team = elkaar aanvullen met competenties zodat synergie ontstaat.</a:t>
            </a:r>
            <a:endParaRPr b="0" lang="en-US" sz="26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8900" spc="-1" strike="noStrike">
                <a:solidFill>
                  <a:srgbClr val="039ad6"/>
                </a:solidFill>
                <a:latin typeface="Arial"/>
              </a:rPr>
              <a:t>1  + 1 = 3</a:t>
            </a:r>
            <a:endParaRPr b="0" lang="en-US" sz="89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9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76000" y="887040"/>
            <a:ext cx="70628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De </a:t>
            </a:r>
            <a:r>
              <a:rPr b="1" i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marshmallow challenge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474747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40" name="Rechthoek 7"/>
          <p:cNvSpPr/>
          <p:nvPr/>
        </p:nvSpPr>
        <p:spPr>
          <a:xfrm>
            <a:off x="1403280" y="1844640"/>
            <a:ext cx="597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  <a:ea typeface="Arial"/>
              </a:rPr>
              <a:t>Bouw met vier personen in 18 minuten een zo hoog mogelijke stabiele toren van 20 sprieten spaghetti, een meter plakband en een meter touw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  <a:ea typeface="Arial"/>
              </a:rPr>
              <a:t>Bovenop de toren moet een marshmallow kunnen liggen, zonder dat de toren instor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pic>
        <p:nvPicPr>
          <p:cNvPr id="343" name="Picture 13" descr="figuur_06"/>
          <p:cNvPicPr/>
          <p:nvPr/>
        </p:nvPicPr>
        <p:blipFill>
          <a:blip r:embed="rId1"/>
          <a:stretch/>
        </p:blipFill>
        <p:spPr>
          <a:xfrm>
            <a:off x="1187280" y="765000"/>
            <a:ext cx="71568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Wat heeft een team nodig?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331640" y="1915920"/>
            <a:ext cx="8569080" cy="414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emeenschappelijk doel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Betrokkenheid op doel en op elkaa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Duidelijke rollen en verantwoordelijkhe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Heldere werkafspraken en procedure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Onderling vertrouwen en respec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16" descr="figuur_07"/>
          <p:cNvPicPr/>
          <p:nvPr/>
        </p:nvPicPr>
        <p:blipFill>
          <a:blip r:embed="rId1"/>
          <a:stretch/>
        </p:blipFill>
        <p:spPr>
          <a:xfrm>
            <a:off x="231840" y="1700280"/>
            <a:ext cx="86788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4T09:09:16Z</dcterms:created>
  <dc:creator>Brakkee</dc:creator>
  <dc:description/>
  <dc:language>en-US</dc:language>
  <cp:lastModifiedBy>Ingrid Buckx</cp:lastModifiedBy>
  <cp:lastPrinted>2009-09-28T07:25:02Z</cp:lastPrinted>
  <dcterms:modified xsi:type="dcterms:W3CDTF">2018-03-28T13:56:31Z</dcterms:modified>
  <cp:revision>165</cp:revision>
  <dc:subject/>
  <dc:title>Algemeen</dc:title>
</cp:coreProperties>
</file>