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6858000" y="6583320"/>
            <a:ext cx="2133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15"/>
          <p:cNvSpPr/>
          <p:nvPr/>
        </p:nvSpPr>
        <p:spPr>
          <a:xfrm>
            <a:off x="304920" y="6438960"/>
            <a:ext cx="426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UNICATIE HANDBO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396720" y="404640"/>
            <a:ext cx="8352000" cy="597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8"/>
          <p:cNvSpPr/>
          <p:nvPr/>
        </p:nvSpPr>
        <p:spPr>
          <a:xfrm>
            <a:off x="6156360" y="645336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© 2015  |  Noordhoff Uitgevers b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C:\Users\is4442\Desktop\K179\JPEG\4 Colour_INF_9789001863029_COMMUNICATIE HANDBK (CAMPUZ_TOM)_cPDF\26_1.jpg"/>
          <p:cNvPicPr/>
          <p:nvPr/>
        </p:nvPicPr>
        <p:blipFill>
          <a:blip r:embed="rId1"/>
          <a:stretch/>
        </p:blipFill>
        <p:spPr>
          <a:xfrm>
            <a:off x="798480" y="2009880"/>
            <a:ext cx="74502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is4442\Desktop\K179\JPEG\4 Colour_INF_9789001863029_COMMUNICATIE HANDBK (CAMPUZ_TOM)_cPDF\26_2.jpg"/>
          <p:cNvPicPr/>
          <p:nvPr/>
        </p:nvPicPr>
        <p:blipFill>
          <a:blip r:embed="rId1"/>
          <a:stretch/>
        </p:blipFill>
        <p:spPr>
          <a:xfrm>
            <a:off x="1174680" y="1571760"/>
            <a:ext cx="68738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is4442\Desktop\K179\JPEG\4 Colour_INF_9789001863029_COMMUNICATIE HANDBK (CAMPUZ_TOM)_cPDF\28_1.jpg"/>
          <p:cNvPicPr/>
          <p:nvPr/>
        </p:nvPicPr>
        <p:blipFill>
          <a:blip r:embed="rId1"/>
          <a:stretch/>
        </p:blipFill>
        <p:spPr>
          <a:xfrm>
            <a:off x="1042920" y="2209680"/>
            <a:ext cx="70898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is4442\Desktop\K179\JPEG\4 Colour_INF_9789001863029_COMMUNICATIE HANDBK (CAMPUZ_TOM)_cPDF\29_1.jpg"/>
          <p:cNvPicPr/>
          <p:nvPr/>
        </p:nvPicPr>
        <p:blipFill>
          <a:blip r:embed="rId1"/>
          <a:stretch/>
        </p:blipFill>
        <p:spPr>
          <a:xfrm>
            <a:off x="1309680" y="1890720"/>
            <a:ext cx="66610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is4442\Desktop\K179\JPEG\4 Colour_INF_9789001863029_COMMUNICATIE HANDBK (CAMPUZ_TOM)_cPDF\34_1.jpg"/>
          <p:cNvPicPr/>
          <p:nvPr/>
        </p:nvPicPr>
        <p:blipFill>
          <a:blip r:embed="rId1"/>
          <a:stretch/>
        </p:blipFill>
        <p:spPr>
          <a:xfrm>
            <a:off x="1069920" y="1297080"/>
            <a:ext cx="69026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9:09:11Z</dcterms:created>
  <dc:creator>PPMP</dc:creator>
  <dc:description/>
  <dc:language>en-US</dc:language>
  <cp:lastModifiedBy>Ingrid Buckx</cp:lastModifiedBy>
  <dcterms:modified xsi:type="dcterms:W3CDTF">2018-03-12T10:11:57Z</dcterms:modified>
  <cp:revision>182</cp:revision>
  <dc:subject/>
  <dc:title>PowerPoint Presentation</dc:title>
</cp:coreProperties>
</file>