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5840" y="-180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68400" y="747720"/>
            <a:ext cx="492120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584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3EBE-EFA9-4478-86C3-B905C43F49E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4378-A658-46FB-B691-9F8289DBA8C6}" type="slidenum">
              <a:rPr b="0" lang="nl-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2541-0270-4E5F-BE0A-77E9BB04DEAA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46C5-23A4-42DE-AC1D-F821187ED549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3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7A1F-CB27-4CF5-96B5-A23F9FCB4061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6.6 EML/ Zie paragraaf 7.2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 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isselende agendapunten: doornummeren en kopje geven in agenda en notulen dat de lading dek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anvulling bij bespreken wisselende agendapu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86F1-743B-4F1C-8FFB-AD1A81A43FCF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ook EML blz 93 cons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76FD-0848-4CEB-99C0-9F15768D895E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1C49-3A3C-4A44-B799-38FA5F86EB56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559A-9166-4788-A396-222CCDC01F99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9943-24DF-42F8-82A5-8D90BD8AC73F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 deze workshop ligt de nadruk op het stuctureren, de procedures van teamwe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404F-E352-4E20-A5E0-BC02F4E26AC0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2E1B-365C-49DC-AF05-8F241CA08A91}" type="slidenum">
              <a:rPr b="0" i="1" lang="en-GB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1.7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Leerdoelen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en paragraaf 5.2 over SMART-doelen in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94D2-D969-45AF-A2A6-5EBC4B1A34D7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4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. 6.1 en 6.2 E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797B-F995-4564-AE1F-5674F5B27A87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a beva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endragend plaatje. Alternatief: geef de link naar deze pagina, maar niet in de 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. 6.2 EML Wat zijn effectieve te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9952-AC23-40DC-9990-D618F1E43BA5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42DD-3569-475F-8DE2-635F822B0182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e paragraaf 6.6 EML en 7.4 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D0E-BE16-4DB4-8E3F-6C800E1A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084-CAB6-46DA-8CD0-D7257041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2E7-9D46-4FE7-B3DF-A369B7D9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948-FBA9-4433-8A6C-C919BDA0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8CDE-54C9-4940-8754-89E61D41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2F7D-5811-4E55-84EC-2EA3B7F3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9BEE-69ED-4E5F-930B-8C8191A7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AA51-5403-40E6-8FEA-FC07420E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39B4-1B52-428B-94A3-E29D694E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EF04-C92A-4E98-92E7-643BC15F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9A73-835E-425D-BBA7-F0DAE8AC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687-B5FD-4F7F-BC62-B7E78351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9746-07ED-48BB-9534-D33643E2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C2FB-214B-4057-886B-18A0B884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785F-014B-44A6-8E15-C580ACD1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E4FA-CC6B-4398-A753-9139213E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92A1-3647-4581-81C7-EC848D6D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B9C9-8191-4A33-B2E3-8DA60419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EC24C-FFB2-4D88-AC74-1AA4D9D9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DE0A3-9114-49CA-BBFB-1EA7A482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EA94-BA23-4827-8C40-71C597E4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0FE51-0FCC-4BB2-A01F-31FD9D10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BCC-2414-4E97-9599-0C0DA4F3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B291-031D-4E8F-AE38-376CA271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62F0A-9FF6-4AC2-A53E-15377E4B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2B1D8-E3DA-4110-BE80-1BE7EF21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11ACD-1F5C-493C-A7AC-E50E7F11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38F5-2C04-49B9-815A-312F76E8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8F7B-9D6C-4863-A298-4C21A762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5CA0B-0EEC-4CD7-8155-68D82BC3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27DB4-B584-4E57-8869-0131EF9F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F6A1D-FDE0-4DFF-9A0D-00E97B11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3ED05-E5C5-4508-86C1-592578AC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842-3482-4069-882A-E1CAE32B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F7BC3-3DD4-49FD-9C47-7ADF5338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A65CF-7A98-4E04-ACB6-480DEFFA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16104-A805-44D4-9684-A8983CA1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9EB40-3DF3-4198-BBA8-6CE8F788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123CF-48E7-4837-8301-7DEEAEB4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A4365-4BB7-4A92-B9BB-E6064A53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691AB-0C6C-4B02-BF17-ADD564C6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350F5-474B-4FFB-A3D2-42E181EC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1C6DD-B863-40DF-9C2D-A236C32E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F4A54-E6A0-4299-8B4C-42AE88C5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762-19BF-45AD-A5D1-EDE6FF2B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9B5C1-CF34-43F3-B5BA-F7A612BB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5C539-C0E2-4696-80D8-70D52C74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76534-E09F-41BA-84F2-F180B4AA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668CA-CCA3-4137-8383-DD0FA354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4EBFF-CADA-44F1-9915-3204A46A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15243-7F90-4057-AF43-E8D1F4A8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6F398-D2D9-4EB2-9437-1C8FAD56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BBACA-4637-449B-A841-0708FB2A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99021-0C48-4927-9B55-F831E6D0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3E7A7-E24A-4637-9949-98AD977E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479-528D-4CBF-AAB8-9F712FAC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84C68-3500-4C30-9D4C-78681C33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51CED-206D-4EFE-B55E-1C1D3306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6FA2E-9667-4F63-9DC9-17CA831B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A9AD7-D5A0-41AE-B0A6-79F17429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04FEF-E574-47E3-AEE4-7171B5D7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09232-A156-45E5-AE1A-0550487F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6C0E3-E714-43DD-8E01-D1E3777C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EAFC5-8575-41CB-9310-78068DBD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A3EBD-B573-46D9-8DD1-598BC26C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CA951-DEE2-4EE6-B20B-432DF004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917-8871-4F18-BEC7-B71D0A44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D2BE9-1B4A-4DE6-900B-559D952B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40165-BD93-4624-85B1-AC0344C7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D7DF9-CC83-481C-9016-099EC472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1955C-1B2A-406F-B362-E4970041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037B3-7C32-4C13-9B6F-AF2B889A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A1D9B-68F1-4E24-B994-423B7F0E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D5F97-4DDB-4B77-861E-4A1D2CA4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F4EDF-2548-426A-BBA7-C14587AA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31365-C7F6-40F1-8154-59633CC8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4C958-CBEF-48F2-9289-4E8AE5AF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6B4-0F1C-4600-91A2-47DDF769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A12ED-618D-4CD2-BBF8-8B9E1BDB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935AA-99C0-493A-BFF8-6EBEC4E7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03B08-2708-4366-832C-529AFAFD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0874F-CA7E-4F3D-AE66-12439397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0080B-995A-4E3C-8FC8-4DE2D65A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62C-CBE5-4085-B3A3-3DBF885B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6560" y="195228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6920" y="2852640"/>
            <a:ext cx="7294320" cy="316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0200" y="6400440"/>
            <a:ext cx="16765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EEAC-52AF-4C11-966E-63B315B3683C}" type="datetime">
              <a:rPr b="0" lang="nl-NL" sz="10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7680" y="6095520"/>
            <a:ext cx="190332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2012 Noordhoff Uitgevers b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5160" y="6246720"/>
            <a:ext cx="38124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8C4E-0276-4AD1-93B9-C230295C85AF}" type="slidenum">
              <a:rPr b="0" lang="nl-NL" sz="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39ad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39ad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39ad6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39ad6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47474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47474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160" y="64767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158E-E50F-455F-A042-28241FD9677B}" type="datetime">
              <a:rPr b="0" lang="nl-NL" sz="7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33160" y="62481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7320" y="624816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C675-3E78-44B0-8DD1-505210E62F37}" type="slidenum">
              <a:rPr b="0" lang="nl-NL" sz="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6379-4F00-4451-AB10-8612AB531859}" type="datetime">
              <a:rPr b="0" lang="en-GB" sz="1200" spc="-1" strike="noStrike">
                <a:solidFill>
                  <a:srgbClr val="045c75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15C7-623C-4A1A-AD43-6A68C04AA8C6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3DB0-B51F-47A5-9E8B-DA6E1F09DAD2}" type="datetime">
              <a:rPr b="0" lang="nl-NL" sz="1200" spc="-1" strike="noStrike">
                <a:solidFill>
                  <a:srgbClr val="045c75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C172-F6BE-4BC8-9472-E3A5657DAEE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A113-C71B-4DE0-8501-A30FE6FFE935}" type="datetime">
              <a:rPr b="0" lang="nl-NL" sz="1200" spc="-1" strike="noStrike">
                <a:solidFill>
                  <a:srgbClr val="d1eaee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06E4-993C-47B2-96B1-F340F6770260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4EF3-0D66-46E8-A73D-889E17C16299}" type="datetime">
              <a:rPr b="0" lang="nl-NL" sz="1200" spc="-1" strike="noStrike">
                <a:solidFill>
                  <a:srgbClr val="d1eaee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0178-06B2-4445-BCE9-48579D2FA1A2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D120-9E58-4B86-8916-0DA082608C31}" type="datetime">
              <a:rPr b="0" lang="nl-NL" sz="1200" spc="-1" strike="noStrike">
                <a:solidFill>
                  <a:srgbClr val="045c75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CFAD-3B58-44F9-AF57-107101747DFE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01840" y="3645000"/>
            <a:ext cx="6021360" cy="1295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Calibri"/>
              </a:rPr>
              <a:t>Effectief en motiverend leidinggeven 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nl-NL" sz="3600" spc="-1" strike="noStrike">
                <a:solidFill>
                  <a:srgbClr val="ffffff"/>
                </a:solidFill>
                <a:latin typeface="Calibri"/>
              </a:rPr>
              <a:t>Projectmatig werk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301840" y="5127480"/>
            <a:ext cx="6021360" cy="935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ijdelijke aanduiding voor voettekst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rojectfase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179280" y="1916280"/>
            <a:ext cx="6620760" cy="4388400"/>
            <a:chOff x="179280" y="1916280"/>
            <a:chExt cx="6620760" cy="4388400"/>
          </a:xfrm>
        </p:grpSpPr>
        <p:sp>
          <p:nvSpPr>
            <p:cNvPr id="352" name="Rectangle 7"/>
            <p:cNvSpPr/>
            <p:nvPr/>
          </p:nvSpPr>
          <p:spPr>
            <a:xfrm>
              <a:off x="179280" y="1916280"/>
              <a:ext cx="1872720" cy="438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nitiatie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1585440" y="1916280"/>
              <a:ext cx="2157120" cy="4388400"/>
            </a:xfrm>
            <a:prstGeom prst="rect">
              <a:avLst/>
            </a:prstGeom>
            <a:solidFill>
              <a:srgbClr val="dbf5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efinitie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9"/>
            <p:cNvSpPr/>
            <p:nvPr/>
          </p:nvSpPr>
          <p:spPr>
            <a:xfrm>
              <a:off x="3094920" y="1916280"/>
              <a:ext cx="1943640" cy="4388400"/>
            </a:xfrm>
            <a:prstGeom prst="rect">
              <a:avLst/>
            </a:prstGeom>
            <a:solidFill>
              <a:srgbClr val="b3ea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</a:rPr>
                <a:t>Ontwerp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10"/>
            <p:cNvSpPr/>
            <p:nvPr/>
          </p:nvSpPr>
          <p:spPr>
            <a:xfrm>
              <a:off x="4642920" y="1916280"/>
              <a:ext cx="2157120" cy="4388400"/>
            </a:xfrm>
            <a:prstGeom prst="rect">
              <a:avLst/>
            </a:prstGeom>
            <a:solidFill>
              <a:srgbClr val="77d9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</a:rPr>
                <a:t>Voorbereid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Rectangle 10"/>
          <p:cNvSpPr/>
          <p:nvPr/>
        </p:nvSpPr>
        <p:spPr>
          <a:xfrm>
            <a:off x="6300720" y="1916280"/>
            <a:ext cx="1366920" cy="43891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vo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kstvak 10"/>
          <p:cNvSpPr/>
          <p:nvPr/>
        </p:nvSpPr>
        <p:spPr>
          <a:xfrm>
            <a:off x="0" y="4365720"/>
            <a:ext cx="169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oronderzo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dracht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erken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W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menwerking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vereenkom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hthoek 12"/>
          <p:cNvSpPr/>
          <p:nvPr/>
        </p:nvSpPr>
        <p:spPr>
          <a:xfrm>
            <a:off x="2286000" y="2828880"/>
            <a:ext cx="430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kstvak 13"/>
          <p:cNvSpPr/>
          <p:nvPr/>
        </p:nvSpPr>
        <p:spPr>
          <a:xfrm>
            <a:off x="1619280" y="4365720"/>
            <a:ext cx="1440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n van Aanp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a van eis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kstvak 15"/>
          <p:cNvSpPr/>
          <p:nvPr/>
        </p:nvSpPr>
        <p:spPr>
          <a:xfrm>
            <a:off x="3132000" y="4365720"/>
            <a:ext cx="151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totype Bouwtekening Scen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gitaal ontwerp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kstvak 17"/>
          <p:cNvSpPr/>
          <p:nvPr/>
        </p:nvSpPr>
        <p:spPr>
          <a:xfrm>
            <a:off x="4788000" y="4365720"/>
            <a:ext cx="136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aaibo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koop materialen en hulpmiddel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ructies uitvoerend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kstvak 18"/>
          <p:cNvSpPr/>
          <p:nvPr/>
        </p:nvSpPr>
        <p:spPr>
          <a:xfrm>
            <a:off x="6443640" y="4437000"/>
            <a:ext cx="10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duct komt tot le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7596360" y="1916280"/>
            <a:ext cx="1368360" cy="4389120"/>
          </a:xfrm>
          <a:prstGeom prst="rect">
            <a:avLst/>
          </a:prstGeom>
          <a:solidFill>
            <a:srgbClr val="115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valu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kstvak 21"/>
          <p:cNvSpPr/>
          <p:nvPr/>
        </p:nvSpPr>
        <p:spPr>
          <a:xfrm>
            <a:off x="7596360" y="4437000"/>
            <a:ext cx="1368360" cy="1159560"/>
          </a:xfrm>
          <a:prstGeom prst="rect">
            <a:avLst/>
          </a:prstGeom>
          <a:solidFill>
            <a:srgbClr val="115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indversl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anbevel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Naz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anpass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kstvak 16"/>
          <p:cNvSpPr/>
          <p:nvPr/>
        </p:nvSpPr>
        <p:spPr>
          <a:xfrm>
            <a:off x="324000" y="2637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oorbereiding vergadering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86924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oel: beeldvormend, oordeelvormend, besluitvormen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atum en tijdstip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Plaat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: rollen en functie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genda opstel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Uitnodig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71280" y="90756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Projectrol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00000" y="1844280"/>
            <a:ext cx="6408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Projectleider: planning en taakverdel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zitter:  taakgericht en groepsgerich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otulist: uitvoerig en / of beknopt verslag, besluitenlijst en actie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: expertise, verantwoordelijkheid, motivatie en assertiviteit                                                                       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17228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Agenda</a:t>
            </a:r>
            <a:br>
              <a:rPr sz="3200"/>
            </a:b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332000" y="1557000"/>
            <a:ext cx="7627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pen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otulen van de vorige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ngekomen stuk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Mededeling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isselende agenda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.v.t.t.k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ondvraa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luit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31640" y="83628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Besluitvorming: BOMB-model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280" y="2060280"/>
            <a:ext cx="81723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B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eldvorming: signaleren, analyseren, creatief denken, formuleren kernvragen en thema’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O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denen (voorzitter): samenvat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M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ningsvorming (discussie): argument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B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sluitvorming: kiezen (aan de hand van  criteria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Besluitvorming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258560" y="1915920"/>
            <a:ext cx="788508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ogelijkhe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eerderheidsbesluit &gt; 50% of &gt; 2/3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Unanimitei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Consensus (zoveel mogelijk overeenstemming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Eenmansbeslissing (veto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Aandachtspunten notuler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31640" y="1989000"/>
            <a:ext cx="7196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Tijdens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uisteren / not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fkor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structur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Na de vergadering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uitwerken met aandacht voor: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electi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rden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taalhant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Basisgegevens notu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ocatie besprek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gintijd en datum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aanwezigen + functie in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afwezigen m.k. en z.k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nderwerp bespreking (kan algemeen zijn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Uitwerking notu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asisgegevens bovenaa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sprekers onderstrep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houd volgorde van de agenda aa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kopjes boven/ witregels tussen de onderde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oed Nederlands: geen telegramstijl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tegenwoordige tij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ergadertyp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rappenmak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zwijg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rijder van stokpaardj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jdeltui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ngsthaa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cht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meelop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obbyis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arhoof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15640" y="11966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Programma projectmatig werk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36480" y="2349360"/>
            <a:ext cx="8507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Groep of team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arshmallow challeng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Proces – Inhoud – Procedur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Taakgericht en relatiegerich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Projectfas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Functionele rollen en documen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SMART-doe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Specifiek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at ga ik precies doen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eetbaa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anneer heb ik het goed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gedaan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Acceptabel / aanwijsbaa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ie is / zijn daarvoo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(mede)verantwoordelijk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Realistisch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haalbaar? Anders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bijstellen!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Tijdgebonden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eindtijd waarop het doel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behaald moet zijn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oorbeeld SMART-doel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66560" y="1844640"/>
            <a:ext cx="63738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</a:t>
            </a: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Ik zorg dat na iedere vergadering op dinsdag de uitgewerkte notulen uiterlijk woensdag17:00 uur via Dropbox voor alle teamleden beschikbaar zijn. 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Dit doe ik volgens ons format met een  bijbehorende besluiten- en actiepuntenlijst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Taken voorzitter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bereiden van de besprek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rgadering openen en slui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ntroduceren agenda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genda bewaken en de tijd in de gaten hou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 stimul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zorgen dat iedereen aan bod kom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tructuur en sfeer bewa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egelmatig samenvatten en conclusies trek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sluitvorming begelei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temmingen lei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rgaderprocedures hanteren en bewa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middelen bij conflicten en meningsverschil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voettekst 1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kstvak 2"/>
          <p:cNvSpPr/>
          <p:nvPr/>
        </p:nvSpPr>
        <p:spPr>
          <a:xfrm>
            <a:off x="900000" y="1773360"/>
            <a:ext cx="68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eerdoel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ent het verschil tussen een groep en een te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begrijpt hoe het proces en de procedure de inhoud beïnvloeden bij het samenwer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ent de fases van projectmatig wer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unt samen met je teamleden een samenwerkingsovereenkomst (SWO) en een Plan van aanpak (PVA) opstellen (aan de hand van forma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weet wat de rol van voorzitter, notulist en deelnemer vooraf, tijdens en na een vergadering inhoud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bent je bewust van het verschil tussen taakgericht en procesgericht vergade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unt een agenda en notulen met besluitenlijst ma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ziet de noodzaak van SMART-doelen formule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ijdelijke aanduiding voor voettekst 1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kstvak 2"/>
          <p:cNvSpPr/>
          <p:nvPr/>
        </p:nvSpPr>
        <p:spPr>
          <a:xfrm>
            <a:off x="611280" y="981000"/>
            <a:ext cx="78483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T SC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ls groep gaan jullie een schip ontwerpen en tekenen. De tekening moet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groep voorstellen en weerge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hoe de groep samenwerk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ar ze vandaan komt en waar ze naartoe ga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hoe de rollen over de bemanning zijn verdeel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De groep als geheel is het schip; de deelnemers zijn de bemann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Ontwerp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ongeveer 10 minute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Bespreek eerst met elkaar het ontwerp, ga nog niet teken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eken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ongeveer 30 minute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aak een tekening van het schip. Bespreek de taakverdeling aan boord 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verdeel de functies onder de aanwezigen. Het is niet de bedoeling d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groepsleden functies gaan del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ogelijke functies zijn: scheepseigenaar, kapitein, eerste en twee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stuurman, scheepsarts, scheepsdominee, bootsman, eerste machinis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arconist, scheepstimmerman, zeilmaker, kok, koksmaatje, matrozen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ketelbinkie, verstekeling, drenkeling, scheepskat, boegbeeld, zeemeeuw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lbatr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Presentatie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maximaal 5 minuten per groe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lke groep presenteert het eindresultaat. Aansluitend evaluatie (aan de h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van opname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2000" y="887040"/>
            <a:ext cx="72072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Groep of team?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915920"/>
            <a:ext cx="8229600" cy="39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Groep = mensen ie samenwerken.</a:t>
            </a:r>
            <a:endParaRPr b="0" lang="en-US" sz="26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Team = elkaar aanvullen met competenties zodat synergie ontstaat.</a:t>
            </a:r>
            <a:endParaRPr b="0" lang="en-US" sz="26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8900" spc="-1" strike="noStrike">
                <a:solidFill>
                  <a:srgbClr val="039ad6"/>
                </a:solidFill>
                <a:latin typeface="Arial"/>
              </a:rPr>
              <a:t>1  + 1 = 3</a:t>
            </a:r>
            <a:endParaRPr b="0" lang="en-US" sz="89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9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76000" y="887040"/>
            <a:ext cx="70628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De </a:t>
            </a:r>
            <a:r>
              <a:rPr b="1" i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marshmallow challenge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474747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40" name="Rechthoek 7"/>
          <p:cNvSpPr/>
          <p:nvPr/>
        </p:nvSpPr>
        <p:spPr>
          <a:xfrm>
            <a:off x="1403280" y="1844640"/>
            <a:ext cx="59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  <a:ea typeface="Arial"/>
              </a:rPr>
              <a:t>Bouw met vier personen in 18 minuten een zo hoog mogelijke stabiele toren van 20 sprieten spaghetti, een meter plakband en een meter touw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  <a:ea typeface="Arial"/>
              </a:rPr>
              <a:t>Bovenop de toren moet een marshmallow kunnen liggen, zonder dat de toren instor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pic>
        <p:nvPicPr>
          <p:cNvPr id="343" name="Picture 13" descr="figuur_06"/>
          <p:cNvPicPr/>
          <p:nvPr/>
        </p:nvPicPr>
        <p:blipFill>
          <a:blip r:embed="rId1"/>
          <a:stretch/>
        </p:blipFill>
        <p:spPr>
          <a:xfrm>
            <a:off x="1187280" y="765000"/>
            <a:ext cx="71568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Wat heeft een team nodig?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331640" y="1915920"/>
            <a:ext cx="8569080" cy="414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emeenschappelijk doel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Betrokkenheid op doel en op elkaa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Duidelijke rollen en verantwoordelijkhe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Heldere werkafspraken en procedure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Onderling vertrouwen en respec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16" descr="figuur_07"/>
          <p:cNvPicPr/>
          <p:nvPr/>
        </p:nvPicPr>
        <p:blipFill>
          <a:blip r:embed="rId1"/>
          <a:stretch/>
        </p:blipFill>
        <p:spPr>
          <a:xfrm>
            <a:off x="231840" y="1700280"/>
            <a:ext cx="86788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4T09:09:16Z</dcterms:created>
  <dc:creator>Brakkee</dc:creator>
  <dc:description/>
  <dc:language>en-US</dc:language>
  <cp:lastModifiedBy>Ingrid Buckx</cp:lastModifiedBy>
  <cp:lastPrinted>2009-09-28T07:25:02Z</cp:lastPrinted>
  <dcterms:modified xsi:type="dcterms:W3CDTF">2018-03-28T13:56:31Z</dcterms:modified>
  <cp:revision>165</cp:revision>
  <dc:subject/>
  <dc:title>Algemeen</dc:title>
</cp:coreProperties>
</file>