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4D5-C1A5-4B84-ABD3-4E4BF142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394-B710-4373-82C1-3A4BDDFE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479CC-C68B-4608-ABFE-710E140B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FF9C4-6A7E-4061-B994-E3D5E003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4B179-2C3C-46D9-B6AD-4B49D937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81BB8-90CA-4DBD-9377-E227A25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A793A-0BF7-452D-A1B7-F70053AD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450B0-7533-4638-851B-1C9FCE2F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A9F83-4DCF-4F0A-A5CE-24ED68B3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68BA8-3B43-4B10-9674-902ED678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09DE4-B103-42C3-A488-A026279E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A8D72-ADFC-423A-81B4-7FB32D0A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DE2-5B28-48A2-BF96-C49C9C7B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9F916-4410-440E-AFA5-5E59E36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5FF9F-69CC-42B2-A86B-E90EC987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651F4-1582-416E-BAD8-E537A88C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22DB9-18AC-49C4-9205-C2C628FE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DB6E3-4702-4550-A148-91CAE5F0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D8744-3FAC-4DE5-97DD-EA79DBC9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3C34E-B7D5-40D0-A5AA-00D14C1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F9671-DC3B-4B62-9064-3199C34F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67308-FEC8-484E-9F47-3E925094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407AF-D7C5-4636-947F-B0C61683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A91-B2BE-492F-A058-A847E1F4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E6804-5E04-45D6-A8F1-EBFB949F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DB06A-B560-493E-B79A-34EDFABA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1F9A8-DC0A-4259-950E-5156A69D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68461-3E1D-4E84-A911-45255E19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259FA-0D98-4D86-AB61-54FA2D73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2F7B2-84E1-444A-93D9-CE57DF7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2758E-C0D0-441F-B9D5-99B60DDD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A6F03-DFDF-4825-B560-05DCD0B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28D8-5B14-46F4-B6B8-B6B52474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031FF-2335-4D21-B412-F3B46B7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7E40-FD0E-43E5-B13B-E4DC95E3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3FA07-82E1-4820-8F48-C92E4E1E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78F32-A82F-48F2-99F9-8AB3B0A8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A4916-639D-4E9F-AA6C-82537095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8E6C-DBCE-41F9-8115-E42FDF7F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3213-3CAA-4A7F-A199-F50B68AB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8AD6-93C6-475B-955C-C18BCE68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D4E9-40C3-4752-8137-07A97FF2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90F4-C1BB-4AF9-BEED-CDDFE648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57A7-B569-4D8D-A088-BD97A20C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2CA-6A7E-42C2-8D1D-85025B60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6E1E-E12B-4711-84D9-BBD5434F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7123-090F-4FD2-B666-26D2486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DFEC-FBAE-4A3B-84BC-9840EE80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E8AB-81F3-4C98-8550-C26508DD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53AD-F4AB-43A5-8C33-ECDE8461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EC9A-24B9-4470-ACA2-581A49F9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5128-8AD6-4CD8-B71F-2CCACC1F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B9A2-7ABB-4595-A17E-CE26B9CF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7BCB-F683-4FD9-A173-6F37CC1E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B90C-D106-4B68-BD29-63902B2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6F3-9E8B-4421-8E56-EE78FBC7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2789-1262-4415-9222-D7FFC16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046F-2445-481A-BEFE-F24EDBC1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C076-94C4-4CE8-BE0B-A95D2985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4424-1D72-4024-ADA3-15DA68DC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3149-0460-43C5-AE56-E60839CB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3FEA-496D-4F0D-AE45-93DE4C23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8E55-F4ED-4D6F-825D-66C83D2E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06365-DDD4-49BF-9AF0-26F6FB73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B11A-E964-46D0-A1F7-F629D94D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18FC-A838-4C1D-AE74-C838B4E3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D15-2B9B-4BDE-B614-1B621DC9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ECF0-EABC-4B4F-97B8-FE8173E0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2FD70-6E34-4478-868D-06095369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70497-2F39-486C-B509-1592B9C2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75DCD-8421-46A2-9418-C94DCB38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7E2BD-EEB1-44E5-8429-75BB98A0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ADD0-3649-4267-B02E-75DBDED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73CB-33B0-4ADC-B5A1-4B8C8BF7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4132-429A-4295-9D46-904FD3CB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5AB1C-5288-4AD7-A438-8C8EC6A0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5171-792B-4F3C-88F5-F809BF4A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90B-81C1-4596-87A0-6224D6D4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75C6-FF4B-4965-8DCB-B6251C4D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1F1A-1FAD-4637-AF97-3FF646C7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36C0-2513-491E-A884-2C9EF576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CB4FE-6984-43F7-8A94-AB0D340D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6F5A-5903-4F20-802A-B5F53765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40CD9-2D9E-4CDD-84A4-CDF67726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CEE7-DBA9-410E-8A38-67CF1B9E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3F5E4-48EF-4D2B-B8A6-7A5D33E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16806-5B14-4925-88FA-75882791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F98E5-C6A8-47D7-AF12-F17FAD1E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152-5370-4D70-91D2-5B89A6AC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9050-21B5-456A-A597-16F556D2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E92D7-CF02-4B1A-94B2-523E0AF2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E74B7-E4B7-48C6-A8A1-656E4243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364CE-2DF8-4AF5-896C-8601A5B1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92A2-E55C-42F5-B12B-AE48DCEC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9CD0C-4517-41B5-9E10-D46610ED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49994-6E64-4C14-A0D3-2BED1E30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E328-54E1-4B4C-8828-500ACCB4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1924D-B2E0-457C-BF18-8CD0FA74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B45CB-C052-4F65-A887-E344C80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DBF-F06B-4E6C-B6AC-29A6702B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5A1E4-EC5B-4929-B285-DDAB851C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3673A-0D9A-4ACF-B2FE-B5F19EB6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6CBD3-039E-4A17-865A-BA67BC58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DD555-1397-4B2D-8A59-E090F097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A215-C554-42B9-8E19-2EA4E9E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2C2AA-8FA7-4239-AE8E-CB16C12E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5542B-9490-4DE9-B353-EAEB9C06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F60D-4E34-473C-87F0-78916DBC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75A5-800B-400E-B5B9-91CBFFAC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4C412-64BA-429A-AAC6-4796F3B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4E2-86C1-4AB7-BCB3-965A7C2D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CA568-1E63-4615-AA93-D4C164FD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85FCD-CFF2-4860-BAB2-25D4C515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6E15-8E46-491F-AAF1-F04E2500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06A6E-67B9-48EA-BBB9-6864DE2B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8B07-E213-457E-8561-75764647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6034D-3FB2-4666-B617-0B5FADF2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2E9B-589D-482E-BF95-920CD4E3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8DD69-2344-441D-AE01-2D56BF5D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EED14-9C9B-40DB-9B5F-28FA9C0F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3439D-30CB-423C-95FD-CEA71688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CF4-A947-4137-9B0B-EC1B36D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5505E-F541-4CAB-923E-B66B7AA4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2799B-673C-4975-A575-1374201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67C5F-DC4F-4522-9EA4-8C3A5653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34BA-F657-469B-BF02-BC02105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ADD3F-4F28-4BE6-9F1C-F8D000D5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EB18C-337D-4DF2-B0D0-DEE5B68F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EFF7C-4235-41A3-8D7C-74CE0344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C248D-FC59-42FD-9C8F-A0B8541A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0B1AF-0B3F-47A3-AFFD-D7B67DE4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666F4-1882-4CAA-92DF-0D9393B5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B836-DF4A-4345-B9DA-3FC8740D9C8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48C4-395E-4049-970B-7EB2067985DD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70FA-F9D9-49D5-B614-E752233B5DC6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AD4F-BE8D-455B-8989-E4BB6F40EFC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FA94-7743-406D-9CCB-77F7783D80D7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42E3-BE1E-4B28-9307-ED9E56871AE1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49F0-256F-437A-BFB1-8B4997CC84D5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3C13-AA31-42D7-A642-3B07A893C158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5B57-3CA6-4D3A-975E-0E01037B800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D348-D592-46D9-835E-1E97602640F8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3A1D-CCE9-48AD-9B5C-BF46BBBCF63A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gemene ei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vloeren vlak zijn, maar niet g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er in de stall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dagli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nnen ko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voo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atuurlijke ventilati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ta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dat 33% van het vloeroppervlak dicht 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ventueel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angbaar strooise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bruiken, ruwvoer, moet al het stro biologisch zij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llen en installaties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choon mak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t water, stoom of reinigingsmiddel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. Het daglicht mag tot max. 16 uur per dag aanvullen met kunstli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8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uisvestingseisen voor runderen mbt het natuurlijke gedrag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564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38" hR="21600" stAng="10800000" swAng="5400000"/>
                <a:lnTo>
                  <a:pt x="11521" y="0"/>
                </a:lnTo>
                <a:arcTo wR="8638" hR="21600" stAng="-5400000" swAng="3429110"/>
                <a:lnTo>
                  <a:pt x="21326" y="16200"/>
                </a:lnTo>
                <a:lnTo>
                  <a:pt x="18718" y="21600"/>
                </a:lnTo>
                <a:lnTo>
                  <a:pt x="15561" y="16200"/>
                </a:lnTo>
                <a:lnTo>
                  <a:pt x="17002" y="16200"/>
                </a:lnTo>
                <a:arcTo wR="8638" hR="21600" stAng="-1970890" swAng="-3196779"/>
                <a:lnTo>
                  <a:pt x="10080" y="303"/>
                </a:lnTo>
                <a:arcTo wR="8638" hR="21600" stAng="-5632330" swAng="-5167670"/>
                <a:close/>
              </a:path>
              <a:path fill="darkenLess" w="21600" h="21600">
                <a:moveTo>
                  <a:pt x="0" y="21600"/>
                </a:moveTo>
                <a:arcTo wR="8638" hR="21600" stAng="10800000" swAng="5400000"/>
                <a:lnTo>
                  <a:pt x="8638" y="0"/>
                </a:lnTo>
                <a:arcTo wR="8638" hR="21600" stAng="-5400000" swAng="232330"/>
                <a:lnTo>
                  <a:pt x="10080" y="303"/>
                </a:lnTo>
                <a:arcTo wR="8638" hR="21600" stAng="-5632330" swAng="-51676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</a:t>
            </a:r>
            <a:r>
              <a:rPr b="0" lang="nl-NL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los lo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Regels vloeroppervlakt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Per zeug moet ten minste 2,25 m² zij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03280" y="155736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11280" y="1332000"/>
            <a:ext cx="663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Carolien Sengers</cp:lastModifiedBy>
  <dcterms:modified xsi:type="dcterms:W3CDTF">2018-02-19T11:00:24Z</dcterms:modified>
  <cp:revision>38</cp:revision>
  <dc:subject/>
  <dc:title>Varkens</dc:title>
</cp:coreProperties>
</file>