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A6A-FA96-4754-9CA7-7ED8E720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2ED-10A3-4C11-B53A-F93A705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555E8-EF8B-42FB-AF31-238C9D50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DC4DF-284D-4900-8CED-F3F00F0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3847F-529F-4F79-9E23-F9CBD6AC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D4E01-2E80-4E22-8FE8-58B41F6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993B0-8113-491C-921B-738DB65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22F55-9100-4C30-BC9F-6F694248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319FB-8517-4211-B7C9-BEF53ABB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87992-AA64-429F-B845-F44A509D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69A09-F621-4969-B38D-56D078FB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8FF42-19B9-410A-8B16-CE0CCAE6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168-2763-44EB-830A-E50424AE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87F14-A514-416C-B989-61EAA1E4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92B8D-CD74-4617-9428-87A81BB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16238-C080-4296-B99C-09AA6190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5EB63-F858-4160-B0E6-87A57CF6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78370-8DAF-43C0-BC29-378861C4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C993F-5F19-442B-83CA-1752B87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F63DC-34C8-45B2-ACF7-65542F5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D2995-6480-4052-99A3-9AA7C0D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D0D04-1397-448B-B2BB-62B30DA9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FE7E1-FC01-49EF-9AE0-16B97E0E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59B-57BF-4F8D-9332-99AB4D2E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6716C-289E-4AA3-BBB9-F0A023A0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B2768-45C8-4006-8773-00142DF4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0C3CD-ED99-4208-999D-1D7039B4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5AA91-E013-428D-8761-96EA6B3A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F2963-3865-4306-A840-16F4C8DB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35189-0518-4E66-B500-67E7D28C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592E8-B77D-4A98-9C9C-223C979F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51F27-B1F6-46FD-BE73-D035590C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4D0F4-6208-44B0-8C6F-7CC7983D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29C6A-9EF8-4892-B23F-D410479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8B08-C139-480F-B4A1-8E6ABA7D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B54D3-025F-4EF9-872A-7A92238D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2AABE-2427-4177-95D0-E1B91973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52ED1-73A4-4EEB-8D02-509FA172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5E2B-E8F0-47D8-8FB0-61DD7FB8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89E0-6A44-4094-93FD-BB4BD32A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4ADA-7FFA-4A72-A952-EB588148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9DFB-20AA-4719-93CB-04325CAD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F0EA-1CEF-41AA-A8A0-D9CBE5A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F921-0312-4C8B-A015-E0B0CB9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C25-578D-42C4-9006-C89C6533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8610-465E-49B2-A681-CE99606B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1860-BE58-40E2-B8D0-FD7C6A4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BBF9-4F2C-4618-9450-D378ECEF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BDBF-53AA-4277-B094-9C832CB4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6B08-4310-4546-811B-F11009C9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F459-98EA-447C-BDD4-6D9E9545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6FD7-4A2C-4B96-AA2C-20128F43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E669-132B-4247-BA62-27802A80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4372-577E-4520-94A6-5106D8D7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FA5A-2868-451D-8D3D-0865601F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EFD-6EAC-473A-9285-B50ED35C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5278-B0AA-41D4-AE8D-132E7A02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2F5E-1813-45FC-9496-252DE551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AD31-C572-488E-952E-E1E01F5E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0F49-1139-4B6F-9033-0480707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5D12D-2DA6-403B-9938-6B96A974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266B7-087F-4803-A5FA-5D4AD37F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E82A-CEC9-4B2D-AC15-B5DF4178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E6CD-23AD-44F1-AC1E-616B06AA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81B31-8087-4721-BB3A-8D44643D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8543-57CA-4B34-9362-1BC63291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4E7-3F99-4422-B3A7-6B4A1442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AF68-6188-413E-893B-A3DE1127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A02F-065B-46DB-903F-9208FEA7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3EFA-FDDD-475F-B690-1FF3459A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8209A-A67E-48E1-A0A7-67CB4012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C782-F19B-4BE2-B980-92ED62D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4487-4D44-4F77-B9EF-B7264EC0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7A400-57DE-44BE-A10F-CDA63DF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A974F-688C-4861-855E-62A5E217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3D233-5212-4CB8-A184-CB953941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4272-5831-4E94-8DA3-8A25FB82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B11-E02D-4281-A4C8-6FFA5081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D047D-0EF9-4500-B594-BF509695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F2A79-DD85-4444-A692-C51E532A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5026B-B4DC-421B-87E4-F8F75097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FC877-3509-4B84-B669-F2421D72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EA9C-6B9E-42E5-BF23-6826EF9C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D739-029A-4281-BA93-720131F7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2667E-23D3-46E2-8CD4-94053BF6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C240-1A19-4B56-B7D0-FFEB8370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5F36F-1B99-4693-9187-266DBF54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7783A-9EA9-4EF1-A631-0ED14EE5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B07-5090-45F3-967A-04DB7180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C1B4B-F83C-4AA1-862C-6BDD318D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E66AF-83BA-4E7B-934C-35A8CC69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5DB0D-3DE0-459D-87F2-BEAA8959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2108-AE14-4795-8AD7-BCC5EA9C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E701-585D-44FE-907B-7EE1F0E2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694A-4AED-4064-A7DD-549CF4FF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F37C-2A6C-4757-B8EC-CB0660D1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28BB9-98F3-4B73-9EC3-A85D9BE0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1D1F5-A8A2-4073-8A92-19C9BA5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F2787-B191-484E-AB27-889C2B25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B75-F863-4457-844E-58D181F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BBE21-714B-4E2A-82A0-640866B5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D0BDE-40F8-4BF5-9E78-C0056225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D0150-74B2-45C1-BE85-3FDADCB5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6D2B-4843-4D9E-AC37-96B89D06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59D81-37A9-4E41-A558-B2769B13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2A858-5601-48AA-8234-5D625594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55F52-A873-47D3-AC33-F92D83D4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34618-C4B3-45CB-B2B3-744474AF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C6DD2-BABA-461D-9665-DB86F4F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417B1-6238-4A99-B91B-46FE317D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290-CCCD-471D-AEFC-251DAFFA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7A17E-6EC4-4758-B802-F0CEBED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62A7-CD82-4CE2-870F-3E26769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181D-A9BE-4C43-8936-D58F1D65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3760F-9728-46B5-8165-4F99BC67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BEAB3-C77B-4A66-803E-01A3375D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E552F-855D-4C6B-99D2-3897CC8D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22A2B-F9B0-4518-AA19-4B6B5334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BCF91-42DB-4D99-B557-8F3732E5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6C10-C100-4A2D-BA80-49A4CF43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F96C1-4987-482A-ADD9-1C8A7B94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7F8-CDFC-4222-830E-E2C1605B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07A4F-8107-4F98-A22E-E83A566F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1354E-7D42-426D-945C-C2025BF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21606-6DF5-436E-BA20-3BA682A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6B173-3EB8-43EB-A82D-A358DC48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B14C9-6E15-4C38-BC1F-C63C5D36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A3BC8-9CA7-4036-9EB2-6D051C93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958C8-AD90-4922-B44C-CD9DF6ED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339EB-D103-4CBF-8B1F-88A4C794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05D07-F00E-4E70-97C3-08C0B021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D1D57-F4BF-48B1-AA7A-C318FE5C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51C6-B724-47D3-AE00-B16F3E049DB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6804-609A-4A20-A581-88B898333E15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C6E4-B1D6-4A42-876D-9217D9940ECC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41C-487E-4BE0-910D-7B3671C75DC5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E857-A4C5-4A38-BB0B-3FFBB00100B9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5E05-583D-4843-B529-48F5205D3BF7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7393-1921-4A7A-90ED-E8BB2768AF5E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347B-4455-4A5E-8C69-476A6361B8E0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16D7-4FD8-4554-866D-AC3F5FFE9527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B44-76C6-4094-8DD7-B4A3F86108F0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EB45-692F-4B24-A134-4662AF422774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gemene ei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vloeren vlak zijn, maar niet g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er in de stall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dagli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nnen ko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voo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atuurlijke ventilati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ta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dat 33% van het vloeroppervlak dicht 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ventueel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angbaar strooise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bruiken, ruwvoer, moet al het stro biologisch zij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llen en installaties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choon mak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t water, stoom of reinigingsmiddel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. Het daglicht mag tot max. 16 uur per dag aanvullen met kunstli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8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uisvestingseisen voor runderen mbt het natuurlijke gedrag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564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38" hR="21600" stAng="10800000" swAng="5400000"/>
                <a:lnTo>
                  <a:pt x="11521" y="0"/>
                </a:lnTo>
                <a:arcTo wR="8638" hR="21600" stAng="-5400000" swAng="3429110"/>
                <a:lnTo>
                  <a:pt x="21326" y="16200"/>
                </a:lnTo>
                <a:lnTo>
                  <a:pt x="18718" y="21600"/>
                </a:lnTo>
                <a:lnTo>
                  <a:pt x="15561" y="16200"/>
                </a:lnTo>
                <a:lnTo>
                  <a:pt x="17002" y="16200"/>
                </a:lnTo>
                <a:arcTo wR="8638" hR="21600" stAng="-1970890" swAng="-3196779"/>
                <a:lnTo>
                  <a:pt x="10080" y="303"/>
                </a:lnTo>
                <a:arcTo wR="8638" hR="21600" stAng="-5632330" swAng="-5167670"/>
                <a:close/>
              </a:path>
              <a:path fill="darkenLess" w="21600" h="21600">
                <a:moveTo>
                  <a:pt x="0" y="21600"/>
                </a:moveTo>
                <a:arcTo wR="8638" hR="21600" stAng="10800000" swAng="5400000"/>
                <a:lnTo>
                  <a:pt x="8638" y="0"/>
                </a:lnTo>
                <a:arcTo wR="8638" hR="21600" stAng="-5400000" swAng="232330"/>
                <a:lnTo>
                  <a:pt x="10080" y="303"/>
                </a:lnTo>
                <a:arcTo wR="8638" hR="21600" stAng="-5632330" swAng="-51676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</a:t>
            </a:r>
            <a:r>
              <a:rPr b="0" lang="nl-NL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los lo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Regels vloeroppervlakt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Per zeug moet ten minste 2,25 m² zij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03280" y="155736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11280" y="1332000"/>
            <a:ext cx="663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Carolien Sengers</cp:lastModifiedBy>
  <dcterms:modified xsi:type="dcterms:W3CDTF">2018-02-19T11:00:24Z</dcterms:modified>
  <cp:revision>38</cp:revision>
  <dc:subject/>
  <dc:title>Varkens</dc:title>
</cp:coreProperties>
</file>