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760-4580-4110-965E-01BEA29F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D58-9A46-4CD8-9006-692FCF96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0F0BF-FB7F-4282-BDEC-D8DF93DD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1091F-6B3B-4D59-BFFC-4229AA3A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5951C-15C0-4C97-BBB7-C148F73B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AFA8E-CE40-4B2A-84FC-CB256236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2432D-9748-4E9C-A157-1FE3E7BC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AA658-FC1E-48C6-BCCB-062A3824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C8D18-B6E6-4ABF-BB0F-C89D087B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DBCE9-80FA-410F-9C6F-03788BCD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706B1-6278-4FE5-AF7E-0DC7EE67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9C78D-759A-4620-8DD6-1A02E0E6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840-747A-4A94-A792-30F3A061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89ABB-18FA-42C2-A36E-AFC4434D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5A96F-CD44-4C6F-BFF0-4B80C8DB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EE183-BA2B-4C15-9BDC-9C6BD1A8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87503-3C18-47A5-8C13-75F48D70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20E90-FE04-429A-A987-84950A4F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21975-5C81-409D-870B-55D10FFF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63FEE-7EE2-4B14-AB60-9ADDE0D5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7900A-E17F-41C9-8BEA-409001C8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4BABC-D573-4071-834D-D0BEE55A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7A824-18F6-496B-827D-F3B76D8A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137-96C5-4EB1-9899-6226D47E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9C636-B89A-4391-8BE3-A29AB979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E72E5-24A0-4D63-BEEB-132EA94E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D0B77-3E38-4B89-AAA7-21B3C45A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CACF0-86D1-4F59-8490-EEAFB75B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A2E03-DE52-42C3-90E3-96329D42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3EE0E-5677-4840-83D4-7E356406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B461F-16F0-4F63-8823-75B5330C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9365B-70AE-4B76-B373-832CD4E9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DE3C5-13C5-466B-8776-3B6E0001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A88EC-4600-485C-ABE6-34BB1352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948D-79EB-43CF-A58B-4D33102A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04B69-F3D8-4A22-9EE6-9C201B38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DC853-0FA7-4912-B813-04890337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6A269-5D59-4BC9-A835-A4AFE2D8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FDAD-6BEA-41AC-A99E-3020CEA8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11D3-76AE-4DB4-B128-74E3DEAA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2F14-EDC0-44C2-A6CB-25D7229E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A3E9-1132-4D0D-881F-5212918D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D3D0-533D-4E43-A97C-F18B62CC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0C22-CBE2-4228-AADF-CABA51F4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0A1-17BE-4096-B052-662ABD7F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EF54-DBBD-44C2-89F3-9C56B86D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ADC0-7FA3-411B-AC5D-21D37D90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252A-75A9-40EF-BCCF-CDF97B83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F647-1C23-44B8-B32E-FF1D03E7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F0F9-EF84-4197-85D0-C7463611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F0C42-B3FA-4E7C-A752-5D25A784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C1F69-7B6E-428F-89BE-683AC0AB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F594F-05A8-45CF-91F1-6FFD0A5C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C28E4-4215-46C9-82BC-3771A51E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59F2E-D6C9-4A56-8B43-03576AC1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863-50DC-4445-865F-7BEDC89A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1FC4A-1F6D-4CC4-B6DB-A6C9B5A1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A38A2-DE4D-4DB5-8DBF-BDF7EB79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9E466-12CC-4E0A-883F-388726E5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F3E1-AFE9-4F1D-A2F5-23E8FF58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EF1D9-F63D-43A8-BBAE-4AC47FB0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8F4E-CCF8-4AC1-8326-C74D4364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E6066-4E46-4623-85F6-8D4B2E22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C1FBB-34C2-4F4B-8B15-55F118E6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D4324-143B-48C2-A64D-61A58F0B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1F21A-CA96-4BDC-8CCD-64AAC67B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71A9-2C74-4940-B10F-01C90AC4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7D3BC-9560-4AB4-9A68-C13F16B8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660F6-8E58-4EDF-9F44-7E931690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2D726-23A4-4946-8707-71A0AAE8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6D32B-D6FA-41FC-8589-BC26202A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93F91-32F0-4805-9EDC-00E2DF1A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4DB05-9D33-41F0-A406-86F17F9F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E0DF4-E2EC-4B19-B959-6F15EC66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8732C-8960-4661-B18D-4254A052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03CF1-C283-48ED-97F8-040BEEA2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D343F-0FCC-42D0-95D6-786EA63F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EDC-2B6E-485F-9EE8-D2F075D4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4FB3D-DE7D-43D3-93AD-FCA7C0A4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DCA64-C734-49B4-ABAB-3F6845CE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11C8F-9ED3-48B1-8609-7C5A5237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097B7-D5FA-4820-ACFA-4E2AEF3A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6EC3F-E724-4E05-95CE-71C53735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1AA49-9692-46A3-BEDD-7F1E7690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29FE9-F2AA-4318-A732-FA9C9ACD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E04FC-3620-4207-AE66-8EDBFBC5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7BB00-DB5A-49D4-9767-D429F0C3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3337E-5F2F-46E3-A6C3-D0E96C44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FAB-9A80-4E2A-8D85-EF1BD84C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7DEE0-720E-4707-B7FF-33B5919F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87B19-33C9-4D0F-914D-6712447D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5C7D3-9535-4B58-B8D3-F8A01FBB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F6753-EC60-4E51-97F7-ED7B81E2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E6611-EB1E-47CE-B248-014E41DC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DB15F-D560-451C-90AC-F9C26BD5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DBA16-CCF1-405D-9348-160E512F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CA16E-6547-4E94-BD3B-FC75F3E6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6DFB3-8330-4C63-88D0-196A3CBB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C6750-42B2-4D08-AF52-8361DB3C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0BD-B486-44E3-9202-1103E26D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358C3-3C17-4C36-B752-4AE1B134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19905-6977-4175-828F-9918044C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F1272-014C-4D1E-A8EF-A6D02EE5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AD229-6DE0-4EDF-82C9-844B0F9B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2BCEA-56E5-4A13-9642-84D50F9B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10758-4D4F-4E49-B129-50A8863E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8ACA2-8D23-46BE-9A29-73BC7FB5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64D9F-41DD-4F85-A7A9-021C4D5C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B82F6-268F-47C9-82B5-C6277A08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36CB4-6FD6-4FAE-8D93-F4742582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AF1-02B3-4C84-89AA-3482E184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D5042-4890-4ABE-A4C7-FDB156F5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C9CC2-8BA2-4765-8D6C-045690C4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2A30B-FB81-49B2-BF6F-13350171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43C21-7A38-4EC0-AF7E-38C1133B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DC304-E935-4312-BD52-5C942DF7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F96F6-A9A6-4F60-A44F-E86BFF73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4AF29-F8A2-4A21-AB9D-5258A3E7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58B55-B50B-4AB1-A649-F24D3A6B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3BD5E-D3A2-4631-BB7A-B4CFD833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90EEE-CA13-4AD7-ABAD-93547A41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D71-4509-4949-9D10-73A6A805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01B19-A2F9-4B27-9737-BBD83FEA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24152-A6BA-4672-B4BE-78393045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891AC-07E0-4B88-8334-2587F28D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470F0-EAD3-4F9E-99C6-9C1DF44B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8FC8C-545D-428B-A53D-E015FBA6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3B652-0391-41D1-8665-A7C0E298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E2398-11A2-4B14-957C-D0E10260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10D81-43F1-4E14-B1C9-CC7C0979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64AC6-D480-4C7B-86F7-ABDB4609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614A0-A206-4EA9-B475-EE89EFAC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DA23-A40F-4586-B61F-D368438BCBED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FA8C-3C68-43A6-B171-52F9D8DC20E6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C0EC-B10E-4025-90CF-89188D36071F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2744-1BA3-4BE1-9F76-31F459B5D5FB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6426-3781-41CF-A54D-00694C12C202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C86E-27D1-4105-A178-1900F3A65B95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0380-EDD3-403E-8BEB-3D9745DAFBAA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BD0D-82BD-476A-98D3-5DA342963EFF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32A6-A0FA-47EB-9BAF-28244390CAC9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8802-D237-4B2F-99BC-0A774C06929A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02DE-84FE-4E22-A067-329FA0DE6BE8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834920" y="1341000"/>
            <a:ext cx="66243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vesting en cyclus in de veehouderij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BS: Onderhou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Afbeelding 1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725940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1880" y="136980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23-110 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geveer 4 maa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9 graden w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08000" y="4114800"/>
            <a:ext cx="8820000" cy="2673360"/>
          </a:xfrm>
          <a:prstGeom prst="rect">
            <a:avLst/>
          </a:prstGeom>
          <a:ln w="0">
            <a:noFill/>
          </a:ln>
        </p:spPr>
      </p:pic>
      <p:sp>
        <p:nvSpPr>
          <p:cNvPr id="489" name="Tekstvak 3"/>
          <p:cNvSpPr/>
          <p:nvPr/>
        </p:nvSpPr>
        <p:spPr>
          <a:xfrm>
            <a:off x="492120" y="3160800"/>
            <a:ext cx="79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tal dierplaatsen voor een bedrijf met 300 zeugen, met achtereevolgens een 1,2,3,4 en 5 wekensyste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Afbeelding 3" descr=""/>
          <p:cNvPicPr/>
          <p:nvPr/>
        </p:nvPicPr>
        <p:blipFill>
          <a:blip r:embed="rId1"/>
          <a:stretch/>
        </p:blipFill>
        <p:spPr>
          <a:xfrm>
            <a:off x="0" y="333360"/>
            <a:ext cx="908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3928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gemene ei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ervoor da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vloeren vlak zijn, maar niet gl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ervoor dat er in de stall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doende dagli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innen kom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voor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atuurlijke ventilati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stal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dat 33% van het vloeroppervlak dicht 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ventueel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angbaar strooisel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bruiken, ruwvoer, moet al het stro biologisch zij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allen en installaties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choon mak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et water, stoom of reinigingsmiddel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pluimveestal moet aan de volgende aanvullende eisen voldoen: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. De dichte vloer van pluimveestallen strooit u voldoende i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. Het daglicht mag tot max. 16 uur per dag aanvullen met kunstli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g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innenruimtes voor leghenn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moeten aan de volgende normen voldoen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ximaal 6 leghennen per m2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18 cm. zitstok per leghen, de zitstok moet min. 30 x 30 mm dik zijn. Geïntegreerde zitstokken moeten minimaal 3 cm. verhoogd zij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50% van de totale minimum zitstoklengte moet extra verhoogd zijn, namelij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onder de zits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30 cm ruimte tussen de zitsto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tot het plaf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fok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258920" y="2060640"/>
          <a:ext cx="4306680" cy="2711520"/>
        </p:xfrm>
        <a:graphic>
          <a:graphicData uri="http://schemas.openxmlformats.org/drawingml/2006/table">
            <a:tbl>
              <a:tblPr/>
              <a:tblGrid>
                <a:gridCol w="2504880"/>
                <a:gridCol w="1801800"/>
              </a:tblGrid>
              <a:tr h="903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tot 7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tot en met 18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19 weken</a:t>
                      </a:r>
                      <a:br>
                        <a:rPr sz="1800"/>
                      </a:b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(127e d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Rectangle 1"/>
          <p:cNvSpPr/>
          <p:nvPr/>
        </p:nvSpPr>
        <p:spPr>
          <a:xfrm>
            <a:off x="1173240" y="1050480"/>
            <a:ext cx="66247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binnenruimtes voor opfokhennen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oeten aan de volgende normen voldoen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minimale oppervlakte (per leeftijd) voor opfokhennen i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erhoogde zitstokken van 6 cm. lang per dier vanaf 7 wek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anaf 56 dagen moet u de opfokhennen toegang tot de uitloop gev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De uitloopopeningen moeten breed en hoog genoeg zijn, zodat de opfokhennen snel naar binnen of buiten kunnen gaa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Er geldt geen maximaal aantal voor opfokhennen per st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it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56000" y="3357720"/>
          <a:ext cx="4176720" cy="2016000"/>
        </p:xfrm>
        <a:graphic>
          <a:graphicData uri="http://schemas.openxmlformats.org/drawingml/2006/table">
            <a:tbl>
              <a:tblPr/>
              <a:tblGrid>
                <a:gridCol w="2587680"/>
                <a:gridCol w="1589040"/>
              </a:tblGrid>
              <a:tr h="671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hennen, vleeskuikens en parelhoe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hen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koe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Rectangle 1"/>
          <p:cNvSpPr/>
          <p:nvPr/>
        </p:nvSpPr>
        <p:spPr>
          <a:xfrm>
            <a:off x="826920" y="1134000"/>
            <a:ext cx="6840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mag gebruik maken van wisseluitlopen. Dit betekent dat u:</a:t>
            </a:r>
            <a:br>
              <a:rPr sz="1600"/>
            </a:b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de uitloop per afdeling in gelijke delen in de lengte mag opsplitsen, zodat de begroeiing kan herstellen.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het pluimvee tijdens de ronde elke wisseluitloop even lange perioden laat gebruik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de uitlopen gelden de volgende minimale oppervlakt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Afbeelding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kalf tot ko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835280" y="1557360"/>
          <a:ext cx="6635520" cy="3249720"/>
        </p:xfrm>
        <a:graphic>
          <a:graphicData uri="http://schemas.openxmlformats.org/drawingml/2006/table">
            <a:tbl>
              <a:tblPr/>
              <a:tblGrid>
                <a:gridCol w="3317760"/>
                <a:gridCol w="3317760"/>
              </a:tblGrid>
              <a:tr h="40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eftij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 (alleen mel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/stierka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– 1 ja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jaar (geslachtsrij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. 16 mnd(Bij uiervorm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vaars /1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tter/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eer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de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5832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uisvestingseisen voor runderen mbt het natuurlijke gedrag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804680" y="1341360"/>
            <a:ext cx="6994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rbivoren moeten voldoende schone en droge ligruimtes hebben die u voldoende heeft ingestroo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leeskalveren (ouder dan 1 week) en vleesstieren moet u in groepen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 melkveebedrijven mag u kalveren tijdens de zoogperiode in een “iglo”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u stieren ouder dan 1 jaar tijdens het weideseizoen niet weidt, moet u ze een uitloopmogelijkheid geven. Deze uitloop moet minimaal 30 m2 per stier zijn en mag u voor maximaal 75% overkappen. 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langer dan één vijfde deel van hun leven binnen afmesten en in ieder geval niet langer dan 3 maan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aanbi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 melkv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619280" y="2349360"/>
          <a:ext cx="6481800" cy="3456000"/>
        </p:xfrm>
        <a:graphic>
          <a:graphicData uri="http://schemas.openxmlformats.org/drawingml/2006/table">
            <a:tbl>
              <a:tblPr/>
              <a:tblGrid>
                <a:gridCol w="4014720"/>
                <a:gridCol w="2467080"/>
              </a:tblGrid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kst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1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2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vanaf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m2 per dier en minstens 1 m2  per 100 kg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Rechthoek 7"/>
          <p:cNvSpPr/>
          <p:nvPr/>
        </p:nvSpPr>
        <p:spPr>
          <a:xfrm>
            <a:off x="1476360" y="1479600"/>
            <a:ext cx="69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at zijn de minimum oppervlaktes van de stallen voor rundve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Afbeelding 3" descr=""/>
          <p:cNvPicPr/>
          <p:nvPr/>
        </p:nvPicPr>
        <p:blipFill>
          <a:blip r:embed="rId1"/>
          <a:stretch/>
        </p:blipFill>
        <p:spPr>
          <a:xfrm>
            <a:off x="-30240" y="208080"/>
            <a:ext cx="917424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big tot ze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63640" y="1773360"/>
          <a:ext cx="6635880" cy="3024000"/>
        </p:xfrm>
        <a:graphic>
          <a:graphicData uri="http://schemas.openxmlformats.org/drawingml/2006/table">
            <a:tbl>
              <a:tblPr/>
              <a:tblGrid>
                <a:gridCol w="3318120"/>
                <a:gridCol w="331776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(geltje/bor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1 da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peende bi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25 Kg (9wek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-/vleesvar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11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k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8 maa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gende 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mnd, 3 wk, 3 dgn drac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am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weken in de kraams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9" name="Gekromde pijl-omlaag 4"/>
          <p:cNvSpPr/>
          <p:nvPr/>
        </p:nvSpPr>
        <p:spPr>
          <a:xfrm rot="16200000">
            <a:off x="903960" y="3824640"/>
            <a:ext cx="1079640" cy="576360"/>
          </a:xfrm>
          <a:custGeom>
            <a:avLst/>
            <a:gdLst>
              <a:gd name="textAreaLeft" fmla="*/ 215640 w 1079640"/>
              <a:gd name="textAreaRight" fmla="*/ 792000 w 1079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38" hR="21600" stAng="10800000" swAng="5400000"/>
                <a:lnTo>
                  <a:pt x="11521" y="0"/>
                </a:lnTo>
                <a:arcTo wR="8638" hR="21600" stAng="-5400000" swAng="3429110"/>
                <a:lnTo>
                  <a:pt x="21326" y="16200"/>
                </a:lnTo>
                <a:lnTo>
                  <a:pt x="18718" y="21600"/>
                </a:lnTo>
                <a:lnTo>
                  <a:pt x="15561" y="16200"/>
                </a:lnTo>
                <a:lnTo>
                  <a:pt x="17002" y="16200"/>
                </a:lnTo>
                <a:arcTo wR="8638" hR="21600" stAng="-1970890" swAng="-3196779"/>
                <a:lnTo>
                  <a:pt x="10080" y="303"/>
                </a:lnTo>
                <a:arcTo wR="8638" hR="21600" stAng="-5632330" swAng="-5167670"/>
                <a:close/>
              </a:path>
              <a:path fill="darkenLess" w="21600" h="21600">
                <a:moveTo>
                  <a:pt x="0" y="21600"/>
                </a:moveTo>
                <a:arcTo wR="8638" hR="21600" stAng="10800000" swAng="5400000"/>
                <a:lnTo>
                  <a:pt x="8638" y="0"/>
                </a:lnTo>
                <a:arcTo wR="8638" hR="21600" stAng="-5400000" swAng="232330"/>
                <a:lnTo>
                  <a:pt x="10080" y="303"/>
                </a:lnTo>
                <a:arcTo wR="8638" hR="21600" stAng="-5632330" swAng="-516767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oeroppervlak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331640" y="1412640"/>
            <a:ext cx="746748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</a:t>
            </a:r>
            <a:r>
              <a:rPr b="0" lang="nl-NL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los lop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Regels vloeroppervlakt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Per zeug moet ten minste 2,25 m² zij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Hiervan moet 1,3 m² aaneengesloten dichte vloer zijn. Het uitgangspunt is dat een varken comfortabel moet liggen en over voldoende ligruimte op een dichte vloer beschik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De zijden van een stal zijn langer dan 2,8 meter als de groepen uit 6 dieren of meer bestaan, bij minder dan 6 dieren langer dan 2,4 met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inder dan 6 dieren moet de totale oppervlakte met 10% worden vergroo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eer dan 40 dieren mag de totale oppervlakte met 10% worden verklein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am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02920" y="1557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 week voor biggen tot 4 weken na big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2 – 27 graden voor biggen, 18 graden voor zeu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raambox + biggennest met verwar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oosters en soort box naar keu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osten ongeveer 600 -1200 eu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waropstelling, lengteopstelling of schu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ust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233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max 4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0 graden, 16 uur licht en 100 lux lichtster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ele box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ang ervoor voor de be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parte hokken voor de b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 gecombineerd met wacht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28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4 dagen in gro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Afbeelding 3" descr=""/>
          <p:cNvPicPr/>
          <p:nvPr/>
        </p:nvPicPr>
        <p:blipFill>
          <a:blip r:embed="rId1"/>
          <a:stretch/>
        </p:blipFill>
        <p:spPr>
          <a:xfrm>
            <a:off x="6164280" y="2565360"/>
            <a:ext cx="26924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403280" y="1557360"/>
            <a:ext cx="8136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(met eisen voor vloeroppervlak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rotere groep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in beschermde af te sluiten box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of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kleinere groepen (6-10 diere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tegelij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rio-m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Minimaal 14 zeug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Hele dag kleinere port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Werkt op brij en droogvo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11280" y="1332000"/>
            <a:ext cx="663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met voers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en naar behoef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 station per 30-50 zeu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oringsgevoeli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op st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00-400 zeugen per gro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gelijkbaar met ligboxenstal (natuurlijke ventilat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Afbeelding 3" descr=""/>
          <p:cNvPicPr/>
          <p:nvPr/>
        </p:nvPicPr>
        <p:blipFill>
          <a:blip r:embed="rId1"/>
          <a:stretch/>
        </p:blipFill>
        <p:spPr>
          <a:xfrm>
            <a:off x="5724360" y="4581360"/>
            <a:ext cx="32544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 de kraam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6200" y="126792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gespeende –biggen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spenen tot 23 k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8 graden warm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opfokzeugen 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af 23 kg tot de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Afbeelding 3" descr=""/>
          <p:cNvPicPr/>
          <p:nvPr/>
        </p:nvPicPr>
        <p:blipFill>
          <a:blip r:embed="rId1"/>
          <a:stretch/>
        </p:blipFill>
        <p:spPr>
          <a:xfrm>
            <a:off x="5649840" y="1844640"/>
            <a:ext cx="3264120" cy="1871640"/>
          </a:xfrm>
          <a:prstGeom prst="rect">
            <a:avLst/>
          </a:prstGeom>
          <a:ln w="0">
            <a:noFill/>
          </a:ln>
        </p:spPr>
      </p:pic>
      <p:pic>
        <p:nvPicPr>
          <p:cNvPr id="485" name="Afbeelding 4" descr=""/>
          <p:cNvPicPr/>
          <p:nvPr/>
        </p:nvPicPr>
        <p:blipFill>
          <a:blip r:embed="rId2"/>
          <a:stretch/>
        </p:blipFill>
        <p:spPr>
          <a:xfrm>
            <a:off x="5724360" y="4618080"/>
            <a:ext cx="31957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7:01:02Z</dcterms:created>
  <dc:creator>vak</dc:creator>
  <dc:description/>
  <dc:language>en-US</dc:language>
  <cp:lastModifiedBy>Carolien Sengers</cp:lastModifiedBy>
  <dcterms:modified xsi:type="dcterms:W3CDTF">2018-02-19T11:00:24Z</dcterms:modified>
  <cp:revision>38</cp:revision>
  <dc:subject/>
  <dc:title>Varkens</dc:title>
</cp:coreProperties>
</file>