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E6EF-D499-4743-95C2-F192E467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378-2C62-48EA-9595-69239841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DD31A-B570-4826-B46D-AEA631E9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C5FCB-E754-4D12-ABE4-76696A5C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D2282-21EB-4278-A591-3F974043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76EAF-0A3E-4967-8A31-009CAA8A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0AAE8-BC28-4129-989A-E60C0DF0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8564B-0A8C-44D0-8F14-FD86800B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01BAD-7D21-4263-BCD5-5EFC4C6A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3CECA-7F31-4308-8528-2AFB7F34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E0B79-908C-4963-9E38-F7D19287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ACBF0-0AFE-48F6-B8AE-CA93CF19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9E59-8240-4B41-8B36-BF99E9D2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E08F98-3281-41D6-93C1-B9CED2BE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289C04-E07F-48FA-A7BF-C97EEDEF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DA160-0EE9-455B-8907-E0402391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633A50-B4E5-4FBF-9F12-D9D887D9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C138F2-454C-46E7-B504-B9FB6562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14611-ADBD-437A-A3F6-67717B07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7F5B4-D4B3-476D-A880-A3B21317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312B9-2D0E-47E6-AD20-964E1344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22049E-F508-4474-A938-11C24251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7BFB2-CFC1-492D-8ECB-093BCCC9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B7C1-6C80-4335-AE3D-88ACB6AF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9CF7D6-86BD-4677-B5A1-67F5F7F0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DD09B-1CA1-4AB9-AD2D-DE04ABD8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036D93-0035-444A-A313-69E125B2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E8BD1-76B1-4505-B2C7-04EBFC54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DFBCE-1EDA-40AB-A62A-BB64FFD5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16331-6714-4DDA-830F-2715D296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9CBC7C-E305-4769-8D84-123ED0B3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8E51F-87C5-4AD0-8AEF-3A0D5F68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8B463-98F4-419F-AB8F-6C2C9B91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EA2D2-2849-42A9-96C3-FA1787B9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ACE6-A079-4E35-B2A0-16BEF7D7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75708-820D-423A-83AA-85C90520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1D58C-8CFE-4861-A62E-E141B066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AEFAD-8BDA-4F22-A7B5-D4A012A1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1779-F4DF-4309-8EC9-EF0A73F4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E013-5B2C-4359-BC59-5EC23B7F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9D58-2B95-4BA9-92CA-104EDC2C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D3A0-1F76-4B3C-8FE0-5CB07C10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F24D-16B9-45B1-8078-708AE69F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6C46-8CB6-45E1-9D17-F5F36418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E36-CE40-4CD0-9A70-22138C13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8DAB-FB1F-4267-B01B-2B23391E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BF55-E767-417E-B2EE-DFC785E3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BFF9-BE61-4B9D-8EF5-233D4137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455E-1F8F-4176-9E12-3759BDC7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F752B-7740-4C48-8451-149B4306E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7B78B-976B-4505-B735-4D599B16C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F32CA-908D-452B-91E9-4F65F71D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18DDA-9235-45DA-A1EC-EB6102EF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869C5-52F5-4424-A5B4-C51709E5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DDF1C-557A-4FD7-9E46-B1B8A0CF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8873-1496-44FA-A35E-99FF2A07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1B95C-0B86-4EB0-BC9F-BE15495C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AD74F-5C65-4D62-92E9-483DBC84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4A181-2EEE-4FCF-885F-F0F3BB9D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BD22F-4860-4951-B906-8FFBC279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A788B-F440-45F3-B3EB-4ACE06AB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44190-3FB3-45F6-8460-B7CB0E091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DA7CC-192D-4E60-8382-A9E265BF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A4931-CF37-4AA7-8263-73951B83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F0EFE-6F15-4D87-B2C6-1C31A753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9C91C-2265-466F-A517-9EBF3822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E894-AC7B-4D1A-94BA-B65AEA59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91C73-DA4C-4A65-9556-4CA9053E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08AE2-522A-40C3-9CF7-6882AC6A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773D7-804D-42F7-9E37-AC139496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CB204-CB1A-4735-ACEE-6AED0D40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1DA4F-3362-444A-B435-7BFDE686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7C551-A423-488D-A067-C0BFBC8D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0339B-D520-4F49-BF40-433FAC14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9F546-F4BA-42E8-A076-5C13B3C0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9E22A-51D3-4C10-9635-F3CB669D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329C4-5E48-499A-804D-D53DE8AC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8328-F917-4C3A-B93B-8EA8A90F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D7509-ABE0-4714-86C3-A1A3DDF6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2E1CC-E8BC-4F02-8248-D1D23E4A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E3B3C-9D32-4A67-A4A6-796EFCDA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BC606-701C-4D76-93AA-1EC89488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A4B0A-5680-408F-942E-A22404DD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1D683-C9AD-47DA-86B6-605B6FA1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A7307-22EB-4341-AF07-8E5E4B7A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65453-F816-4828-8767-37AAC277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278A5-2BA1-4EFE-887B-56A0A975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7B920-720F-4125-A990-FAFE5822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139-2590-4834-B34F-B3F9DD5C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D1E6D-C806-45AA-A758-63127D60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F5E69-72D0-4859-9063-754E4BC7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27AE6-4CC8-4D9F-87C7-EE1671A9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7E4B4-1198-4AA3-BE1F-16FB9BD9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D9C41-6D26-42F3-A681-16A9D258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A104C-6CDD-4F2E-B57A-E1F449D7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84963-0B55-46D7-89A5-6B2E8F58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04BA6-B675-42DB-8721-4FB677BF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30D6A-E853-4A67-AB3A-9FB02808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E0A7F-5089-4162-919B-12991F60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D1EA-4CB0-4B41-9682-F96AE75F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DDCE9-1D39-4566-A185-AE7E1D56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2E051-D586-4C15-9527-AD3DBF11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6A8AB-9D33-4677-9DCB-BDAED2B2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2F314-2193-40C1-A035-13B3A631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F1B9D-601A-426A-AC54-D8C81371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A2CD7-0840-4CF0-ABA9-30724EEE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3ACD0-E3C6-4688-ADC7-E5665D24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FCA07-6BBB-4B33-AA5E-2D6DB400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8F1D9-D711-4ED0-BDFF-B149B75D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A0B772-9F07-4DE1-BECF-8F02883C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9E4B-1483-48BD-9650-48E09300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70A3F-54E1-4E02-92EB-7434CEB4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127BF-68EB-439A-A0A1-5A097661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F062C-9AAF-4632-AD2E-8ADBFBDF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B4048-4749-4EAD-A3BF-053B2D9C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89D26-78F9-4564-B262-8A036D3F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BAEA6-CBFE-4B4B-9AA9-B1B5C812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74ED1-4B54-4213-8452-55DEEE34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C8403-A6FB-4804-A912-4DB319A1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68350-D606-49D2-B98F-C0FC1FCA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1E018-1088-4DD1-92BC-1099D0D6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5572-1E84-4FD0-96B4-7C858E60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4F6D1-D3DD-4601-ACD7-505C82DD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37CA3-9F86-48AE-8DCE-2D0C2B0A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FB6EB-77BE-465E-914D-F2F2F653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49E19-F5DE-44E2-896F-9CBD62AC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0A652-57DC-4C53-A5E9-DF7C4784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CF551-1A5D-4180-BB69-7D0156BB9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3D3B6-DB48-4465-9830-EAC0BE63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F5800-545B-4510-9326-95CD92856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1D5F3E-842D-449A-8481-32FB9B8E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3E218-2E7D-41BF-B02B-B343D55C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D46B-CA67-4662-BB3A-375A893CA69E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1DCA-CA1E-44A1-8830-C0FB66A6BBDF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EF03-6C7A-4FFE-818B-62416E40BA20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2569-CD08-43B0-BDDA-E0F0B3998245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7705-A144-4E34-9420-9CED7641B282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2B05-B623-40E3-982D-CDACE1D10478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B325-A92C-47FD-98F9-16EA469E6E76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BD5A-40F8-4930-AC82-8E72FE4E6540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EFC3-AA1F-4A47-9A84-D9425894F184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CC85-D5F0-4EAD-ACDB-5BC2E50455F2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Afbeelding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58EF-CC87-4738-8D91-A5A73F230CF2}" type="slidenum">
              <a:rPr b="0" lang="nl-NL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834920" y="1341000"/>
            <a:ext cx="66243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vesting en cyclus in de veehouderij</a:t>
            </a:r>
            <a:br>
              <a:rPr sz="28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BS: Onderhou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Afbeelding 1" descr=""/>
          <p:cNvPicPr/>
          <p:nvPr/>
        </p:nvPicPr>
        <p:blipFill>
          <a:blip r:embed="rId1"/>
          <a:stretch/>
        </p:blipFill>
        <p:spPr>
          <a:xfrm>
            <a:off x="2556000" y="3789360"/>
            <a:ext cx="725940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eesvarkenss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1880" y="1369800"/>
            <a:ext cx="746784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23-110 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ongeveer 4 maa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9 graden w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108000" y="4114800"/>
            <a:ext cx="8820000" cy="2673360"/>
          </a:xfrm>
          <a:prstGeom prst="rect">
            <a:avLst/>
          </a:prstGeom>
          <a:ln w="0">
            <a:noFill/>
          </a:ln>
        </p:spPr>
      </p:pic>
      <p:sp>
        <p:nvSpPr>
          <p:cNvPr id="489" name="Tekstvak 3"/>
          <p:cNvSpPr/>
          <p:nvPr/>
        </p:nvSpPr>
        <p:spPr>
          <a:xfrm>
            <a:off x="492120" y="3160800"/>
            <a:ext cx="793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antal dierplaatsen voor een bedrijf met 300 zeugen, met achtereevolgens een 1,2,3,4 en 5 wekensyste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Afbeelding 3" descr=""/>
          <p:cNvPicPr/>
          <p:nvPr/>
        </p:nvPicPr>
        <p:blipFill>
          <a:blip r:embed="rId1"/>
          <a:stretch/>
        </p:blipFill>
        <p:spPr>
          <a:xfrm>
            <a:off x="0" y="333360"/>
            <a:ext cx="908208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53928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lgemene ei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ervoor dat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vloeren vlak zijn, maar niet gl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ervoor dat er in de stall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ldoende daglich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innen kom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voor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atuurlijke ventilati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stal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org dat 33% van het vloeroppervlak dicht 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ventueel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angbaar strooisel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bruiken, ruwvoer, moet al het stro biologisch zij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tallen en installaties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choon mak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et water, stoom of reinigingsmiddelen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pluimveestal moet aan de volgende aanvullende eisen voldoen: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. De dichte vloer van pluimveestallen strooit u voldoende i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. Het daglicht mag tot max. 16 uur per dag aanvullen met kunstlic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ghe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innenruimtes voor leghenn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moeten aan de volgende normen voldoen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ximaal 6 leghennen per m2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18 cm. zitstok per leghen, de zitstok moet min. 30 x 30 mm dik zijn. Geïntegreerde zitstokken moeten minimaal 3 cm. verhoogd zijn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50% van de totale minimum zitstoklengte moet extra verhoogd zijn, namelij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40 cm vrije ruimte onder de zits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30 cm ruimte tussen de zitstok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inimaal 40 cm vrije ruimte tot het plaf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fokhenn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258920" y="2060640"/>
          <a:ext cx="4306680" cy="2711520"/>
        </p:xfrm>
        <a:graphic>
          <a:graphicData uri="http://schemas.openxmlformats.org/drawingml/2006/table">
            <a:tbl>
              <a:tblPr/>
              <a:tblGrid>
                <a:gridCol w="2504880"/>
                <a:gridCol w="1801800"/>
              </a:tblGrid>
              <a:tr h="903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tot 7 we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tot en met 18 we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af 19 weken</a:t>
                      </a:r>
                      <a:br>
                        <a:rPr sz="1800"/>
                      </a:b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(127e da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opfokhennen per m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9" name="Rectangle 1"/>
          <p:cNvSpPr/>
          <p:nvPr/>
        </p:nvSpPr>
        <p:spPr>
          <a:xfrm>
            <a:off x="1173240" y="1050480"/>
            <a:ext cx="66247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De binnenruimtes voor opfokhennen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moeten aan de volgende normen voldoen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e minimale oppervlakte (per leeftijd) voor opfokhennen i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Verhoogde zitstokken van 6 cm. lang per dier vanaf 7 weke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Vanaf 56 dagen moet u de opfokhennen toegang tot de uitloop geve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De uitloopopeningen moeten breed en hoog genoeg zijn, zodat de opfokhennen snel naar binnen of buiten kunnen gaan.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- Er geldt geen maximaal aantal voor opfokhennen per st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itlo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2556000" y="3357720"/>
          <a:ext cx="4176720" cy="2016000"/>
        </p:xfrm>
        <a:graphic>
          <a:graphicData uri="http://schemas.openxmlformats.org/drawingml/2006/table">
            <a:tbl>
              <a:tblPr/>
              <a:tblGrid>
                <a:gridCol w="2587680"/>
                <a:gridCol w="1589040"/>
              </a:tblGrid>
              <a:tr h="671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hennen, vleeskuikens en parelhoen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fokhen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en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lkoe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z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2" name="Rectangle 1"/>
          <p:cNvSpPr/>
          <p:nvPr/>
        </p:nvSpPr>
        <p:spPr>
          <a:xfrm>
            <a:off x="826920" y="1134000"/>
            <a:ext cx="6840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 mag gebruik maken van wisseluitlopen. Dit betekent dat u:</a:t>
            </a:r>
            <a:br>
              <a:rPr sz="1600"/>
            </a:b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de uitloop per afdeling in gelijke delen in de lengte mag opsplitsen, zodat de begroeiing kan herstellen.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 het pluimvee tijdens de ronde elke wisseluitloop even lange perioden laat gebruik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or de uitlopen gelden de volgende minimale oppervlakt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Afbeelding 3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5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kalf tot ko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1835280" y="1557360"/>
          <a:ext cx="6635520" cy="3249720"/>
        </p:xfrm>
        <a:graphic>
          <a:graphicData uri="http://schemas.openxmlformats.org/drawingml/2006/table">
            <a:tbl>
              <a:tblPr/>
              <a:tblGrid>
                <a:gridCol w="3317760"/>
                <a:gridCol w="3317760"/>
              </a:tblGrid>
              <a:tr h="401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a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eftij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14 (alleen mel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ars/stierka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. – 1 ja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jaar (geslachtsrij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g. 16 mnd(Bij uiervorm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kvaars /1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st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alfsk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afkal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tter/2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alfsko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 2</a:t>
                      </a:r>
                      <a:r>
                        <a:rPr b="0" lang="nl-NL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keer afkalv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de kalfsko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24000" y="333000"/>
            <a:ext cx="5832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uisvestingseisen voor runderen mbt het natuurlijke gedrag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804680" y="1341360"/>
            <a:ext cx="6994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rbivoren moeten voldoende schone en droge ligruimtes hebben die u voldoende heeft ingestrooid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leeskalveren (ouder dan 1 week) en vleesstieren moet u in groepen hou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p melkveebedrijven mag u kalveren tijdens de zoogperiode in een “iglo” houden.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u stieren ouder dan 1 jaar tijdens het weideseizoen niet weidt, moet u ze een uitloopmogelijkheid geven. Deze uitloop moet minimaal 30 m2 per stier zijn en mag u voor maximaal 75% overkappen. 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 mag runderen niet langer dan één vijfde deel van hun leven binnen afmesten en in ieder geval niet langer dan 3 maand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 mag runderen niet aanbi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isen melkv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619280" y="2349360"/>
          <a:ext cx="6481800" cy="3456000"/>
        </p:xfrm>
        <a:graphic>
          <a:graphicData uri="http://schemas.openxmlformats.org/drawingml/2006/table">
            <a:tbl>
              <a:tblPr/>
              <a:tblGrid>
                <a:gridCol w="4014720"/>
                <a:gridCol w="2467080"/>
              </a:tblGrid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lkk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kst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10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20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tot 35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2 per d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 vanaf 35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m2 per dier en minstens 1 m2  per 100 kg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2" name="Rechthoek 7"/>
          <p:cNvSpPr/>
          <p:nvPr/>
        </p:nvSpPr>
        <p:spPr>
          <a:xfrm>
            <a:off x="1476360" y="1479600"/>
            <a:ext cx="690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at zijn de minimum oppervlaktes van de stallen voor rundve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Afbeelding 3" descr=""/>
          <p:cNvPicPr/>
          <p:nvPr/>
        </p:nvPicPr>
        <p:blipFill>
          <a:blip r:embed="rId1"/>
          <a:stretch/>
        </p:blipFill>
        <p:spPr>
          <a:xfrm>
            <a:off x="-30240" y="208080"/>
            <a:ext cx="9174240" cy="65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an big tot ze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763640" y="1773360"/>
          <a:ext cx="6635880" cy="3024000"/>
        </p:xfrm>
        <a:graphic>
          <a:graphicData uri="http://schemas.openxmlformats.org/drawingml/2006/table">
            <a:tbl>
              <a:tblPr/>
              <a:tblGrid>
                <a:gridCol w="3318120"/>
                <a:gridCol w="3317760"/>
              </a:tblGrid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nam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(geltje/bor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1 da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peende bi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 25 Kg (9weke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fok-/vleesvar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 110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k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af 8 maan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gende 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mnd, 3 wk, 3 dgn drac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amze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weken in de kraams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69" name="Gekromde pijl-omlaag 4"/>
          <p:cNvSpPr/>
          <p:nvPr/>
        </p:nvSpPr>
        <p:spPr>
          <a:xfrm rot="16200000">
            <a:off x="903960" y="3824640"/>
            <a:ext cx="1079640" cy="576360"/>
          </a:xfrm>
          <a:custGeom>
            <a:avLst/>
            <a:gdLst>
              <a:gd name="textAreaLeft" fmla="*/ 215640 w 1079640"/>
              <a:gd name="textAreaRight" fmla="*/ 792000 w 107964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38" hR="21600" stAng="10800000" swAng="5400000"/>
                <a:lnTo>
                  <a:pt x="11521" y="0"/>
                </a:lnTo>
                <a:arcTo wR="8638" hR="21600" stAng="-5400000" swAng="3429110"/>
                <a:lnTo>
                  <a:pt x="21326" y="16200"/>
                </a:lnTo>
                <a:lnTo>
                  <a:pt x="18718" y="21600"/>
                </a:lnTo>
                <a:lnTo>
                  <a:pt x="15561" y="16200"/>
                </a:lnTo>
                <a:lnTo>
                  <a:pt x="17002" y="16200"/>
                </a:lnTo>
                <a:arcTo wR="8638" hR="21600" stAng="-1970890" swAng="-3196779"/>
                <a:lnTo>
                  <a:pt x="10080" y="303"/>
                </a:lnTo>
                <a:arcTo wR="8638" hR="21600" stAng="-5632330" swAng="-5167670"/>
                <a:close/>
              </a:path>
              <a:path fill="darkenLess" w="21600" h="21600">
                <a:moveTo>
                  <a:pt x="0" y="21600"/>
                </a:moveTo>
                <a:arcTo wR="8638" hR="21600" stAng="10800000" swAng="5400000"/>
                <a:lnTo>
                  <a:pt x="8638" y="0"/>
                </a:lnTo>
                <a:arcTo wR="8638" hR="21600" stAng="-5400000" swAng="232330"/>
                <a:lnTo>
                  <a:pt x="10080" y="303"/>
                </a:lnTo>
                <a:arcTo wR="8638" hR="21600" stAng="-5632330" swAng="-516767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Vloeroppervlak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331640" y="1412640"/>
            <a:ext cx="746748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</a:t>
            </a:r>
            <a:r>
              <a:rPr b="0" lang="nl-NL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 los lop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Regels vloeroppervlakt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Per zeug moet ten minste 2,25 m² zij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Hiervan moet 1,3 m² aaneengesloten dichte vloer zijn. Het uitgangspunt is dat een varken comfortabel moet liggen en over voldoende ligruimte op een dichte vloer beschik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De zijden van een stal zijn langer dan 2,8 meter als de groepen uit 6 dieren of meer bestaan, bij minder dan 6 dieren langer dan 2,4 mete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Bij groepen van minder dan 6 dieren moet de totale oppervlakte met 10% worden vergroot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Bij groepen van meer dan 40 dieren mag de totale oppervlakte met 10% worden verklein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Kraam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02920" y="1557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 week voor biggen tot 4 weken na big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2 – 27 graden voor biggen, 18 graden voor zeu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raambox + biggennest met verwar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oosters en soort box naar keu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osten ongeveer 600 -1200 eu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waropstelling, lengteopstelling of schu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Gust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233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ek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spenen tot max 4 dagen na dek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20 graden, 16 uur licht en 100 lux lichtsterk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dividuele box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ang ervoor voor de be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parte hokken voor de b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ekafdeling gecombineerd met wacht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spenen tot 28 dagen na dek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anaf 4 dagen in gro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Afbeelding 3" descr=""/>
          <p:cNvPicPr/>
          <p:nvPr/>
        </p:nvPicPr>
        <p:blipFill>
          <a:blip r:embed="rId1"/>
          <a:stretch/>
        </p:blipFill>
        <p:spPr>
          <a:xfrm>
            <a:off x="6164280" y="2565360"/>
            <a:ext cx="269244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agend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403280" y="1557360"/>
            <a:ext cx="8136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(met eisen voor vloeroppervlakt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oerligbox met uitloo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rotere groep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reten in beschermde af te sluiten box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Biof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kleinere groepen (6-10 dieren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Vreten tegelijk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  <a:ea typeface="Arial"/>
              </a:rPr>
              <a:t>Vario-m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Minimaal 14 zeug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Hele dag kleinere porti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Werkt op brij en droogvo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Arial"/>
                <a:ea typeface="Arial"/>
              </a:rPr>
              <a:t>Gelijke groepen nodi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Dragende zeugenaf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11280" y="1332000"/>
            <a:ext cx="6635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met voers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ren naar behoef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 station per 30-50 zeu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toringsgevoeli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epshuisvesting op st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100-400 zeugen per gro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gelijkbaar met ligboxenstal (natuurlijke ventilat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ers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404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Afbeelding 3" descr=""/>
          <p:cNvPicPr/>
          <p:nvPr/>
        </p:nvPicPr>
        <p:blipFill>
          <a:blip r:embed="rId1"/>
          <a:stretch/>
        </p:blipFill>
        <p:spPr>
          <a:xfrm>
            <a:off x="5724360" y="4581360"/>
            <a:ext cx="32544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a de kraams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66200" y="126792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gespeende –biggenaf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spenen tot 23 k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28 graden warm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opfokzeugen afd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af 23 kg tot dek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4" name="Afbeelding 3" descr=""/>
          <p:cNvPicPr/>
          <p:nvPr/>
        </p:nvPicPr>
        <p:blipFill>
          <a:blip r:embed="rId1"/>
          <a:stretch/>
        </p:blipFill>
        <p:spPr>
          <a:xfrm>
            <a:off x="5649840" y="1844640"/>
            <a:ext cx="3264120" cy="1871640"/>
          </a:xfrm>
          <a:prstGeom prst="rect">
            <a:avLst/>
          </a:prstGeom>
          <a:ln w="0">
            <a:noFill/>
          </a:ln>
        </p:spPr>
      </p:pic>
      <p:pic>
        <p:nvPicPr>
          <p:cNvPr id="485" name="Afbeelding 4" descr=""/>
          <p:cNvPicPr/>
          <p:nvPr/>
        </p:nvPicPr>
        <p:blipFill>
          <a:blip r:embed="rId2"/>
          <a:stretch/>
        </p:blipFill>
        <p:spPr>
          <a:xfrm>
            <a:off x="5724360" y="4618080"/>
            <a:ext cx="31957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7:01:02Z</dcterms:created>
  <dc:creator>vak</dc:creator>
  <dc:description/>
  <dc:language>en-US</dc:language>
  <cp:lastModifiedBy>Carolien Sengers</cp:lastModifiedBy>
  <dcterms:modified xsi:type="dcterms:W3CDTF">2018-02-19T11:00:24Z</dcterms:modified>
  <cp:revision>38</cp:revision>
  <dc:subject/>
  <dc:title>Varkens</dc:title>
</cp:coreProperties>
</file>