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863-4073-4751-99A2-536B08FF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6AF-31C9-4335-B335-E93066B0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60CA9-7595-430A-891D-79746439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B3E13-7534-4D15-93B8-A6021849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C0346-B73D-4C0C-8C42-515C8646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1B506-896B-4E05-9B0F-C233E209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90B1-F1F4-4ABF-B3A3-540B6361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6CB4-6DF4-4596-8EF7-AD28A7A6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07650-414A-4148-871D-8E1E7F7B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194C0-10EF-44E7-9468-37DDAB7E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65D72-1FF1-477F-ADB6-A963BD04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626BA-74DD-47E7-974D-4A804E95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E72-F9B8-4BEE-8635-A6690865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ABBFB-7EF2-494E-9132-01FF2D82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B496C-7BDC-4E2C-BCB4-1FAB7C1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92729-DBAC-4A3F-9805-8648C4B4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3ABA9-91F9-410B-9FBF-98294B84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54DE-8B1B-43CC-808E-971F0B3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D0729-0EF9-4301-8D7F-D57E92D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F8B32-0516-4133-B0E7-0F91F53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3F8ED-170C-4072-B44D-620D210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F4F59-A736-46EE-B230-3D150493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9441F-94A8-4A5E-96EE-B7DF7AA6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EE6-AA08-4F53-A7F8-A8085901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336E1-ED39-47F5-832F-094A48AF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BE20-9C93-4E93-9FD6-FC9BA04A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DE4CE-38A1-4BD0-AE48-94B0C670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C6F03-67FF-47B6-98D2-5A736439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E8957-404E-4C31-9886-243857D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33C1-9201-44BF-98FF-03750AC0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FE132-1E60-41FC-AEBC-1828058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54D27-251E-4BE5-9AE3-289972A9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63917-7061-46D2-919F-912101D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9B75E-5886-4998-A2B6-4BB5D31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A2DD-69E9-43AB-BC37-91FCE82D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FCE9A-E999-4C28-89D3-BF42741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86B71-AC93-4159-ACEA-1517BAC0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AFBA0-858C-4CFF-A00A-C03FE1C5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0CB9-4ECC-4FFE-BF6E-E9FF6AE6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50AC-A831-4731-BF33-6119F480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BB63-CD56-4740-8E7C-4BDE67A8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6D7C-E0E7-4C7E-B1D2-4A17637C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D061-2967-40DC-B0D2-C6CF512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FFD8-C46D-4CD1-8876-5BB9DCB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F88-E4FC-444C-A2C3-6DC09C3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3107-F103-468A-9F92-6B72C4E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2998-7160-4EDE-B6FC-0FC0DAF8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45F8-71E0-4228-A55B-D6D153FE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96F3-A330-4C53-81BF-DDFCE9B5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C3B-C056-4A82-A409-5B464A25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47BA-FDB4-41AE-87E9-3DC039A9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B040-D646-4EC3-9330-2EB67FB1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A3AC-F280-4566-B4AB-CCB5C85B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EDC3-00D7-4D71-9591-C2E5F668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11B2-70BA-4A16-B28C-97B936D1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716-80AD-4B64-989A-EF8A85DE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491B-F90F-4117-9E9F-856401DB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84224-8245-4874-8ED4-4343249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B3C3-BAD8-4A64-A854-4FB7C8E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EF44-94B9-4ED5-AD7E-6965CA4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0FDF-E227-494C-9247-ECAB1164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0D4F-C281-457F-8739-35E5B229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3E5E-B076-42EB-86E9-C67FC173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04AE-5B78-489E-AEFC-2277BE0D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C662-3AAE-48DB-8EB6-C1B43F28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E68A-CDAB-4A66-939C-AF31B675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440-6CA8-4840-BE03-DE206FBA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F86C-4135-47CA-B8E2-FC8959A2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F640-B81E-45D4-8589-183F5B5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E8C7-75E7-4A76-9D78-7AEC1D94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424B-9FFB-416E-BDF7-9DA25CD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ADB8-E33D-4449-AA6D-810EC18F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88EA-E2E7-4118-B15D-B42B4EEB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6613-F805-4FFC-81E1-FA93F509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BE98-7FA5-4CC9-A586-A2833C4F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CF31-AB20-4D6D-BDCD-BC03D946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28ED3-4D3F-4658-8F0D-B941A3A1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4F9-52D5-4AA3-BD3A-0FF1D539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5D64-3193-4250-B428-547AF46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589B-A526-446E-A9E6-1041E56A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925BE-79D0-40F4-BCAC-8F6DCBFB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6C38-1967-4605-8882-D49DF12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5E76-CEC6-4217-9433-B68DDCD3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50005-FE59-4738-A56F-7C89062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5A34-151B-4348-A3B1-40F04569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006F2-87E6-4F52-A919-DAE2AECF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2862-40C2-4803-8962-7395A0F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3CCEF-B106-4E10-94A7-B31284BD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E83-9F09-4D88-8975-F2A79170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C97F-BB46-42DC-93FF-79AE69CD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619E-B8D0-4F6C-B725-E4944908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7B70-17A9-4F88-8E83-EA9CB9CA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95E71-9FEC-4BEA-BCA0-6EF4E38E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C37D-E1AE-4F3E-B9E2-1B34DB5D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A6AAF-7954-42FD-AD12-98E99FA3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AB1C8-CCC6-433F-907F-827672F4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E001-06EC-4368-B8FF-F267AB16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2644E-C763-4805-A45E-9CB1596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D3E0-69EE-4789-A9BC-70530B7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C86-6F04-4CD4-9AEF-25EAAC8D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B853-C8C0-4DAF-92C1-0154D08A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ECF5-9117-4450-8A5E-34559D70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38FA-4E22-4DA6-8E2B-15CBCEFD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154C-85D3-47E7-92E9-FFA73FCD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93A84-70CE-44AD-AF30-FB45AE07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25CAC-D495-4723-9B4F-98363C89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272F1-3230-4252-B35F-BBF2EE8A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6B2DA-47A3-48FB-82F2-1ED85B5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C7B14-EFF0-4857-9D2A-8C792702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FCDD-50B3-4DB5-9DEF-D908FD3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570-EF68-4299-A4EA-7FD7331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86A4-B72A-4DED-9269-CADF405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9F94-59EE-4298-8CE1-42C1EFD4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70642-CCFF-4C47-A768-924A719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2888-524E-4F6D-8F35-F18790B7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24EA-6480-41EC-975A-4377DF52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FFC99-8AEF-4CD2-BEF2-ECEE97C7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6FEB6-D559-402C-BE9D-7C883534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EDDC0-A169-484D-B073-A02BDD9F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28F40-857C-48D3-B5BD-286DF5A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8D5A-1A91-48FF-B7F9-CF9957A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8A7-1E39-447B-A23A-9EE21CB7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B85F9-28E9-4120-900B-8EC3344D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A719-654E-41D2-9BF4-231DE5CD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D56F2-193E-4F4C-86D7-336522B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54F40-3A29-48DB-98EE-259662C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7D9AE-9FF8-4C83-B46E-D07FA4F5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1EDC-297B-4B13-88E3-856A92D4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3190-E9DB-4D1C-BAA8-D032E19A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B3082-7005-469D-B300-3D70C95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A3191-C81D-441D-BFE2-DF367D94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7D9B4-F040-415F-9BCB-2AEB6E1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F9AA-AEE3-4CBF-9872-D0EC56A113C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715-BB4C-4B0F-8D73-17B579DFFF49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79E2-A7EC-4E41-A3F7-B85E09CD8941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2222-EF95-4D44-9EDF-C8C0F483091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744-160E-4C54-AE05-7BF7981D683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1216-E90D-4058-95C9-13E2CE19DB9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53CB-FCED-46AA-859C-A2A9DD32FF03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7429-75CE-4FE8-9939-CBE66D2E00A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7176-F276-4B09-8987-5F985ECBD7F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56F3-9036-4DCA-B6B9-53C1C686FAC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5995-6ACE-41FB-9794-2C5CEB9B275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gemene ei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vloeren vlak zijn, maar niet g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er in de stall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dagli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nnen ko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voo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atuurlijke ventilati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ta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dat 33% van het vloeroppervlak dicht 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ventueel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angbaar strooise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bruiken, ruwvoer, moet al het stro biologisch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llen en installaties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choon mak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t water, stoom of reinigingsmiddel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. Het daglicht mag tot max. 16 uur per dag aanvullen met kunstl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8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uisvestingseisen voor runderen mbt het natuurlijke gedra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564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8" hR="21600" stAng="10800000" swAng="5400000"/>
                <a:lnTo>
                  <a:pt x="11521" y="0"/>
                </a:lnTo>
                <a:arcTo wR="8638" hR="21600" stAng="-5400000" swAng="3429110"/>
                <a:lnTo>
                  <a:pt x="21326" y="16200"/>
                </a:lnTo>
                <a:lnTo>
                  <a:pt x="18718" y="21600"/>
                </a:lnTo>
                <a:lnTo>
                  <a:pt x="15561" y="16200"/>
                </a:lnTo>
                <a:lnTo>
                  <a:pt x="17002" y="16200"/>
                </a:lnTo>
                <a:arcTo wR="8638" hR="21600" stAng="-1970890" swAng="-3196779"/>
                <a:lnTo>
                  <a:pt x="10080" y="303"/>
                </a:lnTo>
                <a:arcTo wR="8638" hR="21600" stAng="-5632330" swAng="-5167670"/>
                <a:close/>
              </a:path>
              <a:path fill="darkenLess" w="21600" h="21600">
                <a:moveTo>
                  <a:pt x="0" y="21600"/>
                </a:moveTo>
                <a:arcTo wR="8638" hR="21600" stAng="10800000" swAng="5400000"/>
                <a:lnTo>
                  <a:pt x="8638" y="0"/>
                </a:lnTo>
                <a:arcTo wR="8638" hR="21600" stAng="-5400000" swAng="232330"/>
                <a:lnTo>
                  <a:pt x="10080" y="303"/>
                </a:lnTo>
                <a:arcTo wR="8638" hR="21600" stAng="-5632330" swAng="-51676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</a:t>
            </a:r>
            <a:r>
              <a:rPr b="0" lang="nl-NL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los lo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Regels vloeroppervlakt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Per zeug moet ten minste 2,25 m² zij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155736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11280" y="1332000"/>
            <a:ext cx="663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Carolien Sengers</cp:lastModifiedBy>
  <dcterms:modified xsi:type="dcterms:W3CDTF">2018-02-19T11:00:24Z</dcterms:modified>
  <cp:revision>38</cp:revision>
  <dc:subject/>
  <dc:title>Varkens</dc:title>
</cp:coreProperties>
</file>