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6E9-635E-4345-A2B8-8909505B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792-D58A-4D41-97F8-C729F15D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2C530-E703-4BFE-91E5-3156547A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7342A-A71A-4340-AE8E-8F5FF576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FB9BA-62AB-4742-9678-5167C0E4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2F233-3FF9-4D50-8245-E6731271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54C80-FA59-4DF5-A6B5-9C75E4A3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153A0-6E63-4D34-811A-C7156C6F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33E6C-E49F-4632-BE88-6EFE2997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67491-DDE0-430B-A8DB-1ABEEA0D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7D086-09EB-41A7-BC63-C26CFEBB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1EF55-BB41-4772-AF77-A58F2D72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C8A-8E12-4827-B593-840752E6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8873E-BC20-4803-8983-E866EDBD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4A770-CDD6-4C7B-BC98-689D21F6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AAEB0-FE5C-469D-8F63-C820CC66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E8A5B-7054-45A0-A9EA-FD943E87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E59D7-24E1-4CA8-A673-C47A0BD3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E1B36-2909-48AA-B685-6B0B0108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0EC1B-32EB-4FD7-AE15-31D4FBB2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D3252-1CB1-4259-9A42-876DB0F8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9344A-C249-47B6-ADAA-46A7E920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1644B-2C56-42FD-8F44-A0407A17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FCC-C60B-4800-A95E-E8CC6280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807B4-EEB6-46C7-9969-23BB073E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D0AFA-8A66-443F-81EA-377AB91E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109EE-BB19-4DC7-9286-DF4C21EE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CE14E-BFFD-49B4-A44E-2802FC94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671D0-05B2-46B7-BA05-8EDA20ED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1A03C-4CE0-43AE-ADC4-93194CD4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9F720-7EBC-4195-84BE-6369B883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FCC12-2FE4-40D6-8A01-E9EA5FB7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6A4BC-6CA6-4927-A270-F96AA5E4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D2D48-F96B-4010-94A1-92663B5E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787D-1386-4F5C-AFC8-72452EFE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40048-775A-4186-B455-82EF6210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D7E4D-9B32-4904-A799-EABA4BD1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9F9EF-D210-465F-9253-A793F807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9540-CA76-409F-8FCE-E72E4008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1E89-0EA7-4933-AF01-CF397267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E283-3290-42DA-B691-8655C811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9C6F-7EBB-4077-9E86-2DE6BADA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89B7-D9A3-4753-9470-2C2C20F3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919E-A2B0-418A-95BC-4A3318AE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E5DF-6904-4593-9153-CDF11204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F4C9-5D90-438C-B6F8-F210A65A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7E6F-459F-42AE-B1BB-50B1CBFB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963D-3B1F-4CC2-8769-1FEAAF27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7C9C-BF77-4778-8E02-205A79E9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5326-624A-4629-9B9F-5C3436FA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839E5-700F-4194-BB11-38B3225C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41910-3B44-47AC-9CE6-8CF91F72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5FAF-366A-407E-820A-20372E3F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A87DF-4AB3-48B7-BF46-466AD279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5B943-6160-4DD5-B9EE-F019DD9B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C431-A6D0-40F1-96D6-BD82F437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9041F-7C56-4739-836F-E6A2216D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50E3F-9F62-4F2B-BD8C-C46BE10E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86FE1-AA54-4BEE-BFE3-F7467637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DCA1A-49A0-40F5-8ECE-7CC7EEFF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ECA74-E474-4A50-9F3D-81C96631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36E10-1397-4399-A9E8-0EDE4D96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CADBC-32A5-4D49-876A-111325E7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86303-7A0E-45F3-AB43-193D7018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B87BD-1339-44E1-900A-B0F5FEEB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7C41A-2766-443A-8387-CE2CBDEB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9A1-1DD2-44B3-9DC0-57A63DC3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E6939-0BDD-45DC-A8BC-A2E43943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CE093-ADCF-4560-B9A7-D7B7EAD2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C0E6D-81E3-4062-9B9C-BA13A704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9DC51-8063-4BA1-9277-2A655FB6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8FCFC-0EFD-45A2-B643-B174B886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A364F-5F12-4FDC-A82C-268E50D8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65542-F3FD-4E0E-B7B5-54223E88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89938-17D7-4570-8221-26E11A5F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0F2FA-CD44-4CAA-B7DB-C968D663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288B3-5F7D-4DFF-A7FF-139A6416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B49E-C654-4BBC-9706-D171142E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8701A-2ADA-49E1-9B67-FCA49820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31910-C34B-49A2-8154-3A655A84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A3293-32BB-4D49-8B87-706A121F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F2FD2-CA0C-466E-803A-5261E589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EAEC4-265F-426B-96DB-52B1C37E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B9D80-A4D2-42BA-BA3D-D0D66F90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99E74-4E5F-4A21-BBCD-FAD31C48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3F182-E29F-4171-93FF-BF097380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B19B8-5082-403A-B47C-B413241B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D2676-CB41-4C15-BEFF-8E40765B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84A-ADF6-4BE2-B44B-E620FE35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B8B12-77AE-4F96-B9B8-33244167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D63C4-9899-47AD-9F91-1FD1D5EF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65741-C4B7-4992-8F32-DBE083C6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08882-0A9E-41E7-BD90-A021E259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744C6-A28F-4D60-AF67-20A18FF1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231AC-04FD-43F3-B609-CCBEF3AE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9EBFB-AC9E-400E-95F0-74428E92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4A7F2-EA74-494B-ACD4-08745030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189A7-CD74-4FAF-884F-F4C6B8B6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C2B9B-0653-4E4B-8B7C-F561A858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D78-B79E-4EA2-85A1-81FE0A87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7CA48-346D-4440-AF4B-4A983FAA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9F566-3C45-4FCC-BB06-B0CF6208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F2CE1-E7E0-4713-BDB2-D77D6EF8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EF9E1-A889-4205-995A-360590B4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D1857-964A-4ADD-9182-60605C02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660B7-DCBD-4FD8-B42B-B1179369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AE7DC-89F8-4F16-B7B8-883D6323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70559-9ECB-4F68-BCBE-920CBDE3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45173-6B64-4C73-B876-F6AE8B8D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9E81C-2B03-440E-A566-BC12E27F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8B4-6A1F-4B0E-A789-A54F2E2E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2BE61-2599-486A-A998-D86E790B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F47DB-EF44-45B3-A47F-7E9DF991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D75BF-FAB0-4545-858C-1FE4A78E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15474-6D40-4348-B23A-26F3CAB0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4F41C-8E73-4CC3-B943-A4F512FD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8F872-65C9-4889-A4CF-5350EC01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FFFA5-2930-4853-A144-09C9972A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B795E-12A9-4000-83F6-3A295D76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E51A1-EDDF-4508-B12F-B4CCF93A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92594-6006-4B18-8B10-8D59778A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9B56-2016-48FA-B949-247EAF9E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33F9D-85E4-4C24-A1E8-63C17E4D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143EA-930B-4DA0-B43D-41C36F0A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F9947-12DF-4604-A531-A780DACB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A14BA-1A33-4715-B5ED-A6A2541B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E2956-4B70-449D-9D2B-9C53B48D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A201B-3494-4DE9-9518-FC9FCF30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37B00-5D37-4F3D-B887-6FF1AF96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2BF03-1D85-4812-AB79-66C98C3C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1EA9A-D7E7-4A51-ABBA-8D0C4F57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31300-2E7E-4D2C-8B6B-F7A544EB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B8CE-6DDB-482C-A51E-82828D29851F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1A5F-2A70-4DDC-8DC1-D9E137294FDB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EAA5-A6D4-47B7-BE7E-DA602EF6493C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5A91-2C6E-4A7E-8C0E-D4B024A851C9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A4F2-DDB2-4A0E-AA50-860E1F5747CB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CC3A-CB0F-48F3-B5CA-C5EE3DAC7BBB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C00D-92C9-4A59-AF8E-890F4A625904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D394-FD9B-4ACA-8399-17C8FE0F3C16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B105-6D1E-4845-AB6A-7711FB64E27A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448D-B49B-4FF1-85E7-C74D34FFA511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6191-BC18-4ADE-8CF0-153133150424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834920" y="1341000"/>
            <a:ext cx="66243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vesting en cyclus in de veehouderij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BS: Onderhou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Afbeelding 1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725940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eesvarkenss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1880" y="136980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23-110 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ngeveer 4 maa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9 graden w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08000" y="4114800"/>
            <a:ext cx="8820000" cy="2673360"/>
          </a:xfrm>
          <a:prstGeom prst="rect">
            <a:avLst/>
          </a:prstGeom>
          <a:ln w="0">
            <a:noFill/>
          </a:ln>
        </p:spPr>
      </p:pic>
      <p:sp>
        <p:nvSpPr>
          <p:cNvPr id="489" name="Tekstvak 3"/>
          <p:cNvSpPr/>
          <p:nvPr/>
        </p:nvSpPr>
        <p:spPr>
          <a:xfrm>
            <a:off x="492120" y="3160800"/>
            <a:ext cx="79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tal dierplaatsen voor een bedrijf met 300 zeugen, met achtereevolgens een 1,2,3,4 en 5 wekensyste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Afbeelding 3" descr=""/>
          <p:cNvPicPr/>
          <p:nvPr/>
        </p:nvPicPr>
        <p:blipFill>
          <a:blip r:embed="rId1"/>
          <a:stretch/>
        </p:blipFill>
        <p:spPr>
          <a:xfrm>
            <a:off x="0" y="333360"/>
            <a:ext cx="9082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3928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lgemene ei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ervoor da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vloeren vlak zijn, maar niet gl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ervoor dat er in de stall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doende daglich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innen kom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voor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atuurlijke ventilati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stal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dat 33% van het vloeroppervlak dicht 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ventueel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angbaar strooisel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bruiken, ruwvoer, moet al het stro biologisch zij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tallen en installaties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choon mak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et water, stoom of reinigingsmiddele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pluimveestal moet aan de volgende aanvullende eisen voldoen: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. De dichte vloer van pluimveestallen strooit u voldoende i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. Het daglicht mag tot max. 16 uur per dag aanvullen met kunstli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gh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innenruimtes voor leghenn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moeten aan de volgende normen voldoen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ximaal 6 leghennen per m2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18 cm. zitstok per leghen, de zitstok moet min. 30 x 30 mm dik zijn. Geïntegreerde zitstokken moeten minimaal 3 cm. verhoogd zij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50% van de totale minimum zitstoklengte moet extra verhoogd zijn, namelij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40 cm vrije ruimte onder de zits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30 cm ruimte tussen de zitstok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40 cm vrije ruimte tot het plaf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fokh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258920" y="2060640"/>
          <a:ext cx="4306680" cy="2711520"/>
        </p:xfrm>
        <a:graphic>
          <a:graphicData uri="http://schemas.openxmlformats.org/drawingml/2006/table">
            <a:tbl>
              <a:tblPr/>
              <a:tblGrid>
                <a:gridCol w="2504880"/>
                <a:gridCol w="1801800"/>
              </a:tblGrid>
              <a:tr h="903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tot 7 we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tot en met 18 we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af 19 weken</a:t>
                      </a:r>
                      <a:br>
                        <a:rPr sz="1800"/>
                      </a:b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(127e da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Rectangle 1"/>
          <p:cNvSpPr/>
          <p:nvPr/>
        </p:nvSpPr>
        <p:spPr>
          <a:xfrm>
            <a:off x="1173240" y="1050480"/>
            <a:ext cx="66247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binnenruimtes voor opfokhennen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oeten aan de volgende normen voldoen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minimale oppervlakte (per leeftijd) voor opfokhennen i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Verhoogde zitstokken van 6 cm. lang per dier vanaf 7 weke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Vanaf 56 dagen moet u de opfokhennen toegang tot de uitloop geve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De uitloopopeningen moeten breed en hoog genoeg zijn, zodat de opfokhennen snel naar binnen of buiten kunnen gaa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Er geldt geen maximaal aantal voor opfokhennen per st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it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556000" y="3357720"/>
          <a:ext cx="4176720" cy="2016000"/>
        </p:xfrm>
        <a:graphic>
          <a:graphicData uri="http://schemas.openxmlformats.org/drawingml/2006/table">
            <a:tbl>
              <a:tblPr/>
              <a:tblGrid>
                <a:gridCol w="2587680"/>
                <a:gridCol w="1589040"/>
              </a:tblGrid>
              <a:tr h="671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hennen, vleeskuikens en parelhoe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fokhen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lkoe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Rectangle 1"/>
          <p:cNvSpPr/>
          <p:nvPr/>
        </p:nvSpPr>
        <p:spPr>
          <a:xfrm>
            <a:off x="826920" y="1134000"/>
            <a:ext cx="6840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 mag gebruik maken van wisseluitlopen. Dit betekent dat u:</a:t>
            </a:r>
            <a:br>
              <a:rPr sz="1600"/>
            </a:b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de uitloop per afdeling in gelijke delen in de lengte mag opsplitsen, zodat de begroeiing kan herstellen.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 het pluimvee tijdens de ronde elke wisseluitloop even lange perioden laat gebruik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 de uitlopen gelden de volgende minimale oppervlakt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Afbeelding 3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kalf tot ko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835280" y="1557360"/>
          <a:ext cx="6635520" cy="3249720"/>
        </p:xfrm>
        <a:graphic>
          <a:graphicData uri="http://schemas.openxmlformats.org/drawingml/2006/table">
            <a:tbl>
              <a:tblPr/>
              <a:tblGrid>
                <a:gridCol w="3317760"/>
                <a:gridCol w="3317760"/>
              </a:tblGrid>
              <a:tr h="40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a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eftij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 (alleen mel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ars/stierka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– 1 ja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jaar (geslachtsrij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. 16 mnd(Bij uiervorm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kvaars /1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alfsk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afkal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tter/2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alfsko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2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eer afkal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de kalfsko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4000" y="333000"/>
            <a:ext cx="5832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uisvestingseisen voor runderen mbt het natuurlijke gedrag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804680" y="1341360"/>
            <a:ext cx="6994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rbivoren moeten voldoende schone en droge ligruimtes hebben die u voldoende heeft ingestroo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leeskalveren (ouder dan 1 week) en vleesstieren moet u in groepen hou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 melkveebedrijven mag u kalveren tijdens de zoogperiode in een “iglo” hou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u stieren ouder dan 1 jaar tijdens het weideseizoen niet weidt, moet u ze een uitloopmogelijkheid geven. Deze uitloop moet minimaal 30 m2 per stier zijn en mag u voor maximaal 75% overkappen. 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 mag runderen niet langer dan één vijfde deel van hun leven binnen afmesten en in ieder geval niet langer dan 3 maan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 mag runderen niet aanbi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sen melkv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619280" y="2349360"/>
          <a:ext cx="6481800" cy="3456000"/>
        </p:xfrm>
        <a:graphic>
          <a:graphicData uri="http://schemas.openxmlformats.org/drawingml/2006/table">
            <a:tbl>
              <a:tblPr/>
              <a:tblGrid>
                <a:gridCol w="4014720"/>
                <a:gridCol w="2467080"/>
              </a:tblGrid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kk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kst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10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20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35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vanaf 35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m2 per dier en minstens 1 m2  per 100 kg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Rechthoek 7"/>
          <p:cNvSpPr/>
          <p:nvPr/>
        </p:nvSpPr>
        <p:spPr>
          <a:xfrm>
            <a:off x="1476360" y="1479600"/>
            <a:ext cx="69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at zijn de minimum oppervlaktes van de stallen voor rundve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Afbeelding 3" descr=""/>
          <p:cNvPicPr/>
          <p:nvPr/>
        </p:nvPicPr>
        <p:blipFill>
          <a:blip r:embed="rId1"/>
          <a:stretch/>
        </p:blipFill>
        <p:spPr>
          <a:xfrm>
            <a:off x="-30240" y="208080"/>
            <a:ext cx="917424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big tot ze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763640" y="1773360"/>
          <a:ext cx="6635880" cy="3024000"/>
        </p:xfrm>
        <a:graphic>
          <a:graphicData uri="http://schemas.openxmlformats.org/drawingml/2006/table">
            <a:tbl>
              <a:tblPr/>
              <a:tblGrid>
                <a:gridCol w="3318120"/>
                <a:gridCol w="3317760"/>
              </a:tblGrid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am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(geltje/bor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1 da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peende bi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 25 Kg (9wek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fok-/vleesvar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 11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k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af 8 maa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gende 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mnd, 3 wk, 3 dgn drac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am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weken in de kraams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9" name="Gekromde pijl-omlaag 4"/>
          <p:cNvSpPr/>
          <p:nvPr/>
        </p:nvSpPr>
        <p:spPr>
          <a:xfrm rot="16200000">
            <a:off x="903960" y="3824640"/>
            <a:ext cx="1079640" cy="576360"/>
          </a:xfrm>
          <a:custGeom>
            <a:avLst/>
            <a:gdLst>
              <a:gd name="textAreaLeft" fmla="*/ 215640 w 1079640"/>
              <a:gd name="textAreaRight" fmla="*/ 792000 w 107964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38" hR="21600" stAng="10800000" swAng="5400000"/>
                <a:lnTo>
                  <a:pt x="11521" y="0"/>
                </a:lnTo>
                <a:arcTo wR="8638" hR="21600" stAng="-5400000" swAng="3429110"/>
                <a:lnTo>
                  <a:pt x="21326" y="16200"/>
                </a:lnTo>
                <a:lnTo>
                  <a:pt x="18718" y="21600"/>
                </a:lnTo>
                <a:lnTo>
                  <a:pt x="15561" y="16200"/>
                </a:lnTo>
                <a:lnTo>
                  <a:pt x="17002" y="16200"/>
                </a:lnTo>
                <a:arcTo wR="8638" hR="21600" stAng="-1970890" swAng="-3196779"/>
                <a:lnTo>
                  <a:pt x="10080" y="303"/>
                </a:lnTo>
                <a:arcTo wR="8638" hR="21600" stAng="-5632330" swAng="-5167670"/>
                <a:close/>
              </a:path>
              <a:path fill="darkenLess" w="21600" h="21600">
                <a:moveTo>
                  <a:pt x="0" y="21600"/>
                </a:moveTo>
                <a:arcTo wR="8638" hR="21600" stAng="10800000" swAng="5400000"/>
                <a:lnTo>
                  <a:pt x="8638" y="0"/>
                </a:lnTo>
                <a:arcTo wR="8638" hR="21600" stAng="-5400000" swAng="232330"/>
                <a:lnTo>
                  <a:pt x="10080" y="303"/>
                </a:lnTo>
                <a:arcTo wR="8638" hR="21600" stAng="-5632330" swAng="-516767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oeroppervlak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331640" y="1412640"/>
            <a:ext cx="746748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</a:t>
            </a:r>
            <a:r>
              <a:rPr b="0" lang="nl-NL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los lop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Regels vloeroppervlakt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Per zeug moet ten minste 2,25 m² zij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Hiervan moet 1,3 m² aaneengesloten dichte vloer zijn. Het uitgangspunt is dat een varken comfortabel moet liggen en over voldoende ligruimte op een dichte vloer beschik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De zijden van een stal zijn langer dan 2,8 meter als de groepen uit 6 dieren of meer bestaan, bij minder dan 6 dieren langer dan 2,4 mete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Bij groepen van minder dan 6 dieren moet de totale oppervlakte met 10% worden vergroo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Bij groepen van meer dan 40 dieren mag de totale oppervlakte met 10% worden verklein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raam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02920" y="1557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 week voor biggen tot 4 weken na big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2 – 27 graden voor biggen, 18 graden voor zeu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raambox + biggennest met verwar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oosters en soort box naar keu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osten ongeveer 600 -1200 eu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waropstelling, lengteopstelling of schu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ust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233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ek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spenen tot max 4 dagen na dek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0 graden, 16 uur licht en 100 lux lichtsterk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dividuele box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ang ervoor voor de be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parte hokken voor de b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ekafdeling gecombineerd met wacht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spenen tot 28 dagen na dek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4 dagen in gro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Afbeelding 3" descr=""/>
          <p:cNvPicPr/>
          <p:nvPr/>
        </p:nvPicPr>
        <p:blipFill>
          <a:blip r:embed="rId1"/>
          <a:stretch/>
        </p:blipFill>
        <p:spPr>
          <a:xfrm>
            <a:off x="6164280" y="2565360"/>
            <a:ext cx="26924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agend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403280" y="1557360"/>
            <a:ext cx="8136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(met eisen voor vloeroppervlak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erligbox met uitlo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rotere groep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reten in beschermde af te sluiten box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of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kleinere groepen (6-10 dieren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reten tegelijk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rio-m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Minimaal 14 zeug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Hele dag kleinere port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Werkt op brij en droogvo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agend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11280" y="1332000"/>
            <a:ext cx="663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met voers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ren naar behoef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 station per 30-50 zeu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toringsgevoeli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op st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00-400 zeugen per gro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gelijkbaar met ligboxenstal (natuurlijke ventilat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rs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Afbeelding 3" descr=""/>
          <p:cNvPicPr/>
          <p:nvPr/>
        </p:nvPicPr>
        <p:blipFill>
          <a:blip r:embed="rId1"/>
          <a:stretch/>
        </p:blipFill>
        <p:spPr>
          <a:xfrm>
            <a:off x="5724360" y="4581360"/>
            <a:ext cx="32544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a de kraams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66200" y="126792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gespeende –biggenaf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spenen tot 23 k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8 graden warm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opfokzeugen af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af 23 kg tot dek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Afbeelding 3" descr=""/>
          <p:cNvPicPr/>
          <p:nvPr/>
        </p:nvPicPr>
        <p:blipFill>
          <a:blip r:embed="rId1"/>
          <a:stretch/>
        </p:blipFill>
        <p:spPr>
          <a:xfrm>
            <a:off x="5649840" y="1844640"/>
            <a:ext cx="3264120" cy="1871640"/>
          </a:xfrm>
          <a:prstGeom prst="rect">
            <a:avLst/>
          </a:prstGeom>
          <a:ln w="0">
            <a:noFill/>
          </a:ln>
        </p:spPr>
      </p:pic>
      <p:pic>
        <p:nvPicPr>
          <p:cNvPr id="485" name="Afbeelding 4" descr=""/>
          <p:cNvPicPr/>
          <p:nvPr/>
        </p:nvPicPr>
        <p:blipFill>
          <a:blip r:embed="rId2"/>
          <a:stretch/>
        </p:blipFill>
        <p:spPr>
          <a:xfrm>
            <a:off x="5724360" y="4618080"/>
            <a:ext cx="31957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7:01:02Z</dcterms:created>
  <dc:creator>vak</dc:creator>
  <dc:description/>
  <dc:language>en-US</dc:language>
  <cp:lastModifiedBy>Carolien Sengers</cp:lastModifiedBy>
  <dcterms:modified xsi:type="dcterms:W3CDTF">2018-02-19T11:00:24Z</dcterms:modified>
  <cp:revision>38</cp:revision>
  <dc:subject/>
  <dc:title>Varkens</dc:title>
</cp:coreProperties>
</file>