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B247-621D-4A54-9BA3-AB30355BC8B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A1A7-9D3A-45BD-8552-DAA76AD67976}" type="slidenum">
              <a:rPr b="0" lang="nl-N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mode en 3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F997-D849-4D56-AE0B-B0C9EDA9B92E}" type="slidenum">
              <a:rPr b="0" lang="nl-NL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817-2E1D-4378-88E7-1094389D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999-9B55-4717-9582-061301AE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89F-7BE2-4CE6-8053-3ED8C6FE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60C-E835-40C8-9465-53744D4D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BCFB-2307-477B-A700-5886309B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57E7-9976-4059-B94A-593EA9D0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2898-305A-4FDA-8E4C-604509AD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B4D8-FBC4-4B09-8530-2F8089FE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E342-92C1-41E0-B406-A2784BDF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EC15-61C5-4CFD-AB1F-553029FE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3C51-F639-4211-9694-57E3FCC3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151-80D1-4239-8F3E-29582B31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6093-41A1-4A5D-8DD1-5997D38B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40CB-E693-43F1-860A-B4B4797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204E-D7E3-41F8-87BE-657A8B45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AA0D-A2C2-4C50-ABD2-AA84FE1C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C87B-8E83-49B0-8A24-E9F0B56E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33D3E-D254-48E3-BAE6-39951B80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97B05-E03D-4307-AAC8-00855155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D6989-9B18-4B9A-A9D0-657AA6DD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B7835-04EF-4BA4-A50E-48D9F581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A8CA4-0BE8-4C10-B732-DB7A83DC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E9C-AA38-4921-ABAC-FFDB1E6B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D26A2-FB05-4201-95DC-1CAE05F8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8297D-38AC-4C65-9620-60E62362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3B86F-4DDA-4455-B912-CF1C26EB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87D2A-FF9A-4874-8497-FEE25395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C9372-AC15-42F9-9F33-864BA1F6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5F48A-35BA-4858-99C5-E485FFAC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D6050-09F4-49F1-8970-58ED7062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CBBCB-92EF-4FED-A319-535513AB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6B9C2-68D9-407C-96A2-725794D5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BC17-659D-4A11-98EE-E77A7ABB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428-6721-450F-A8AD-EC8D3070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C33A8-2D01-49D0-BF34-955BF834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9266B-4CE2-4ACB-BBAB-F055147F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71C30-BF43-41E1-96E6-4069A5A4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12B98-4600-4205-A193-00FA862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E2CE7-9EAE-4A55-9719-230A2BAD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F0CE6-2839-47AD-81F3-42FE5042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8FD50-46DA-464A-B769-AD062190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6BF33-76E9-4A2F-936E-65EB97E1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4F91D-08C3-45BE-9D72-0C55D760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4AC-CF6F-409E-9F65-63A7E2C4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24A-6121-4BB3-8B0C-9D7A3C4C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6C0-FC47-4AAE-9EE4-1367B3D9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5EE-F4F2-4897-A1AC-9D9A0E59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0D1-8C57-4914-8B47-853C5B33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6FD8-0533-4AB7-9AB2-078DAFF682D6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BDD7-060A-4A46-8519-5D23F2CC25F6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490D-C6F0-4DF9-8E3C-B5631485507C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0514-3892-457A-B8E7-9AD832D8EA86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94c600"/>
                </a:solidFill>
                <a:latin typeface="Century Gothic"/>
              </a:rPr>
              <a:t>Verpleegkundig Medisch Rekenen (VPR 1)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424242"/>
                </a:solidFill>
                <a:latin typeface="Century Gothic"/>
              </a:rPr>
              <a:t>Is rekenen met zorg!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024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Ezelsbruggetjes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71280" y="1535040"/>
            <a:ext cx="6777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nl-NL" sz="2000" spc="-1" strike="noStrike">
                <a:solidFill>
                  <a:srgbClr val="3e3d2d"/>
                </a:solidFill>
                <a:latin typeface="Century Gothic"/>
              </a:rPr>
              <a:t>K</a:t>
            </a:r>
            <a:r>
              <a:rPr b="0" lang="nl-NL" sz="2000" spc="-1" strike="noStrike">
                <a:solidFill>
                  <a:srgbClr val="3e3d2d"/>
                </a:solidFill>
                <a:latin typeface="Century Gothic"/>
              </a:rPr>
              <a:t>im </a:t>
            </a:r>
            <a:r>
              <a:rPr b="1" lang="nl-NL" sz="20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nl-NL" sz="2000" spc="-1" strike="noStrike">
                <a:solidFill>
                  <a:srgbClr val="3e3d2d"/>
                </a:solidFill>
                <a:latin typeface="Century Gothic"/>
              </a:rPr>
              <a:t>olland </a:t>
            </a:r>
            <a:r>
              <a:rPr b="1" lang="nl-NL" sz="2000" spc="-1" strike="noStrike">
                <a:solidFill>
                  <a:srgbClr val="3e3d2d"/>
                </a:solidFill>
                <a:latin typeface="Century Gothic"/>
              </a:rPr>
              <a:t>da</a:t>
            </a:r>
            <a:r>
              <a:rPr b="0" lang="nl-NL" sz="2000" spc="-1" strike="noStrike">
                <a:solidFill>
                  <a:srgbClr val="3e3d2d"/>
                </a:solidFill>
                <a:latin typeface="Century Gothic"/>
              </a:rPr>
              <a:t>nst </a:t>
            </a:r>
            <a:r>
              <a:rPr b="1" lang="nl-NL" sz="2000" spc="-1" strike="noStrike">
                <a:solidFill>
                  <a:srgbClr val="3e3d2d"/>
                </a:solidFill>
                <a:latin typeface="Century Gothic"/>
              </a:rPr>
              <a:t>m</a:t>
            </a:r>
            <a:r>
              <a:rPr b="0" lang="nl-NL" sz="2000" spc="-1" strike="noStrike">
                <a:solidFill>
                  <a:srgbClr val="3e3d2d"/>
                </a:solidFill>
                <a:latin typeface="Century Gothic"/>
              </a:rPr>
              <a:t>et </a:t>
            </a:r>
            <a:r>
              <a:rPr b="1" lang="nl-NL" sz="2000" spc="-1" strike="noStrike">
                <a:solidFill>
                  <a:srgbClr val="3e3d2d"/>
                </a:solidFill>
                <a:latin typeface="Century Gothic"/>
              </a:rPr>
              <a:t>d</a:t>
            </a:r>
            <a:r>
              <a:rPr b="0" lang="nl-NL" sz="2000" spc="-1" strike="noStrike">
                <a:solidFill>
                  <a:srgbClr val="3e3d2d"/>
                </a:solidFill>
                <a:latin typeface="Century Gothic"/>
              </a:rPr>
              <a:t>e </a:t>
            </a:r>
            <a:r>
              <a:rPr b="1" lang="nl-NL" sz="2000" spc="-1" strike="noStrike">
                <a:solidFill>
                  <a:srgbClr val="3e3d2d"/>
                </a:solidFill>
                <a:latin typeface="Century Gothic"/>
              </a:rPr>
              <a:t>C</a:t>
            </a:r>
            <a:r>
              <a:rPr b="0" lang="nl-NL" sz="2000" spc="-1" strike="noStrike">
                <a:solidFill>
                  <a:srgbClr val="3e3d2d"/>
                </a:solidFill>
                <a:latin typeface="Century Gothic"/>
              </a:rPr>
              <a:t>hinezen </a:t>
            </a:r>
            <a:r>
              <a:rPr b="1" lang="nl-NL" sz="2000" spc="-1" strike="noStrike">
                <a:solidFill>
                  <a:srgbClr val="3e3d2d"/>
                </a:solidFill>
                <a:latin typeface="Century Gothic"/>
              </a:rPr>
              <a:t>m</a:t>
            </a:r>
            <a:r>
              <a:rPr b="0" lang="nl-NL" sz="2000" spc="-1" strike="noStrike">
                <a:solidFill>
                  <a:srgbClr val="3e3d2d"/>
                </a:solidFill>
                <a:latin typeface="Century Gothic"/>
              </a:rPr>
              <a:t>e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7" name="Afbeelding 3" descr=""/>
          <p:cNvPicPr/>
          <p:nvPr/>
        </p:nvPicPr>
        <p:blipFill>
          <a:blip r:embed="rId1"/>
          <a:stretch/>
        </p:blipFill>
        <p:spPr>
          <a:xfrm>
            <a:off x="798480" y="2081160"/>
            <a:ext cx="3529080" cy="2449440"/>
          </a:xfrm>
          <a:prstGeom prst="rect">
            <a:avLst/>
          </a:prstGeom>
          <a:ln w="0">
            <a:noFill/>
          </a:ln>
        </p:spPr>
      </p:pic>
      <p:pic>
        <p:nvPicPr>
          <p:cNvPr id="368" name="Afbeelding 4" descr=""/>
          <p:cNvPicPr/>
          <p:nvPr/>
        </p:nvPicPr>
        <p:blipFill>
          <a:blip r:embed="rId2"/>
          <a:stretch/>
        </p:blipFill>
        <p:spPr>
          <a:xfrm>
            <a:off x="4313160" y="2073240"/>
            <a:ext cx="3384720" cy="2347920"/>
          </a:xfrm>
          <a:prstGeom prst="rect">
            <a:avLst/>
          </a:prstGeom>
          <a:ln w="0">
            <a:noFill/>
          </a:ln>
        </p:spPr>
      </p:pic>
      <p:pic>
        <p:nvPicPr>
          <p:cNvPr id="369" name="Afbeelding 5" descr=""/>
          <p:cNvPicPr/>
          <p:nvPr/>
        </p:nvPicPr>
        <p:blipFill>
          <a:blip r:embed="rId3"/>
          <a:stretch/>
        </p:blipFill>
        <p:spPr>
          <a:xfrm>
            <a:off x="3059280" y="4530600"/>
            <a:ext cx="3227400" cy="22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0" name=""/>
          <p:cNvGraphicFramePr/>
          <p:nvPr/>
        </p:nvGraphicFramePr>
        <p:xfrm>
          <a:off x="5794200" y="5979960"/>
          <a:ext cx="492480" cy="274680"/>
        </p:xfrm>
        <a:graphic>
          <a:graphicData uri="http://schemas.openxmlformats.org/drawingml/2006/table">
            <a:tbl>
              <a:tblPr/>
              <a:tblGrid>
                <a:gridCol w="49248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Ezelsbruggetj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Rechthoek 3"/>
          <p:cNvSpPr/>
          <p:nvPr/>
        </p:nvSpPr>
        <p:spPr>
          <a:xfrm>
            <a:off x="1074600" y="2349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ippen </a:t>
            </a: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ooien </a:t>
            </a: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et </a:t>
            </a: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fo’s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kg – g – mg – µg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1 stap = 100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Van groot naar klei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Van klein naar groo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74600" y="4437000"/>
          <a:ext cx="3857760" cy="371520"/>
        </p:xfrm>
        <a:graphic>
          <a:graphicData uri="http://schemas.openxmlformats.org/drawingml/2006/table">
            <a:tbl>
              <a:tblPr/>
              <a:tblGrid>
                <a:gridCol w="38577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us, 1 mg = ……. Microgram (µ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</a:tbl>
          </a:graphicData>
        </a:graphic>
      </p:graphicFrame>
      <p:sp>
        <p:nvSpPr>
          <p:cNvPr id="374" name="Rechthoek 6"/>
          <p:cNvSpPr/>
          <p:nvPr/>
        </p:nvSpPr>
        <p:spPr>
          <a:xfrm>
            <a:off x="5473800" y="3459240"/>
            <a:ext cx="2558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Om te onthouden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 g = 0,001 kg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 kg = 1000 g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 mg = 0,001 g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 g = 1000 mg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1 µg = 0,000001 g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 g = 1 000 000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µg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Kahoo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aak een kladblaadje </a:t>
            </a:r>
            <a:r>
              <a:rPr b="0" lang="nl-NL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Gebruik deze bij de kahoo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ttps://create.kahoot.it/share/verpleegkundig-rekenen-eenheden-omrekenen/ba85fa46-1e70-4545-953f-2e55da03c974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ideo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8" name="Onlinemedia 5" descr=""/>
          <p:cNvPicPr/>
          <p:nvPr/>
        </p:nvPicPr>
        <p:blipFill>
          <a:blip r:embed="rId1"/>
          <a:stretch/>
        </p:blipFill>
        <p:spPr>
          <a:xfrm>
            <a:off x="1312920" y="2324160"/>
            <a:ext cx="62373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aken + volgende l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Maken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Eenheden: alle opdrachten </a:t>
            </a:r>
            <a:br>
              <a:rPr sz="2000"/>
            </a:b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Volgende les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BMI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isicovolle situati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vereenkomst en verschil met rekenen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9360">
            <a:solidFill>
              <a:srgbClr val="2e2e22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pleegkundig reke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2016000" cy="20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ulpmiddelen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- Rekenmachine</a:t>
            </a:r>
            <a:br>
              <a:rPr sz="2400"/>
            </a:b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- Pen en papi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- Boek mee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- Huiswerk gemaakt en mee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9360">
            <a:solidFill>
              <a:srgbClr val="2e2e22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pleegkundig reke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PR1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42064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eekplan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Toet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Onderwerpen toets VPR1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* Omrekenen eenheden</a:t>
            </a:r>
            <a:br>
              <a:rPr sz="2400"/>
            </a:b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* Medicatie mg/ml</a:t>
            </a:r>
            <a:br>
              <a:rPr sz="2400"/>
            </a:b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* Medicatie 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* Vochtbalan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* BMI</a:t>
            </a:r>
            <a:br>
              <a:rPr sz="2400"/>
            </a:b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itel 1"/>
          <p:cNvSpPr/>
          <p:nvPr/>
        </p:nvSpPr>
        <p:spPr>
          <a:xfrm>
            <a:off x="826920" y="1268280"/>
            <a:ext cx="7632720" cy="1143000"/>
          </a:xfrm>
          <a:prstGeom prst="rect">
            <a:avLst/>
          </a:prstGeom>
          <a:noFill/>
          <a:ln w="9360">
            <a:solidFill>
              <a:srgbClr val="2e2e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  <a:ea typeface="Arial"/>
              </a:rPr>
              <a:t>Instellen van je rekenmachin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Afbeelding 2" descr=""/>
          <p:cNvPicPr/>
          <p:nvPr/>
        </p:nvPicPr>
        <p:blipFill>
          <a:blip r:embed="rId1"/>
          <a:stretch/>
        </p:blipFill>
        <p:spPr>
          <a:xfrm>
            <a:off x="684360" y="2505240"/>
            <a:ext cx="2423880" cy="388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3203640" y="3243240"/>
          <a:ext cx="4321080" cy="2560680"/>
        </p:xfrm>
        <a:graphic>
          <a:graphicData uri="http://schemas.openxmlformats.org/drawingml/2006/table">
            <a:tbl>
              <a:tblPr/>
              <a:tblGrid>
                <a:gridCol w="4321080"/>
              </a:tblGrid>
              <a:tr h="2560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beer: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: 1000000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Wat komt er uit? Je wilt 0.000001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t doe je door: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x mode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Eenheden omrekenen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99640" y="244764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Eenheden; Wanneer heb je dit nodig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8" name="Afbeelding 2" descr=""/>
          <p:cNvPicPr/>
          <p:nvPr/>
        </p:nvPicPr>
        <p:blipFill>
          <a:blip r:embed="rId1"/>
          <a:stretch/>
        </p:blipFill>
        <p:spPr>
          <a:xfrm>
            <a:off x="235080" y="3716280"/>
            <a:ext cx="4052880" cy="1603440"/>
          </a:xfrm>
          <a:prstGeom prst="rect">
            <a:avLst/>
          </a:prstGeom>
          <a:ln w="0">
            <a:noFill/>
          </a:ln>
        </p:spPr>
      </p:pic>
      <p:pic>
        <p:nvPicPr>
          <p:cNvPr id="359" name="Afbeelding 3" descr=""/>
          <p:cNvPicPr/>
          <p:nvPr/>
        </p:nvPicPr>
        <p:blipFill>
          <a:blip r:embed="rId2"/>
          <a:stretch/>
        </p:blipFill>
        <p:spPr>
          <a:xfrm>
            <a:off x="4824360" y="3789360"/>
            <a:ext cx="42116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ntwoord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1" name="Afbeelding 3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3679920" cy="1605240"/>
          </a:xfrm>
          <a:prstGeom prst="rect">
            <a:avLst/>
          </a:prstGeom>
          <a:ln w="0">
            <a:noFill/>
          </a:ln>
        </p:spPr>
      </p:pic>
      <p:pic>
        <p:nvPicPr>
          <p:cNvPr id="362" name="Afbeelding 4" descr=""/>
          <p:cNvPicPr/>
          <p:nvPr/>
        </p:nvPicPr>
        <p:blipFill>
          <a:blip r:embed="rId2"/>
          <a:stretch/>
        </p:blipFill>
        <p:spPr>
          <a:xfrm>
            <a:off x="4148280" y="3117960"/>
            <a:ext cx="382896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7024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rootheden en eenhed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1557000"/>
            <a:ext cx="720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Een grootheid is iets dat je kunt meten met een meetinstrument.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De grootte van deze grootheid wordt uitgedrukt in eenheden: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Lengte </a:t>
            </a:r>
            <a:r>
              <a:rPr b="0" lang="en-US" sz="19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1900" spc="-1" strike="noStrike" u="sng">
                <a:solidFill>
                  <a:srgbClr val="3e3d2d"/>
                </a:solidFill>
                <a:uFillTx/>
                <a:latin typeface="Century Gothic"/>
              </a:rPr>
              <a:t>meter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, mijl, foot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Massa </a:t>
            </a:r>
            <a:r>
              <a:rPr b="0" lang="en-US" sz="19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kilogram, pond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Tijdsduur </a:t>
            </a:r>
            <a:r>
              <a:rPr b="0" lang="en-US" sz="19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seconde, minuut, dag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temperatuur </a:t>
            </a:r>
            <a:r>
              <a:rPr b="0" lang="en-US" sz="19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1900" spc="-1" strike="noStrike" u="sng">
                <a:solidFill>
                  <a:srgbClr val="3e3d2d"/>
                </a:solidFill>
                <a:uFillTx/>
                <a:latin typeface="Century Gothic"/>
              </a:rPr>
              <a:t>graden Celsius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, graden Fahrenheit, Kelvin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Volume </a:t>
            </a:r>
            <a:r>
              <a:rPr b="0" lang="en-US" sz="19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liter, milliliter, kubieke meter)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3e3d2d"/>
                </a:solidFill>
                <a:latin typeface="Century Gothic"/>
              </a:rPr>
              <a:t>Waarom is het  belangrijk  om te weten in welke eenheid iets is uitgedrukt?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7:30:18Z</dcterms:created>
  <dc:creator>snijdere</dc:creator>
  <dc:description/>
  <dc:language>en-US</dc:language>
  <cp:lastModifiedBy>Judith Iedema</cp:lastModifiedBy>
  <dcterms:modified xsi:type="dcterms:W3CDTF">2020-02-24T13:17:59Z</dcterms:modified>
  <cp:revision>55</cp:revision>
  <dc:subject/>
  <dc:title>Verpleegkundig Medisch Reken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