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7FDE-E8AA-4333-9257-39562BB32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F2E1-E450-43F4-B6C3-1A87E4970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E5B3-AC40-4C1B-96D1-989858B54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89C4-B693-49B6-9795-881554241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D227C-112C-44E8-A45E-388C67701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97076-BD8E-49A7-A402-E96922E47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0C8E4-7B8D-4BCE-B859-89BFEB5DF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BB996-1686-4F54-8CEE-DB141D675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DB077-9FA5-4E65-AA5A-F5567F0EB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2E264-B248-40F5-9B12-6AE511C9A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2A2AF-FBC9-4BBB-9B54-1AECF9872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BA86-9AAB-4710-AC18-23E0BA299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8220B-0283-471A-9C4D-44FBF5BA2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960EE-C0BF-4857-8F45-4947DEB78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31F4B-5CAB-44E0-9C2C-6F7624096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EA05B-E593-496E-A48C-91B03B946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0E19B-ABD0-498B-BB52-D78A0AA03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1257-E69F-4E3E-862D-F19769938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F8D0-2343-463A-B104-FBC7992BC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BEDC-49FE-4FDC-A0B1-5839396EA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F502-B77F-41DF-B2D0-39567FA41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E953-5A6D-4989-8D57-06704D695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0BE9-C824-4ACB-8B9F-018D2C316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F7C8-4996-42D3-AA60-212634E43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AC974-D96F-4DCF-B6ED-DB7F0BB739CB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96C48-DE2D-475E-91ED-9E844B21C2AF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nl.wikipedia.org/wiki/Bestand:Bacillus_subtilis_Gram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Basiskennis bacteriologisch onderzoek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rondvorm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psporen van ziekteverwekkende bacterië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acteriologisch prepara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Gram positieve en negatieve bacterië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838080" y="3116160"/>
            <a:ext cx="3775320" cy="22161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756320" y="3036960"/>
            <a:ext cx="377496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89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rondvorme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1760" y="2285640"/>
            <a:ext cx="4267080" cy="38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Coccus of ko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Diploko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Streptoko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Stafyloko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Bacil of staaf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19720" y="2438280"/>
            <a:ext cx="407664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63280" y="863280"/>
            <a:ext cx="772164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Opsporen van ziekteverwekkende bacteriën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Bacteriologisch onderzoe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Microscopisch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Kweekproef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DNA-onderzoek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Resistentietes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Immunologisch onderzoe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Na vaccinatie ontstaat bij de grote meerderheid van de gevaccineerden anti-HBsAg, dit zijn antistoffen gericht tegen het hepatitis B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762440" y="2362320"/>
            <a:ext cx="376704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3272400" y="9864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Bacteriologisch preparaat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microscopisch onderzoek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teriaal aanbrengen op objectgl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rogen aan de luch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ixer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acteriën dode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Hechting materiaa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eleiwitten kapot, beter kleuropnam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Kleur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rog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eoordel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micro (9K)"/>
          <p:cNvPicPr/>
          <p:nvPr/>
        </p:nvPicPr>
        <p:blipFill>
          <a:blip r:embed="rId1"/>
          <a:stretch/>
        </p:blipFill>
        <p:spPr>
          <a:xfrm>
            <a:off x="5105520" y="1943280"/>
            <a:ext cx="3276360" cy="24573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micro5 (8K)"/>
          <p:cNvPicPr/>
          <p:nvPr/>
        </p:nvPicPr>
        <p:blipFill>
          <a:blip r:embed="rId2"/>
          <a:stretch/>
        </p:blipFill>
        <p:spPr>
          <a:xfrm rot="9581400">
            <a:off x="2811600" y="3409560"/>
            <a:ext cx="2133360" cy="21448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micro3 (10K)"/>
          <p:cNvPicPr/>
          <p:nvPr/>
        </p:nvPicPr>
        <p:blipFill>
          <a:blip r:embed="rId3"/>
          <a:stretch/>
        </p:blipFill>
        <p:spPr>
          <a:xfrm>
            <a:off x="762120" y="1371600"/>
            <a:ext cx="2971800" cy="22287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4948920" y="834120"/>
            <a:ext cx="36651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voedingsbodem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methyleenblauwkleur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eeft informatie over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de vorm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van de bacterië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Kokken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tav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898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898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898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898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Gram-kleur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eeft informatie over de vorm van de bacterie en…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eeft informatie over de eigenschappen van de wand van de bacteri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58760" y="250920"/>
            <a:ext cx="8985240" cy="61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3366"/>
                </a:solidFill>
                <a:latin typeface="Arial"/>
              </a:rPr>
              <a:t>Gram-kleuring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Preparaat met bacteriën behandelen met kristalviolet en jodiu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Oplossen kristalviolet-jodium-verbinding door ethano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Nabehandeling met fuchsine of saffranine (rode kleurstof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Preparaat bekijken onder de microscoop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Bacteriën </a:t>
            </a:r>
            <a:r>
              <a:rPr b="0" lang="nl-NL" sz="2400" spc="-1" strike="noStrike">
                <a:solidFill>
                  <a:srgbClr val="9900cc"/>
                </a:solidFill>
                <a:latin typeface="Arial"/>
              </a:rPr>
              <a:t>paars</a:t>
            </a: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 Gram-positief (verbinding niet opgelost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Bacteriën </a:t>
            </a:r>
            <a:r>
              <a:rPr b="0" lang="nl-NL" sz="2400" spc="-1" strike="noStrike">
                <a:solidFill>
                  <a:srgbClr val="f60000"/>
                </a:solidFill>
                <a:latin typeface="Arial"/>
              </a:rPr>
              <a:t>rood</a:t>
            </a: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sz="2400" spc="-1" strike="noStrike">
                <a:solidFill>
                  <a:srgbClr val="003366"/>
                </a:solidFill>
                <a:latin typeface="Arial"/>
              </a:rPr>
              <a:t> Gram-negatief (verbinding opgelost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66"/>
                </a:solidFill>
                <a:latin typeface="Arial"/>
              </a:rPr>
              <a:t>Tevens onderscheid tussen staven en kokk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62120" y="1523880"/>
            <a:ext cx="7315200" cy="52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Voorbeelden </a:t>
            </a:r>
            <a:r>
              <a:rPr b="0" lang="nl-NL" sz="2000" spc="-1" strike="noStrike">
                <a:solidFill>
                  <a:srgbClr val="f60000"/>
                </a:solidFill>
                <a:latin typeface="Arial"/>
              </a:rPr>
              <a:t>Gram-negatieve</a:t>
            </a: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 bacteriën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meningokokken (meningitis: hersenvliesontstek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gonokokken (gonorro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E.coli bacterië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tyfusbacterië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Voorbeelden </a:t>
            </a:r>
            <a:r>
              <a:rPr b="0" lang="nl-NL" sz="2000" spc="-1" strike="noStrike">
                <a:solidFill>
                  <a:srgbClr val="9900cc"/>
                </a:solidFill>
                <a:latin typeface="Arial"/>
              </a:rPr>
              <a:t>Gram-positieve</a:t>
            </a: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 bacteriën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stafylokokken (MRSA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streptokokken (keelontstek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pneumokokken (longontstek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tuberkelbacteriën (tuberculos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Veroorzakers urineweginfectie meestal Gram-negatief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9T09:04:52Z</dcterms:created>
  <dc:creator>Haverkort</dc:creator>
  <dc:description/>
  <dc:language>en-US</dc:language>
  <cp:lastModifiedBy>Haverkort</cp:lastModifiedBy>
  <dcterms:modified xsi:type="dcterms:W3CDTF">2010-09-19T10:56:20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