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D7A8-1903-434A-BE5E-CCBADAFA7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9891-61F9-4DBB-9A8C-7DBAC64BA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56AF-9C65-4F1F-A72F-BDB198E96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6451-2338-409C-B9C3-F6CF7FC2E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F15A9-5F50-4C4B-8358-70E5EA6B5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ED4D7-4B81-4A2F-94CF-F440226BF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892B2-51E9-4711-98AE-EFA6014A5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C4177-F927-4CB9-882D-35A28F3EA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5749D-F530-4FF8-B250-E99362F50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B8149-A583-4149-8794-5EE0845A8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2166A-3B74-4207-99B4-FD69CA68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745F-2E97-4AF6-A8EB-269B992C2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D50F2-8C7A-43A1-847E-C848CECE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BD38C-FDA7-404F-9CAC-404C00C4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58648-DBB7-4743-9AF2-3237C5454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46EE3-1DF2-43B2-AF3D-4AEF5FF67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59EC7-FE2F-4C55-985E-8072E68CD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8B0C-200B-4D50-AE47-109B98E40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0992-B234-451D-B74F-2D44A66DD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33CA-BC16-4D8E-8CED-8894D5300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2040-53CA-485D-B3F6-0C8E11D3B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2E88-68E5-4D48-9072-696D3BBF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721C-27C8-4F75-A807-9B557807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F090-0A24-427F-9346-956671ED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3AF96-A8C4-41C7-AC11-230A9E9352F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436B0-6CDB-4614-98DA-020682EE4FB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l.wikipedia.org/wiki/Bestand:Bacillus_subtilis_Gram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siskennis bacteriolog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ondvorm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sporen van ziekteverwekken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teriologisch prepara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ram positieve en negatieve bacterië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38080" y="3116160"/>
            <a:ext cx="3775320" cy="2216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756320" y="3036960"/>
            <a:ext cx="37749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ondvor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426708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Coccus of ko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Dip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rept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afy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il of staa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2438280"/>
            <a:ext cx="40766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63280" y="863280"/>
            <a:ext cx="772164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psporen van ziekteverwekkende bacteriën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Bacteri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Microscopisc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Kweekproe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DNA-onderzoe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Resistentiete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Immun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Na vaccinatie ontstaat bij de grote meerderheid van de gevaccineerden anti-HBsAg, dit zijn antistoffen gericht tegen het hepatitis B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762440" y="2362320"/>
            <a:ext cx="37670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272400" y="986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cteriologisch preparaa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icroscop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teriaal aanbrengen op objectgl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 aan de luch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xe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cteriën dod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echting materia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eleiwitten kapot, beter kleuropna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leu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oordel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micro (9K)"/>
          <p:cNvPicPr/>
          <p:nvPr/>
        </p:nvPicPr>
        <p:blipFill>
          <a:blip r:embed="rId1"/>
          <a:stretch/>
        </p:blipFill>
        <p:spPr>
          <a:xfrm>
            <a:off x="5105520" y="1943280"/>
            <a:ext cx="3276360" cy="2457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micro5 (8K)"/>
          <p:cNvPicPr/>
          <p:nvPr/>
        </p:nvPicPr>
        <p:blipFill>
          <a:blip r:embed="rId2"/>
          <a:stretch/>
        </p:blipFill>
        <p:spPr>
          <a:xfrm rot="9581400">
            <a:off x="2811600" y="3409560"/>
            <a:ext cx="2133360" cy="2144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micro3 (10K)"/>
          <p:cNvPicPr/>
          <p:nvPr/>
        </p:nvPicPr>
        <p:blipFill>
          <a:blip r:embed="rId3"/>
          <a:stretch/>
        </p:blipFill>
        <p:spPr>
          <a:xfrm>
            <a:off x="762120" y="1371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948920" y="834120"/>
            <a:ext cx="3665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oedingsbodem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methyleenblauw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 vor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van 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okke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Gram-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vorm van de bacterie en…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eigenschappen van de wand van de bacter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003366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66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523880"/>
            <a:ext cx="731520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f60000"/>
                </a:solidFill>
                <a:latin typeface="Arial"/>
              </a:rPr>
              <a:t>Gram-nega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gonokokken (gonorro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E.coli 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yfus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9900cc"/>
                </a:solidFill>
                <a:latin typeface="Arial"/>
              </a:rPr>
              <a:t>Gram-posi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afylokokken (MRS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reptokokken (keel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pneumokokken (long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uberkelbacteriën (tuberculos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eroorzakers urineweginfectie meestal Gram-negatie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09:04:52Z</dcterms:created>
  <dc:creator>Haverkort</dc:creator>
  <dc:description/>
  <dc:language>en-US</dc:language>
  <cp:lastModifiedBy>Haverkort</cp:lastModifiedBy>
  <dcterms:modified xsi:type="dcterms:W3CDTF">2010-09-19T10:56:2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