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F9C4-D82D-4BC3-A975-28FBC37258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A98D-DF12-46ED-828A-0733735E6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6FB9B-37BD-492C-8E40-590422BC91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F319-4DB8-4A3C-AEDF-A2246544E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BC31-20E3-44A7-B3AD-CC432D3E7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80F28-ACD5-42E3-82A2-062B413AD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3916E-80EB-4789-BA0A-E0A5705C8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3CF8-E7BA-4BD9-AA9D-615A47C11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9DF7E-61A1-4318-A20B-5D8666A2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31520-9814-463A-A603-AA22F2FCF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085FFD-82F1-4B43-A7A7-8C2243F6D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79F7D-2B15-4145-AB63-E7028D6CB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0E4901-8601-4C01-B65E-2DDB1271E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030E3-3B4E-4410-B11E-321EB9B16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53F2A-280D-4473-BDD9-21E61A960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52B9E-E8BB-4277-B6EB-D2DCB8DE1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EFCFD-04F5-48BE-ADA5-C1C5808DF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736-724D-40C3-BAD3-698E98794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8AF-FA28-4DC9-B728-1D8896B7A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164F-CD32-4AAC-A6C5-37A59E214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9EA14-7B32-480A-A75F-0E028456A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5B6-2E54-41FA-8C7D-D88EB569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C82A2-FB93-45E3-90B6-D4804B727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7E7F-581E-48F3-A759-04239C0E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F7028-2169-4B41-AFC8-6ED82FD932D5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E4E1A-0AE6-46D4-AC43-0983013A670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nl.wikipedia.org/wiki/Bestand:Bacillus_subtilis_Gram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siskennis bacteriolog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rondvorme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Opsporen van ziekteverwekken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teriologisch prepara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Gram positieve en negatieve bacterië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838080" y="3116160"/>
            <a:ext cx="3775320" cy="2216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756320" y="3036960"/>
            <a:ext cx="377496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89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grondvorme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61760" y="2285640"/>
            <a:ext cx="4267080" cy="38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Coccus of kok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Dip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rept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Stafyloko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il of staa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99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419720" y="2438280"/>
            <a:ext cx="407664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63280" y="863280"/>
            <a:ext cx="7721640" cy="13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Opsporen van ziekteverwekkende bacteriën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Bacteri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Microscopisch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Kweekproef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DNA-onderzoek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Resistentietest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Immunologisch onderzoek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3366"/>
                </a:solidFill>
                <a:latin typeface="Arial"/>
              </a:rPr>
              <a:t>Na vaccinatie ontstaat bij de grote meerderheid van de gevaccineerden anti-HBsAg, dit zijn antistoffen gericht tegen het hepatitis B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4762440" y="2362320"/>
            <a:ext cx="3767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1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272400" y="98640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Bacteriologisch preparaat</a:t>
            </a:r>
            <a:br>
              <a:rPr sz="3200"/>
            </a:br>
            <a:br>
              <a:rPr sz="3200"/>
            </a:b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microscopisch onderzoek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ateriaal aanbrengen op objectgl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 aan de luch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xe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acteriën dode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Hechting materia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eleiwitten kapot, beter kleuropnam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leur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og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Beoordel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2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micro (9K)"/>
          <p:cNvPicPr/>
          <p:nvPr/>
        </p:nvPicPr>
        <p:blipFill>
          <a:blip r:embed="rId1"/>
          <a:stretch/>
        </p:blipFill>
        <p:spPr>
          <a:xfrm>
            <a:off x="5105520" y="1943280"/>
            <a:ext cx="3276360" cy="245736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micro5 (8K)"/>
          <p:cNvPicPr/>
          <p:nvPr/>
        </p:nvPicPr>
        <p:blipFill>
          <a:blip r:embed="rId2"/>
          <a:stretch/>
        </p:blipFill>
        <p:spPr>
          <a:xfrm rot="9581400">
            <a:off x="2811600" y="3409560"/>
            <a:ext cx="2133360" cy="2144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micro3 (10K)"/>
          <p:cNvPicPr/>
          <p:nvPr/>
        </p:nvPicPr>
        <p:blipFill>
          <a:blip r:embed="rId3"/>
          <a:stretch/>
        </p:blipFill>
        <p:spPr>
          <a:xfrm>
            <a:off x="762120" y="1371600"/>
            <a:ext cx="2971800" cy="222876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 txBox="1"/>
          <p:nvPr/>
        </p:nvSpPr>
        <p:spPr>
          <a:xfrm>
            <a:off x="4948920" y="834120"/>
            <a:ext cx="3665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66"/>
                </a:solidFill>
                <a:latin typeface="Arial"/>
              </a:rPr>
              <a:t>voedingsbodem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methyleenblauw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</a:t>
            </a: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de vorm</a:t>
            </a: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van de bacterië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okken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tav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898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898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898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10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898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6666"/>
                </a:solidFill>
                <a:latin typeface="Arial"/>
              </a:rPr>
              <a:t>Gram-kleuring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vorm van de bacterie en…</a:t>
            </a:r>
            <a:br>
              <a:rPr sz="2800"/>
            </a:b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Geeft informatie over de eigenschappen van de wand van de bacteri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58760" y="250920"/>
            <a:ext cx="8985240" cy="61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3366"/>
                </a:solidFill>
                <a:latin typeface="Arial"/>
              </a:rPr>
              <a:t>Gram-kleur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met bacteriën behandelen met kristalviolet en jodium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Oplossen kristalviolet-jodium-verbinding door ethano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Nabehandeling met fuchsine of saffranine (rode kleursto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Preparaat bekijken onder de microscoop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9900cc"/>
                </a:solidFill>
                <a:latin typeface="Arial"/>
              </a:rPr>
              <a:t>paars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Gram-positief (verbinding niet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Bacteriën </a:t>
            </a:r>
            <a:r>
              <a:rPr b="0" lang="nl-NL" sz="2400" spc="-1" strike="noStrike">
                <a:solidFill>
                  <a:srgbClr val="f60000"/>
                </a:solidFill>
                <a:latin typeface="Arial"/>
              </a:rPr>
              <a:t>rood</a:t>
            </a:r>
            <a:r>
              <a:rPr b="0" lang="nl-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sz="2400" spc="-1" strike="noStrike">
                <a:solidFill>
                  <a:srgbClr val="003366"/>
                </a:solidFill>
                <a:latin typeface="Wingdings"/>
                <a:ea typeface="Wingdings"/>
              </a:rPr>
              <a:t></a:t>
            </a:r>
            <a:r>
              <a:rPr b="0" sz="2400" spc="-1" strike="noStrike">
                <a:solidFill>
                  <a:srgbClr val="003366"/>
                </a:solidFill>
                <a:latin typeface="Arial"/>
              </a:rPr>
              <a:t> Gram-negatief (verbinding opgelost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003366"/>
                </a:solidFill>
                <a:latin typeface="Arial"/>
              </a:rPr>
              <a:t>Tevens onderscheid tussen staven en kokke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endParaRPr b="0" lang="en-US" sz="28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762120" y="1523880"/>
            <a:ext cx="7315200" cy="52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f60000"/>
                </a:solidFill>
                <a:latin typeface="Arial"/>
              </a:rPr>
              <a:t>Gram-nega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meningokokken (meningitis: hersenvlies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gonokokken (gonorro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E.coli 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yfusbacterië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oorbeelden </a:t>
            </a:r>
            <a:r>
              <a:rPr b="0" lang="nl-NL" sz="2000" spc="-1" strike="noStrike">
                <a:solidFill>
                  <a:srgbClr val="9900cc"/>
                </a:solidFill>
                <a:latin typeface="Arial"/>
              </a:rPr>
              <a:t>Gram-positieve</a:t>
            </a: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 bacterië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afylokokken (MRS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streptokokken (keel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pneumokokken (longontstek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  <a:ea typeface="Arial"/>
              </a:rPr>
              <a:t>tuberkelbacteriën (tuberculose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3366"/>
                </a:solidFill>
                <a:latin typeface="Arial"/>
              </a:rPr>
              <a:t>Veroorzakers urineweginfectie meestal Gram-negatief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09:04:52Z</dcterms:created>
  <dc:creator>Haverkort</dc:creator>
  <dc:description/>
  <dc:language>en-US</dc:language>
  <cp:lastModifiedBy>Haverkort</cp:lastModifiedBy>
  <dcterms:modified xsi:type="dcterms:W3CDTF">2010-09-19T10:56:20Z</dcterms:modified>
  <cp:revision>1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