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7B12B-37EB-4927-9958-F9EC43BCD44B}" type="slidenum">
              <a:rPr b="0" lang="nl-N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9F1A4-364F-475C-B1FC-595855236E00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D9E35-29F2-4C29-8D52-A4D01BFF8D86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BF1BC-1097-4D49-A9E4-F7D491E0652B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48EB3-8C2A-4C80-BC7A-437D3D2F0422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E6455-D943-4946-B7B8-A30EBBBF37A4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FB778B-3491-4057-AB45-FF655AB304A3}" type="slidenum">
              <a:rPr b="0" lang="nl-NL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FC5C6-BC9A-4FF5-966D-A448C0F96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97F2-3D7D-42D6-A8EF-11E5BF49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6E1B-6806-412B-ACBB-CC80CAB76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F2A2B-48E9-4959-B4DF-DD6743303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D6190-3812-49B1-BBD9-06B38E1E0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2265-01B8-40CF-B727-1C3426CF0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D7E1-8165-4A30-A2C6-8A177418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5BBB1-FFF8-4A90-ADB9-2B3F2BA71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3CC3-1896-47CB-B2C5-417633F1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A37F0-E702-4CEF-A1D1-1575EE0EA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A7B0B-E2DA-4B1A-907C-9BEDBCBB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7FD5C-9551-46D2-8273-794F4A76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B4E19-18CD-4035-9EE9-44D2BCB3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D46FD-B1EC-4FA2-9051-A955F6C57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83160-FBD8-4ECF-BDCE-4F139BE93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49E96-3DE9-4DEF-9FB4-672FF47A1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A31B3-A3D2-4F6D-88CA-943E1EF18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8ED7-737D-4C62-875A-652346CF0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A3455-CA22-44F2-967F-80895B79F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01DBC-866B-400C-AFE6-E054BFA2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82893-3D88-4946-AA0F-2BBA1C75B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0808-A8CA-471B-80AE-446F4F08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0871B-C6EE-4093-995D-B076FF9F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C9CF-B0B3-46DD-882F-0179D3FA0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4E1767-737F-45F0-A41E-71EFCF21B385}" type="slidenum">
              <a:rPr b="0" lang="nl-NL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258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82582e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80088-A926-43E3-9ED0-8EFFC7325E5C}" type="slidenum">
              <a:rPr b="0" lang="nl-NL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Geproduceerd in ni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Bevat onbruikbare stoffen, veelal eindproducten stofwissel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Voorbeelden: natrium, kalium, ureum, kreatinine, chloor, fosfaa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Laboratoriumonderzoek geeft informatie over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le stofwisselingsstoorniss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Werking van organ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dbbd71"/>
                </a:solidFill>
                <a:latin typeface="Arial"/>
              </a:rPr>
              <a:t>urine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4330800" cy="47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Diurese: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uitscheiding van ur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Oligurie: uitscheiding ↓ (opname ↓, afgifte ↑, oedeem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Polyurie: uitscheiding ↑ (opname ↑, D.M., nieraandoening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ahoma"/>
              </a:rPr>
              <a:t>Anurie: tijdelijk geen uitscheiding (prostaatvergroting, stene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AutoShape 10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AutoShape 12"/>
          <p:cNvSpPr/>
          <p:nvPr/>
        </p:nvSpPr>
        <p:spPr>
          <a:xfrm>
            <a:off x="16344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5" name="Picture 13" descr="Pl_doorsnedenier"/>
          <p:cNvPicPr/>
          <p:nvPr/>
        </p:nvPicPr>
        <p:blipFill>
          <a:blip r:embed="rId1"/>
          <a:stretch/>
        </p:blipFill>
        <p:spPr>
          <a:xfrm>
            <a:off x="4932360" y="1989000"/>
            <a:ext cx="388944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Text Box 2"/>
          <p:cNvSpPr/>
          <p:nvPr/>
        </p:nvSpPr>
        <p:spPr>
          <a:xfrm>
            <a:off x="222480" y="250920"/>
            <a:ext cx="842076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schillende soorten urineonderzoek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Fysisch (volume, kleur, helderheid, ge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Chemisch (stoffen aan te tonen met chemische reacti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litatief: aanwezig of niet (neg, </a:t>
            </a:r>
            <a:r>
              <a:rPr b="0" lang="nl-NL" sz="1800" spc="-1" strike="noStrike">
                <a:solidFill>
                  <a:srgbClr val="ffffff"/>
                </a:solidFill>
                <a:latin typeface="Tahoma"/>
              </a:rPr>
              <a:t>1+, 2+, 3+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emi-kwantitatief: indruk hoeveelheid (niet exac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wantitatief: exacte hoeveelheid (mmol/l,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µ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ol/24u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Microscopisch (urinesedi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2"/>
          <p:cNvSpPr/>
          <p:nvPr/>
        </p:nvSpPr>
        <p:spPr>
          <a:xfrm>
            <a:off x="158760" y="351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dbbd71"/>
                </a:solidFill>
                <a:latin typeface="Arial"/>
              </a:rPr>
              <a:t>Urineonderzoek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eestal voorkeur verse ochtendurine, soms 24-uursurin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erse 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Kleur en pH niet verand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Minder troebelingen door bacteriegroei en zoutneersla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Eventueel aanwezige aceton niet vervluchtig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Ochtendurine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Voordeel: vrij sterk geconcentreer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ffffff"/>
                </a:solidFill>
                <a:latin typeface="Tahoma"/>
              </a:rPr>
              <a:t>Nadeel: bij lichte diabetes kan glucose gemist word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push dir="r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0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2"/>
          <p:cNvSpPr/>
          <p:nvPr/>
        </p:nvSpPr>
        <p:spPr>
          <a:xfrm>
            <a:off x="185760" y="250920"/>
            <a:ext cx="729288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24-uursurine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zameld over precies 24 u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eerst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niet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chtendurine tweede dag </a:t>
            </a: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wel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meenem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 u="sng">
                <a:solidFill>
                  <a:srgbClr val="ffffff"/>
                </a:solidFill>
                <a:uFillTx/>
                <a:latin typeface="Arial"/>
              </a:rPr>
              <a:t>All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tussentijds geproduceerde urine verzam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Text Box 2"/>
          <p:cNvSpPr/>
          <p:nvPr/>
        </p:nvSpPr>
        <p:spPr>
          <a:xfrm>
            <a:off x="158760" y="476280"/>
            <a:ext cx="89726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Fysisch urineonderzoek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oeveelheid: 1-2 liter per da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                    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SPEC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leur: helder geel, voornamelijk door urochro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Helderheid: verse urine is helder. Na afkoeling soms troebel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ur: bouillonachtig. Soms afwijkend door voeding of medicati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Text Box 2"/>
          <p:cNvSpPr/>
          <p:nvPr/>
        </p:nvSpPr>
        <p:spPr>
          <a:xfrm>
            <a:off x="158760" y="250920"/>
            <a:ext cx="1843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Urine</a:t>
            </a:r>
            <a:endParaRPr b="0" lang="en-US" sz="32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Tahoma"/>
              </a:rPr>
              <a:t>Semi-kwantitatief chemisch urineonderzoek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Tahoma"/>
              </a:rPr>
              <a:t>-&gt; volgt bij urinestickreac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1T13:23:04Z</dcterms:created>
  <dc:creator>Harry Kuipers</dc:creator>
  <dc:description/>
  <dc:language>en-US</dc:language>
  <cp:lastModifiedBy>Haverkort</cp:lastModifiedBy>
  <dcterms:modified xsi:type="dcterms:W3CDTF">2015-10-07T18:10:47Z</dcterms:modified>
  <cp:revision>29</cp:revision>
  <dc:subject/>
  <dc:title>Dia 1</dc:title>
</cp:coreProperties>
</file>