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9AD7-1AEA-427B-BD1B-3CC78E596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0C8B0-47A8-4A94-B0B0-BD77FE1A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A2DF2-DD86-411C-B829-770F970D5D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4BA6D5-C366-430C-92D8-98A9526B04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19796-F55B-4C20-AFC8-4AA10405F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C0592-A160-40BA-B73A-B47B92E2AF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F0ED-D71D-4379-9646-5187D408C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2C8E-C040-4D59-BE9B-AA7D708C1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0861E-3ECC-4F2E-B530-FB57EDF4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64B73-EC84-4CE3-A26C-EF7A1981E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27F37-681A-4DBE-96B1-8828DE45D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1189BF-2EBF-44A9-9119-2CF92C459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1B101-787E-48BB-B478-CDCF31B42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D420E-F370-4ED4-A00B-34AC386DE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F9387-B1AB-4133-B7EC-190098B21F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D68AD-8B97-4B1E-966E-4BF8D3521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560B5-FE0B-48CC-9BA9-5B70D3206E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69E6B-18A0-47A1-9FA7-C6AC9A45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0399D3-42F3-4842-A12A-CFE33D4BB8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3FED6-D936-4C32-B10B-2E1226EDA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BACA59-FD7A-4A81-906B-A2702D428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70504A-EBD7-4F64-A36C-12CFC92D7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C15F12-AE93-44DB-9FC5-ACC1D52F9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63BC19-68C6-4359-9227-A4AC31063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59864-5764-46E6-AC32-7D8D8BE4A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29516E-F4BA-44E4-8386-589C9FEF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92647-CC27-4C13-8D36-3BA9D5CE4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6A4EE9-6BDF-44DF-9157-F9EE1443C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EF7E2A-523B-4242-AD73-F35E017F0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DC59E0-E6FC-4558-B1E5-F59706B65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90CD7F-43FB-4B6B-A1EC-DEDCA9C39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480B53-1CB9-45C7-8409-1B2F19B0B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BA55E8-AEE6-4920-AF10-E4CE50959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6BE1C3-F73E-4379-B2AC-59D3755E3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340F86-E4C9-428D-AF43-08D6C2FB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D3291A-18A2-4CC9-AEC9-B820ED89D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3605C-372C-40D4-AD35-02A012D33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4F21F-34BA-4604-94E1-D38D1A08B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48E0E-2187-45C2-A21E-B784D08B5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6903C05-78F7-4E36-B05F-6FE6436031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14020C-F395-4923-A1A2-67DE74484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B1D0BF-5AFF-4755-B02D-3D1B57AA7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FC3090-C9A6-49E1-AD34-A5F3E070C6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6E9E33-F1A6-4F40-BF90-681B9FE82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3B7A1-BDAF-4FEE-82AB-3015DE1B6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1C5F76-560E-4B15-87C5-44836BD3E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78E75A-8CA0-4EDB-B815-ACBF9A7F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A3A4CC-A5D9-412D-BA27-516605DBA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FC713-7C2E-4842-92F9-3AA550E8CB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08D5C-7C2D-4603-94D8-E47E2BA182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71513-A82F-4B0D-A085-B169ED1EDCF3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29B43-705E-4E74-9BFA-A177CCACF2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457200" y="685800"/>
            <a:ext cx="739152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zwak 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laag: veel eiwit, koorts, jicht, C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H te hoog: urineweginfectie, hyperventila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verandert van kleur (mengindicato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ebruik verse urine i.v.m. kans op foutief verhoogde 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000" spc="-1" strike="noStrike">
                <a:solidFill>
                  <a:srgbClr val="ffffff"/>
                </a:solidFill>
                <a:latin typeface="Garamond"/>
              </a:rPr>
              <a:t>Semi-kwantitatief chemisch urineonderzoek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158760" y="250920"/>
            <a:ext cx="898524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Snel inzicht in kiemgetal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Kiemgetal: aantal bacteriën per ml ur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 diagnose cysitis (blaa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beide zijden voedingsbodem met suikers, eiwitten 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één kant groeien allee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Aan andere kant Gram-positieve én Gram-negatieve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ffffff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ffffff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e5ffff"/>
                </a:solidFill>
                <a:latin typeface="Tahoma"/>
              </a:rPr>
              <a:t>Gram positieve en negatieve bacterie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457200" y="2814480"/>
            <a:ext cx="4038480" cy="244800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648320" y="2725560"/>
            <a:ext cx="4038480" cy="26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58760" y="250920"/>
            <a:ext cx="8985240" cy="655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</a:t>
            </a:r>
            <a:r>
              <a:rPr b="0" lang="nl-NL" sz="2400" spc="-1" strike="noStrike">
                <a:solidFill>
                  <a:srgbClr val="ff0000"/>
                </a:solidFill>
                <a:latin typeface="Arial"/>
              </a:rPr>
              <a:t>Gram-negatieve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gonokokken (gonorro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.coli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yfus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oorbeelden Gram-positieve</a:t>
            </a:r>
            <a:r>
              <a:rPr b="0" lang="nl-NL" sz="1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acterië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afylokokken (MRS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streptokokken (keel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pneumokokken (longontsteki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uberkelbacteriën (tuberculos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Veroorzakers urineweginfectie meestal Gram-negatie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58760" y="250920"/>
            <a:ext cx="8985240" cy="58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ffffff"/>
                </a:solidFill>
                <a:latin typeface="Arial"/>
              </a:rPr>
              <a:t>Dipslid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Gebruik gewassen mid-stream ochtendurine (max. 2 uur oud!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Dus voor urineren blaasuitgang wa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Eerste deel van de plas niet opvan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Na 16-24 uur bij 37°C incuberen resultaat aflez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Gram-negatieve bacteriën/ml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Bij minder da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geen urineweginfe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Tuss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4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en 10</a:t>
            </a:r>
            <a:r>
              <a:rPr b="0" lang="nl-NL" sz="2400" spc="-1" strike="noStrike" baseline="30000">
                <a:solidFill>
                  <a:srgbClr val="ffffff"/>
                </a:solidFill>
                <a:latin typeface="Arial"/>
              </a:rPr>
              <a:t>5</a:t>
            </a:r>
            <a:r>
              <a:rPr b="0" lang="nl-NL" sz="2400" spc="-1" strike="noStrike">
                <a:solidFill>
                  <a:srgbClr val="ffffff"/>
                </a:solidFill>
                <a:latin typeface="Arial"/>
              </a:rPr>
              <a:t> bacteriën/ml test herha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609480" y="380880"/>
            <a:ext cx="7696440" cy="57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Glucos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ierdrempel glucose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±10 mmol/l, indien hoger: glucos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(redoxreactie)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lucose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G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gluconzuur +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indicator + POD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 + O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+ kleuromsla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914400" y="457200"/>
            <a:ext cx="7696080" cy="63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iwit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eiwitvrij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Eiwit in urine: proteïnurie of albuminur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van belang voor diagnostiek van nierziek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Kwalitatieve bepaling door teststrook of troebelingsreact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: aanwezig eiwit (zure urine)verkleurt de zuur-base indicator, geel -&gt; (licht) gro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Troebelingsreactie: koken in zuur milieu geeft troebeling (kookproef  van Ba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914400" y="609480"/>
            <a:ext cx="72388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Nitri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urineweginfecties door E.coli, Klebsiella e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 alleen voor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nitrietvormen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acterië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verige bacteriën aantonen d.m.v. dipslide en/of sedi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j voorkeur verse ochtendurine gebruik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romatisch amine + nitrie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-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14400" y="914400"/>
            <a:ext cx="69343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Leuk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ontstekingen va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eucocytenesterase splitst stof teststrookje, kleuromslag beige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-violett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eststrook alleen gevoelig voor granulocyt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685800" y="914400"/>
            <a:ext cx="792468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Erythrocyten e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af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bloedingen en ontstekingen in urinew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2 H2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2 H2O + O2 o.i.v. pod activiteit h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ndicator + O2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blauwe/groene 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vrij Hb hoger dan voor intacte ery’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914400" y="533520"/>
            <a:ext cx="7848720" cy="512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Keton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geen ketonen aanwezi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ketonen met teststrook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itroprusside-natrium + ketonen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paars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lleen reactie met aceton en acetylazijnzu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evoeligheid voor acetylazijnzuur 10x hoger dan voor acet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380880" y="533520"/>
            <a:ext cx="822960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Biliru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niet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: afsluiting galtoevoer (stenen), leverziekten (hepatiti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Urine donker bewaren i.v.m. afbraak bilirubine o.i.v. UV-lich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schudproef: na schudden geel schui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ilirubine + diazoniumzou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roze/paars in zuur mili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38080" y="914400"/>
            <a:ext cx="7086600" cy="59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ffffff"/>
                </a:solidFill>
                <a:latin typeface="Arial"/>
              </a:rPr>
              <a:t>Urobilinoge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Afbraakproduct van hemoglob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Arial"/>
                <a:ea typeface="Arial"/>
              </a:rPr>
              <a:t>Normaal spoortje aanwezi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erse urine gebruiken i.v.m. omzetting in urobiline o.i.v. O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.a. bij ernstige hemolyse of leverfunctiestoorniss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epaling d.m.v. teststrook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robilinogeen geeft in zuur milieu een rode kleu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9T19:31:38Z</dcterms:created>
  <dc:creator>Haverkort</dc:creator>
  <dc:description/>
  <dc:language>en-US</dc:language>
  <cp:lastModifiedBy>Haverkort</cp:lastModifiedBy>
  <dcterms:modified xsi:type="dcterms:W3CDTF">2010-06-07T14:04:15Z</dcterms:modified>
  <cp:revision>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