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A63FD5-1B75-47E5-BC03-E6A127BBB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0C0AE5-4DB3-44E0-9824-14BCA000C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699C83-1A8E-417B-A984-C2A5CF006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0EC511-40AD-4A74-A615-9D42691F9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B5A73-F759-4192-BFBF-C91119697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18402-2E4E-42DC-B086-EC2CFBE72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E9BE9-664D-43BC-906E-27271DD49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FE7C9-994B-48AA-940E-0D8407860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3D10F-F34D-4E2A-8DEF-5F6B802DD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BF23F-F6AF-4B26-83C7-05B17A7D0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ED13E-BC5B-4DFA-8867-56FA989CB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EC2922-8F94-4EA6-97C4-2E2410EC4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D81DC-456D-4A53-860C-55B155D58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ED045-F6FE-4090-942D-87E864A95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932A4-D843-4D51-8637-0022B1551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43D63-4FF4-407B-B543-E78C3F557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BDA4F-E4F5-47A6-9865-199F1076B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47B529-2DD0-4FA7-A728-AA4E53730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3FB5F1-32FD-433A-8DE9-528056CC5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414A85-A9A6-429D-8FA2-39CE04D84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3E7047-E071-45DB-B0C8-5CF7CF1FC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742308-2A58-4EC8-85D1-BEE7DA787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93A37F-DA45-4C19-9776-F490D20E0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28360F-9EAE-45A9-9BA0-85C638CCA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4D29BD-F719-4B67-863E-6EC88EF4A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C002DB-D12A-4A9A-9E57-55EAD8E97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46045F-F44D-4671-98BB-44AC2444B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193FDE-1171-4C6C-AB00-DB5CA0FC5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8F4C76-6A8B-48A2-AE05-7FB44CD69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CBA474-0808-4C82-97C2-67F514C52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9F31D8-4F63-47D7-B111-C66F4656F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D12435-8429-43EC-A6B8-368A5B23D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E95DE8-9BB6-40DB-84A9-E62F579AA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BF9433-3CE5-4805-8AE1-C490CD431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1F03B1-443F-4479-BB20-B06C71ACE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DBE6DF-B1D3-4E4B-89C4-63921707E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1CE292-01D3-4884-A147-034D8518D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509D24-9BFC-4D49-B218-D1C025F6E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1C0393-109B-4950-87DD-D89AF70F0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24C070-6CEA-4E57-8B90-4EDB0A893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E62DCB-CB14-491F-B4BD-8527C4095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5FD4F2-23E5-4632-B511-7C61F8C20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0EF697-4B00-405B-B664-7746E8228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14AAC8-1B3D-441A-8E28-AB98AC85F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0E52EC-3C61-4EBE-9FFF-409764449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BF0A46-72C0-4B84-8360-5E29BE0A5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84163F-BBD5-4245-9140-93AED87E1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096A68-AA0F-4321-BA20-18630B028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92C5A-24E8-4F2B-A128-F7EB2D7F97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BD529-B054-4348-9486-E706BECF87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010CF-2FBE-44D7-87AF-CC380B2267C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9934B-71A9-489D-9EE3-781BF5A0D8C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457200" y="685800"/>
            <a:ext cx="739152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p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Normaal zwak zu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pH te laag: veel eiwit, koorts, jicht, CAR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pH te hoog: urineweginfectie, hyperventilat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Bepaling d.m.v. teststrook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Indicator verandert van kleur (mengindicato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Gebruik verse urine i.v.m. kans op foutief verhoogde p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ffff"/>
                </a:solidFill>
                <a:latin typeface="Garamond"/>
              </a:rPr>
              <a:t>Semi-kwantitatief chemisch urineonderzoek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158760" y="250920"/>
            <a:ext cx="8985240" cy="50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Arial"/>
              </a:rPr>
              <a:t>Dipsli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Snel inzicht in kiemgetal bacterië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Kiemgetal: aantal bacteriën per ml ur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Voor diagnose cysitis (blaasontsteki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Aan beide zijden voedingsbodem met suikers, eiwitten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Aan één kant groeien alleen Gram-negatieve bacterië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Aan andere kant Gram-positieve én Gram-negatieve bacterië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58760" y="250920"/>
            <a:ext cx="8985240" cy="61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Arial"/>
              </a:rPr>
              <a:t>Gram-kleur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Preparaat met bacteriën behandelen met kristalviolet en jodiu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Oplossen kristalviolet-jodium-verbinding door ethano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Nabehandeling met fuchsine of saffranine (rode kleurstof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Preparaat bekijken onder de microscoo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acteriën </a:t>
            </a:r>
            <a:r>
              <a:rPr b="0" lang="nl-NL" sz="2400" spc="-1" strike="noStrike">
                <a:solidFill>
                  <a:srgbClr val="9900cc"/>
                </a:solidFill>
                <a:latin typeface="Arial"/>
              </a:rPr>
              <a:t>paars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Gram-positief (verbinding niet opgelos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acteriën </a:t>
            </a:r>
            <a:r>
              <a:rPr b="0" lang="nl-NL" sz="2400" spc="-1" strike="noStrike">
                <a:solidFill>
                  <a:srgbClr val="f60000"/>
                </a:solidFill>
                <a:latin typeface="Arial"/>
              </a:rPr>
              <a:t>rood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sz="2400" spc="-1" strike="noStrike">
                <a:solidFill>
                  <a:srgbClr val="ffffff"/>
                </a:solidFill>
                <a:latin typeface="Arial"/>
              </a:rPr>
              <a:t> Gram-negatief (verbinding opgelos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ffffff"/>
                </a:solidFill>
                <a:latin typeface="Arial"/>
              </a:rPr>
              <a:t>Tevens onderscheid tussen staven en kokk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e5ffff"/>
                </a:solidFill>
                <a:latin typeface="Tahoma"/>
              </a:rPr>
              <a:t>Gram positieve en negatieve bacterien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457200" y="2814480"/>
            <a:ext cx="4038480" cy="2448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648320" y="2725560"/>
            <a:ext cx="4038480" cy="26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58760" y="250920"/>
            <a:ext cx="8985240" cy="65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Arial"/>
              </a:rPr>
              <a:t>Gram-kleur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Voorbeelden </a:t>
            </a:r>
            <a:r>
              <a:rPr b="0" lang="nl-NL" sz="2400" spc="-1" strike="noStrike">
                <a:solidFill>
                  <a:srgbClr val="ff0000"/>
                </a:solidFill>
                <a:latin typeface="Arial"/>
              </a:rPr>
              <a:t>Gram-negatieve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bacterië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meningokokken (meningitis: hersenvliesontsteki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gonokokken (gonorro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E.coli bacterië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tyfusbacterië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Voorbeelden Gram-positieve</a:t>
            </a:r>
            <a:r>
              <a:rPr b="0" lang="nl-NL" sz="1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acterië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stafylokokken (MRS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streptokokken (keelontsteki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pneumokokken (longontsteki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tuberkelbacteriën (tuberculos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Veroorzakers urineweginfectie meestal Gram-negatie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158760" y="250920"/>
            <a:ext cx="8985240" cy="58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Arial"/>
              </a:rPr>
              <a:t>Dipsli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Gebruik gewassen mid-stream ochtendurine (max. 2 uur oud!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Dus voor urineren blaasuitgang wass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Eerste deel van de plas niet opvan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Na 16-24 uur bij 37°C incuberen resultaat aflez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ij 10</a:t>
            </a:r>
            <a:r>
              <a:rPr b="0" lang="nl-NL" sz="2400" spc="-1" strike="noStrike" baseline="30000">
                <a:solidFill>
                  <a:srgbClr val="ffffff"/>
                </a:solidFill>
                <a:latin typeface="Arial"/>
              </a:rPr>
              <a:t>5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Gram-negatieve bacteriën/ml urineweginfect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ij minder dan 10</a:t>
            </a:r>
            <a:r>
              <a:rPr b="0" lang="nl-NL" sz="2400" spc="-1" strike="noStrike" baseline="30000">
                <a:solidFill>
                  <a:srgbClr val="ffffff"/>
                </a:solidFill>
                <a:latin typeface="Arial"/>
              </a:rPr>
              <a:t>4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bacteriën/ml geen urineweginfect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Tussen 10</a:t>
            </a:r>
            <a:r>
              <a:rPr b="0" lang="nl-NL" sz="2400" spc="-1" strike="noStrike" baseline="30000">
                <a:solidFill>
                  <a:srgbClr val="ffffff"/>
                </a:solidFill>
                <a:latin typeface="Arial"/>
              </a:rPr>
              <a:t>4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en 10</a:t>
            </a:r>
            <a:r>
              <a:rPr b="0" lang="nl-NL" sz="2400" spc="-1" strike="noStrike" baseline="30000">
                <a:solidFill>
                  <a:srgbClr val="ffffff"/>
                </a:solidFill>
                <a:latin typeface="Arial"/>
              </a:rPr>
              <a:t>5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bacteriën/ml test herha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609480" y="380880"/>
            <a:ext cx="7696440" cy="57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Gluco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Normaal afwezi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Nierdrempel glucose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±10 mmol/l, indien hoger: glucosur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walitatieve bepaling door teststrook (redoxreactie)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lucose + 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+ 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 + GOD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gluconzuur + 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2 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+ indicator + POD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2 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 + 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+ kleuromsla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914400" y="457200"/>
            <a:ext cx="769608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Eiwitt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Normaal eiwitvrij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Eiwit in urine: proteïnurie of albuminur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Bepaling van belang voor diagnostiek van nierziekt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Kwalitatieve bepaling door teststrook of troebelingsreact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Teststrook: aanwezig eiwit (zure urine)verkleurt de zuur-base indicator, geel -&gt; (licht) gro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Troebelingsreactie: koken in zuur milieu geeft troebeling (kookproef  van Ba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914400" y="609480"/>
            <a:ext cx="7238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Nitri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rmaal afwezi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ij urineweginfecties door E.coli, Klebsiella e.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est alleen voor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nitrietvormen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bacterië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verige bacteriën aantonen d.m.v. dipslide en/of sedi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ij voorkeur verse ochtendurine gebruik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romatisch amine + nitrie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roze-rode kle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914400" y="914400"/>
            <a:ext cx="69343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Leukocyt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rmaal afwezi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.a. bij ontstekingen van urinew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epaling d.m.v. teststrook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eucocytenesterase splitst stof teststrookje, kleuromslag beige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blauw-violette kle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eststrook alleen gevoelig voor granulocyt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685800" y="914400"/>
            <a:ext cx="79246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Erythrocyten en hemoglob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rmaal afwezi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.a. bij bloedingen en ontstekingen in urinew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epaling d.m.v. teststrook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2 H2O2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2 H2O + O2 o.i.v. pod activiteit h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dicator + O2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blauwe/groene  kle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evoeligheid voor vrij Hb hoger dan voor intacte ery’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914400" y="533520"/>
            <a:ext cx="784872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Keton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rmaal geen ketonen aanwezi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epaling ketonen met teststrook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itroprusside-natrium + ketonen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paarse kle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lleen reactie met aceton en acetylazijnzu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evoeligheid voor acetylazijnzuur 10x hoger dan voor acet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380880" y="533520"/>
            <a:ext cx="82296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Bilirub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Afbraakproduct van hemoglob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Normaal niet aanwezi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O.a. bij: afsluiting galtoevoer (stenen), leverziekten (hepatiti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Urine donker bewaren i.v.m. afbraak bilirubine o.i.v. UV-lich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Bepaling d.m.v. schudproef: na schudden geel schui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epaling d.m.v. teststrook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ilirubine + diazoniumzou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roze/paars in zuur mili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838080" y="914400"/>
            <a:ext cx="70866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Urobilinoge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Afbraakproduct van hemoglob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Normaal spoortje aanwezi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erse urine gebruiken i.v.m. omzetting in urobiline o.i.v. O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.a. bij ernstige hemolyse of leverfunctiestoorniss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epaling d.m.v. teststrook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robilinogeen geeft in zuur milieu een rode kle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9T19:31:38Z</dcterms:created>
  <dc:creator>Haverkort</dc:creator>
  <dc:description/>
  <dc:language>en-US</dc:language>
  <cp:lastModifiedBy>Haverkort</cp:lastModifiedBy>
  <dcterms:modified xsi:type="dcterms:W3CDTF">2010-06-07T14:04:15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