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A90F0E-A681-4E98-86CA-40C0808B7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EA0FBC-7F89-47DB-94A2-487209438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E590B5-D54F-49B2-8B87-AB5DCCB05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0ACD7E-8427-44EC-836B-B858D8586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BC611-7DCD-419D-B569-2F830E007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E1E69-EDA8-46EF-BBC5-3EEC560FB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51F4E-53C4-42ED-9C72-000CA52DF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BEAB8-9590-4BB5-8708-4105B289D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B1A58-5E82-41F0-9889-7E630D137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F4F73-110E-4E72-B35E-26F200E4E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DB6ED-BDB6-48D5-83AD-7F134897D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BF157A-7AFF-4E1B-B428-136192CA8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D9CB0-108E-477A-B492-1C9AD1D40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B0C14-D873-464B-8293-6A3C7AD4D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462A7-752A-4F5C-B2DE-77A11838F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942D7-FCE9-4250-9675-9AFF3AE14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2EF8A-B3EE-4C51-BD8A-9C4329EE5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5BCF96-918F-46F3-BD66-B5E724714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1E444F-BA25-4475-828A-8A60FE560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69F2CB-26A9-40FC-A3E6-22E35C38E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C496BA-BE8D-4D8C-87E7-A3C36FE8D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8E91C3-A9EF-4F79-8178-03F58EDF5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DF577C-16F4-4908-A410-6D36DA068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CC3CAE-63FC-4DC5-A427-72E0B38EA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5ADFF7-5ACF-4ABD-8F93-5E9E77D99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3A1F6B-416F-492E-806E-BE38442AF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A8B408-26ED-469E-8C36-775CB569C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1A2649-9661-40B0-98CE-AD81D3C9F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55D01F-1571-45A1-9186-B3438B76C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6594B2-150D-4520-A323-BBCA56DBE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E7F972-F0D8-4667-916D-70E16A3D7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E36C2E-A37D-46E5-AC5E-0A87B38D5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181A61-B156-42EC-A9EC-4FA85959B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A7006F-BE85-4B60-B7B4-7308B1EBB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17B26D-B915-40C8-B712-8BAE07426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44A399-E731-48C9-B751-B4AC27B5A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DDE261-FD14-47B4-AB41-A3255F089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3F6E5F-A12F-4E9C-97DF-BDC4EB28F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BF5FCB-052E-496F-8831-DF4CE35DF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C9C564-815E-4F2C-ADFF-AB3227136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6F2B6C-A982-4092-A58A-B73FF6B98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EC442C-DD43-4D1F-8470-A42786F43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17B19F-1EBD-4843-9D1F-F2226908F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AEF8BA-8515-4FB3-AFDB-C8843986A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704B93-8E41-48A4-B4D6-AF27A51BA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9A4A5C-E408-47FA-B32D-683ED0552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AFF70B-2236-4577-9B46-598E058C1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B97BA1-FE4D-46CF-B94A-DF32EF2D4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2C5A6-1880-47A1-8827-ED7136B5EA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6315D-A2A0-436B-B936-C6F630583A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062DE-C4FF-4959-8759-B28ED95C603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C9363-3A04-4D13-9D6B-019EC4AE55D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457200" y="685800"/>
            <a:ext cx="739152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p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Normaal zwak zu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pH te laag: veel eiwit, koorts, jicht, CAR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pH te hoog: urineweginfectie, hyperventilat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Bepaling d.m.v. teststrook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Indicator verandert van kleur (mengindicato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Gebruik verse urine i.v.m. kans op foutief verhoogde p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ffff"/>
                </a:solidFill>
                <a:latin typeface="Garamond"/>
              </a:rPr>
              <a:t>Semi-kwantitatief chemisch urineonderzoek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158760" y="250920"/>
            <a:ext cx="8985240" cy="50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Arial"/>
              </a:rPr>
              <a:t>Dipsli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Snel inzicht in kiemgetal bacterië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Kiemgetal: aantal bacteriën per ml ur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Voor diagnose cysitis (blaasontsteki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Aan beide zijden voedingsbodem met suikers, eiwitten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Aan één kant groeien alleen Gram-negatieve bacterië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Aan andere kant Gram-positieve én Gram-negatieve bacterië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58760" y="250920"/>
            <a:ext cx="8985240" cy="61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Arial"/>
              </a:rPr>
              <a:t>Gram-kleur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Preparaat met bacteriën behandelen met kristalviolet en jodiu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Oplossen kristalviolet-jodium-verbinding door ethano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Nabehandeling met fuchsine of saffranine (rode kleurstof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Preparaat bekijken onder de microscoo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acteriën </a:t>
            </a:r>
            <a:r>
              <a:rPr b="0" lang="nl-NL" sz="2400" spc="-1" strike="noStrike">
                <a:solidFill>
                  <a:srgbClr val="9900cc"/>
                </a:solidFill>
                <a:latin typeface="Arial"/>
              </a:rPr>
              <a:t>paars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Gram-positief (verbinding niet opgelos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acteriën </a:t>
            </a:r>
            <a:r>
              <a:rPr b="0" lang="nl-NL" sz="2400" spc="-1" strike="noStrike">
                <a:solidFill>
                  <a:srgbClr val="f60000"/>
                </a:solidFill>
                <a:latin typeface="Arial"/>
              </a:rPr>
              <a:t>rood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sz="2400" spc="-1" strike="noStrike">
                <a:solidFill>
                  <a:srgbClr val="ffffff"/>
                </a:solidFill>
                <a:latin typeface="Arial"/>
              </a:rPr>
              <a:t> Gram-negatief (verbinding opgelos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ffffff"/>
                </a:solidFill>
                <a:latin typeface="Arial"/>
              </a:rPr>
              <a:t>Tevens onderscheid tussen staven en kokk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e5ffff"/>
                </a:solidFill>
                <a:latin typeface="Tahoma"/>
              </a:rPr>
              <a:t>Gram positieve en negatieve bacterien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457200" y="2814480"/>
            <a:ext cx="4038480" cy="2448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648320" y="2725560"/>
            <a:ext cx="4038480" cy="26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58760" y="250920"/>
            <a:ext cx="8985240" cy="65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Arial"/>
              </a:rPr>
              <a:t>Gram-kleur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Voorbeelden </a:t>
            </a:r>
            <a:r>
              <a:rPr b="0" lang="nl-NL" sz="2400" spc="-1" strike="noStrike">
                <a:solidFill>
                  <a:srgbClr val="ff0000"/>
                </a:solidFill>
                <a:latin typeface="Arial"/>
              </a:rPr>
              <a:t>Gram-negatieve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bacterië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meningokokken (meningitis: hersenvliesontsteki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gonokokken (gonorro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E.coli bacterië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tyfusbacterië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Voorbeelden Gram-positieve</a:t>
            </a:r>
            <a:r>
              <a:rPr b="0" lang="nl-NL" sz="1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acterië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stafylokokken (MRS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streptokokken (keelontsteki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pneumokokken (longontsteki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tuberkelbacteriën (tuberculos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Veroorzakers urineweginfectie meestal Gram-negatie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158760" y="250920"/>
            <a:ext cx="8985240" cy="58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Arial"/>
              </a:rPr>
              <a:t>Dipsli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Gebruik gewassen mid-stream ochtendurine (max. 2 uur oud!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Dus voor urineren blaasuitgang wass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Eerste deel van de plas niet opvan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Na 16-24 uur bij 37°C incuberen resultaat aflez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ij 10</a:t>
            </a:r>
            <a:r>
              <a:rPr b="0" lang="nl-NL" sz="2400" spc="-1" strike="noStrike" baseline="30000">
                <a:solidFill>
                  <a:srgbClr val="ffffff"/>
                </a:solidFill>
                <a:latin typeface="Arial"/>
              </a:rPr>
              <a:t>5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Gram-negatieve bacteriën/ml urineweginfect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ij minder dan 10</a:t>
            </a:r>
            <a:r>
              <a:rPr b="0" lang="nl-NL" sz="2400" spc="-1" strike="noStrike" baseline="30000">
                <a:solidFill>
                  <a:srgbClr val="ffffff"/>
                </a:solidFill>
                <a:latin typeface="Arial"/>
              </a:rPr>
              <a:t>4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bacteriën/ml geen urineweginfect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Tussen 10</a:t>
            </a:r>
            <a:r>
              <a:rPr b="0" lang="nl-NL" sz="2400" spc="-1" strike="noStrike" baseline="30000">
                <a:solidFill>
                  <a:srgbClr val="ffffff"/>
                </a:solidFill>
                <a:latin typeface="Arial"/>
              </a:rPr>
              <a:t>4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en 10</a:t>
            </a:r>
            <a:r>
              <a:rPr b="0" lang="nl-NL" sz="2400" spc="-1" strike="noStrike" baseline="30000">
                <a:solidFill>
                  <a:srgbClr val="ffffff"/>
                </a:solidFill>
                <a:latin typeface="Arial"/>
              </a:rPr>
              <a:t>5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bacteriën/ml test herha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609480" y="380880"/>
            <a:ext cx="7696440" cy="57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Gluco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Normaal afwezi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Nierdrempel glucose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±10 mmol/l, indien hoger: glucosur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walitatieve bepaling door teststrook (redoxreactie)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lucose + 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+ 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 + GOD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gluconzuur + 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2 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+ indicator + POD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2 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 + 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+ kleuromsla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914400" y="457200"/>
            <a:ext cx="769608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Eiwitt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Normaal eiwitvrij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Eiwit in urine: proteïnurie of albuminur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Bepaling van belang voor diagnostiek van nierziekt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Kwalitatieve bepaling door teststrook of troebelingsreact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Teststrook: aanwezig eiwit (zure urine)verkleurt de zuur-base indicator, geel -&gt; (licht) gro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Troebelingsreactie: koken in zuur milieu geeft troebeling (kookproef  van Ba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914400" y="609480"/>
            <a:ext cx="7238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Nitri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rmaal afwezi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ij urineweginfecties door E.coli, Klebsiella e.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est alleen voor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nitrietvormen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bacterië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verige bacteriën aantonen d.m.v. dipslide en/of sedi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ij voorkeur verse ochtendurine gebruik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romatisch amine + nitrie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roze-rode kle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914400" y="914400"/>
            <a:ext cx="69343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Leukocyt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rmaal afwezi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.a. bij ontstekingen van urinew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epaling d.m.v. teststrook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eucocytenesterase splitst stof teststrookje, kleuromslag beige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blauw-violette kle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eststrook alleen gevoelig voor granulocyt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685800" y="914400"/>
            <a:ext cx="79246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Erythrocyten en hemoglob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rmaal afwezi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.a. bij bloedingen en ontstekingen in urinew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epaling d.m.v. teststrook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2 H2O2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2 H2O + O2 o.i.v. pod activiteit h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dicator + O2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blauwe/groene  kle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evoeligheid voor vrij Hb hoger dan voor intacte ery’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914400" y="533520"/>
            <a:ext cx="784872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Keton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rmaal geen ketonen aanwezi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epaling ketonen met teststrook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itroprusside-natrium + ketonen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paarse kle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lleen reactie met aceton en acetylazijnzu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evoeligheid voor acetylazijnzuur 10x hoger dan voor acet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380880" y="533520"/>
            <a:ext cx="82296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Bilirub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Afbraakproduct van hemoglob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Normaal niet aanwezi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O.a. bij: afsluiting galtoevoer (stenen), leverziekten (hepatiti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Urine donker bewaren i.v.m. afbraak bilirubine o.i.v. UV-lich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Bepaling d.m.v. schudproef: na schudden geel schui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epaling d.m.v. teststrook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ilirubine + diazoniumzou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roze/paars in zuur mili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838080" y="914400"/>
            <a:ext cx="70866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Urobilinoge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Afbraakproduct van hemoglob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Normaal spoortje aanwezi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erse urine gebruiken i.v.m. omzetting in urobiline o.i.v. O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.a. bij ernstige hemolyse of leverfunctiestoorniss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epaling d.m.v. teststrook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robilinogeen geeft in zuur milieu een rode kle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9T19:31:38Z</dcterms:created>
  <dc:creator>Haverkort</dc:creator>
  <dc:description/>
  <dc:language>en-US</dc:language>
  <cp:lastModifiedBy>Haverkort</cp:lastModifiedBy>
  <dcterms:modified xsi:type="dcterms:W3CDTF">2010-06-07T14:04:15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