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77A4-F07A-425B-A2C6-A8D35147F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83AB-1D98-472A-A765-7E4DAD88C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896A-1215-4DF2-838F-0E27A3870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9D99-ED9E-461D-A6BD-4882B5202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54E2A-FDDB-403D-B491-0148F04B9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F169A-8755-47D0-9999-31867E929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E6462-940D-4835-A7A4-C15D7D22B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B803D-929F-42AB-A4EE-EE7700599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9514B-7D82-41DF-899F-A25E1EC12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28CDC-EA8B-4933-8325-A0F342C08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A6BBD-0E5C-4593-931A-204715761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E982-206F-47A7-9475-EAF5CEC4B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B56C3-514E-4684-A769-0DCBF742E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8A782-506B-4A1E-9E24-EE3FA1722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09363-6064-4A74-A033-C3F9556EB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D2CB1-62E5-4ED6-BABD-1CA579A9D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1D0B4-67FF-482C-A2ED-55F11B6B8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FFBC-CE2A-44C5-A843-7EED2A1BE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3D6F-18AB-45CF-9E25-99B44A77A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A806-46D2-4440-B71E-7BC4EF830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AB21-38B4-4844-9532-EB552C7D4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EFBF-A076-4952-B286-727CE55F1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D513-87F9-43CC-A361-16BAFC7EE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3BD5-C064-4B3D-A1B6-9341395C3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DAEF6-1910-4BCF-B130-0606DCC9F866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F5BA5-3CCC-46A2-AF36-44BCD96201DC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nl.wikipedia.org/wiki/Bestand:Bacillus_subtilis_Gram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Basiskennis bacteriologisch onderzoek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rondvorm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psporen van ziekteverwekkende bacterië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acteriologisch prepara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Gram positieve en negatieve bacterië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838080" y="3116160"/>
            <a:ext cx="3775320" cy="22161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756320" y="3036960"/>
            <a:ext cx="377496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89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rondvorme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1760" y="2285640"/>
            <a:ext cx="4267080" cy="38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Coccus of ko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Diploko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Streptoko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Stafyloko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Bacil of staaf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19720" y="2438280"/>
            <a:ext cx="407664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63280" y="863280"/>
            <a:ext cx="772164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Opsporen van ziekteverwekkende bacteriën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Bacteriologisch onderzoe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Microscopisch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Kweekproef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DNA-onderzoek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Resistentietes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Immunologisch onderzoe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Na vaccinatie ontstaat bij de grote meerderheid van de gevaccineerden anti-HBsAg, dit zijn antistoffen gericht tegen het hepatitis B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762440" y="2362320"/>
            <a:ext cx="376704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3272400" y="9864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Bacteriologisch preparaat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microscopisch onderzoek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teriaal aanbrengen op objectgl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rogen aan de luch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ixer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acteriën dode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Hechting materiaa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eleiwitten kapot, beter kleuropnam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Kleur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rog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eoordel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micro (9K)"/>
          <p:cNvPicPr/>
          <p:nvPr/>
        </p:nvPicPr>
        <p:blipFill>
          <a:blip r:embed="rId1"/>
          <a:stretch/>
        </p:blipFill>
        <p:spPr>
          <a:xfrm>
            <a:off x="5105520" y="1943280"/>
            <a:ext cx="3276360" cy="24573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micro5 (8K)"/>
          <p:cNvPicPr/>
          <p:nvPr/>
        </p:nvPicPr>
        <p:blipFill>
          <a:blip r:embed="rId2"/>
          <a:stretch/>
        </p:blipFill>
        <p:spPr>
          <a:xfrm rot="9581400">
            <a:off x="2811600" y="3409560"/>
            <a:ext cx="2133360" cy="21448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micro3 (10K)"/>
          <p:cNvPicPr/>
          <p:nvPr/>
        </p:nvPicPr>
        <p:blipFill>
          <a:blip r:embed="rId3"/>
          <a:stretch/>
        </p:blipFill>
        <p:spPr>
          <a:xfrm>
            <a:off x="762120" y="1371600"/>
            <a:ext cx="2971800" cy="22287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4948920" y="834120"/>
            <a:ext cx="36651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voedingsbodem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methyleenblauwkleur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eeft informatie over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de vorm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van de bacterië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Kokken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tav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898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898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898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898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Gram-kleur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eeft informatie over de vorm van de bacterie en…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eeft informatie over de eigenschappen van de wand van de bacteri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58760" y="250920"/>
            <a:ext cx="8985240" cy="61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3366"/>
                </a:solidFill>
                <a:latin typeface="Arial"/>
              </a:rPr>
              <a:t>Gram-kleuring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Preparaat met bacteriën behandelen met kristalviolet en jodiu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Oplossen kristalviolet-jodium-verbinding door ethano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Nabehandeling met fuchsine of saffranine (rode kleurstof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Preparaat bekijken onder de microscoop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Bacteriën </a:t>
            </a:r>
            <a:r>
              <a:rPr b="0" lang="nl-NL" sz="2400" spc="-1" strike="noStrike">
                <a:solidFill>
                  <a:srgbClr val="9900cc"/>
                </a:solidFill>
                <a:latin typeface="Arial"/>
              </a:rPr>
              <a:t>paars</a:t>
            </a: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 Gram-positief (verbinding niet opgelost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Bacteriën </a:t>
            </a:r>
            <a:r>
              <a:rPr b="0" lang="nl-NL" sz="2400" spc="-1" strike="noStrike">
                <a:solidFill>
                  <a:srgbClr val="f60000"/>
                </a:solidFill>
                <a:latin typeface="Arial"/>
              </a:rPr>
              <a:t>rood</a:t>
            </a: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sz="2400" spc="-1" strike="noStrike">
                <a:solidFill>
                  <a:srgbClr val="003366"/>
                </a:solidFill>
                <a:latin typeface="Arial"/>
              </a:rPr>
              <a:t> Gram-negatief (verbinding opgelost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66"/>
                </a:solidFill>
                <a:latin typeface="Arial"/>
              </a:rPr>
              <a:t>Tevens onderscheid tussen staven en kokk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62120" y="1523880"/>
            <a:ext cx="7315200" cy="52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Voorbeelden </a:t>
            </a:r>
            <a:r>
              <a:rPr b="0" lang="nl-NL" sz="2000" spc="-1" strike="noStrike">
                <a:solidFill>
                  <a:srgbClr val="f60000"/>
                </a:solidFill>
                <a:latin typeface="Arial"/>
              </a:rPr>
              <a:t>Gram-negatieve</a:t>
            </a: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 bacteriën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meningokokken (meningitis: hersenvliesontstek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gonokokken (gonorro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E.coli bacterië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tyfusbacterië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Voorbeelden </a:t>
            </a:r>
            <a:r>
              <a:rPr b="0" lang="nl-NL" sz="2000" spc="-1" strike="noStrike">
                <a:solidFill>
                  <a:srgbClr val="9900cc"/>
                </a:solidFill>
                <a:latin typeface="Arial"/>
              </a:rPr>
              <a:t>Gram-positieve</a:t>
            </a: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 bacteriën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stafylokokken (MRSA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streptokokken (keelontstek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pneumokokken (longontstek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tuberkelbacteriën (tuberculos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Veroorzakers urineweginfectie meestal Gram-negatief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9T09:04:52Z</dcterms:created>
  <dc:creator>Haverkort</dc:creator>
  <dc:description/>
  <dc:language>en-US</dc:language>
  <cp:lastModifiedBy>Haverkort</cp:lastModifiedBy>
  <dcterms:modified xsi:type="dcterms:W3CDTF">2010-09-19T10:56:20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