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9ECEB5-ECF7-4730-A5E0-D1CD594857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814E3-98E4-428A-A4F2-47758E16F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AB0BD-9668-4719-B3EA-4E378EFAA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473FB-2E14-4BCB-A8F7-6749D531A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3FF66F-7435-4455-AC37-3F118C8A00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B6F8A-E72B-4424-84BB-62D3A35AC1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B77C2C-10ED-4AFC-8591-4C73F123A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E29449-9075-4B3E-897F-1BE6E5E098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31E9DD-B463-42FD-A2E4-9178B297FF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A9C1A3-12EE-4C6A-9C39-39193F0F47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D86B6-E871-4041-9C01-2FAE91F47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74F21-5E6C-4CB7-AAB7-3D2A9B06F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CF6D2-B163-4498-908A-8227AABA2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8A124-1F62-4C18-A1E4-52B1D1856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F6D56-2543-422A-8515-01EC67B4F3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075267-9E55-4FFF-B7C9-A6ADF068A5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049033-7BBB-46CF-83E9-4281CF4EF2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E4E8F-DC86-4DBA-B13E-B62B14BD3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29031-0F1B-4AA6-B1B3-10C051863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32234-37CA-47B7-8EA8-4EC9110A8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B9C24-D501-4D68-9DC8-6F972E874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7261D-77BD-4A7B-AE44-E6DFFF706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6A401-DA0E-4671-9885-183856B3A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B2EAB-5D7B-4B79-A910-5118AF48AB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35BC9-9CA3-4157-A86D-6FB1E172A6F1}"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E368A-E278-4AEA-BD90-1DC928290D60}"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rPr>
              <a:t>Werken met een microscoop</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aak 2</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el werken met een microscoop</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Een microscoop kan de objecten (voorwerpen) die niet met het blote oog gedeelte waarneembaar zijn vergroten, zodat deze nu zichtbaar worde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Enkelvoudige microscopen (loep)</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Samengestelde microscopen: </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onoculair (1 oculair)</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Binoculair (2 oculair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engestelde microscoop</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engestelde microscopen bestaat uit meerdere lenzen</a:t>
            </a:r>
            <a:r>
              <a:rPr b="0" lang="en-US" sz="1800" spc="-1" strike="noStrike">
                <a:solidFill>
                  <a:srgbClr val="003366"/>
                </a:solidFill>
                <a:latin typeface="Arial"/>
              </a:rPr>
              <a:t> </a:t>
            </a:r>
            <a:r>
              <a:rPr b="1" lang="en-US" sz="1800" spc="-1" strike="noStrike">
                <a:solidFill>
                  <a:srgbClr val="003366"/>
                </a:solidFill>
                <a:latin typeface="Arial"/>
              </a:rPr>
              <a:t>en me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nderscheidt hierbij:</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sch gedeelt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tisch en belichtingsgedeelte</a:t>
            </a:r>
            <a:br>
              <a:rPr sz="1800"/>
            </a:br>
            <a:br>
              <a:rPr sz="1800"/>
            </a:br>
            <a:r>
              <a:rPr b="1" lang="en-US" sz="1800" spc="-1" strike="noStrike">
                <a:solidFill>
                  <a:srgbClr val="003366"/>
                </a:solidFill>
                <a:latin typeface="Arial"/>
              </a:rPr>
              <a:t> </a:t>
            </a:r>
            <a:endParaRPr b="0" lang="en-US" sz="1800" spc="-1" strike="noStrike">
              <a:solidFill>
                <a:srgbClr val="003366"/>
              </a:solidFill>
              <a:latin typeface="Arial"/>
            </a:endParaRPr>
          </a:p>
        </p:txBody>
      </p:sp>
      <p:pic>
        <p:nvPicPr>
          <p:cNvPr id="101" name="" descr=""/>
          <p:cNvPicPr/>
          <p:nvPr/>
        </p:nvPicPr>
        <p:blipFill>
          <a:blip r:embed="rId1"/>
          <a:stretch/>
        </p:blipFill>
        <p:spPr>
          <a:xfrm>
            <a:off x="3940200" y="4300560"/>
            <a:ext cx="1488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 </a:t>
            </a:r>
            <a:endParaRPr b="1" lang="en-US" sz="3600" spc="-1" strike="noStrike">
              <a:solidFill>
                <a:srgbClr val="006666"/>
              </a:solidFill>
              <a:latin typeface="Arial"/>
            </a:endParaRPr>
          </a:p>
        </p:txBody>
      </p:sp>
      <p:sp>
        <p:nvSpPr>
          <p:cNvPr id="103" name="PlaceHolder 1"/>
          <p:cNvSpPr>
            <a:spLocks noGrp="1"/>
          </p:cNvSpPr>
          <p:nvPr>
            <p:ph/>
          </p:nvPr>
        </p:nvSpPr>
        <p:spPr>
          <a:xfrm>
            <a:off x="914040" y="2286000"/>
            <a:ext cx="3770280" cy="3952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Statief (1)</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et (2)</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orwerp- of objecttafel met centrale opening; in veel gevallen voorzien van een kruistafel, zodat de preparaten in twee richtingen kunnen worden verplaatst. (3)</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tubus (4) met bovenaan een oculair, die verwisselbaar is en onderaan de zogenaamde revolver (5)</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acrometerschroef voor de grof-instelling (6)</a:t>
            </a:r>
            <a:endParaRPr b="0" lang="en-US" sz="2000" spc="-1" strike="noStrike">
              <a:solidFill>
                <a:srgbClr val="003366"/>
              </a:solidFill>
              <a:latin typeface="Arial"/>
            </a:endParaRPr>
          </a:p>
        </p:txBody>
      </p:sp>
      <p:sp>
        <p:nvSpPr>
          <p:cNvPr id="10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03366"/>
              </a:solidFill>
              <a:latin typeface="Arial"/>
            </a:endParaRPr>
          </a:p>
        </p:txBody>
      </p:sp>
      <p:pic>
        <p:nvPicPr>
          <p:cNvPr id="105" name="" descr=""/>
          <p:cNvPicPr/>
          <p:nvPr/>
        </p:nvPicPr>
        <p:blipFill>
          <a:blip r:embed="rId1"/>
          <a:stretch/>
        </p:blipFill>
        <p:spPr>
          <a:xfrm>
            <a:off x="4800600" y="2286000"/>
            <a:ext cx="3421080" cy="4076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1000"/>
                                        <p:tgtEl>
                                          <p:spTgt spid="103">
                                            <p:txEl>
                                              <p:pRg st="0" end="0"/>
                                            </p:txEl>
                                          </p:spTgt>
                                        </p:tgtEl>
                                      </p:cBhvr>
                                    </p:animEffect>
                                    <p:anim calcmode="lin" valueType="num">
                                      <p:cBhvr additive="repl">
                                        <p:cTn id="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1000"/>
                                        <p:tgtEl>
                                          <p:spTgt spid="103">
                                            <p:txEl>
                                              <p:pRg st="1" end="1"/>
                                            </p:txEl>
                                          </p:spTgt>
                                        </p:tgtEl>
                                      </p:cBhvr>
                                    </p:animEffect>
                                    <p:anim calcmode="lin" valueType="num">
                                      <p:cBhvr additive="repl">
                                        <p:cTn id="15"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1" dur="1000"/>
                                        <p:tgtEl>
                                          <p:spTgt spid="103">
                                            <p:txEl>
                                              <p:pRg st="2" end="2"/>
                                            </p:txEl>
                                          </p:spTgt>
                                        </p:tgtEl>
                                      </p:cBhvr>
                                    </p:animEffect>
                                    <p:anim calcmode="lin" valueType="num">
                                      <p:cBhvr additive="repl">
                                        <p:cTn id="22"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8" dur="1000"/>
                                        <p:tgtEl>
                                          <p:spTgt spid="103">
                                            <p:txEl>
                                              <p:pRg st="3" end="3"/>
                                            </p:txEl>
                                          </p:spTgt>
                                        </p:tgtEl>
                                      </p:cBhvr>
                                    </p:animEffect>
                                    <p:anim calcmode="lin" valueType="num">
                                      <p:cBhvr additive="repl">
                                        <p:cTn id="29"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5" dur="1000"/>
                                        <p:tgtEl>
                                          <p:spTgt spid="103">
                                            <p:txEl>
                                              <p:pRg st="4" end="4"/>
                                            </p:txEl>
                                          </p:spTgt>
                                        </p:tgtEl>
                                      </p:cBhvr>
                                    </p:animEffect>
                                    <p:anim calcmode="lin" valueType="num">
                                      <p:cBhvr additive="repl">
                                        <p:cTn id="36"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a:t>
            </a:r>
            <a:endParaRPr b="1" lang="en-US" sz="3600" spc="-1" strike="noStrike">
              <a:solidFill>
                <a:srgbClr val="006666"/>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icrometerschroef voor de fijn-instelling (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ze beide laatste schroeven hebben niet altijd een gemeenschappelijke a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houder (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schroef, waarmee de condensor op en neer kan worden verplaatst (9)</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revolver, die draaibaar is en waarin de objectieflenzen zijn geplaatst. (5)</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8" name="PlaceHolder 2"/>
          <p:cNvSpPr>
            <a:spLocks noGrp="1"/>
          </p:cNvSpPr>
          <p:nvPr>
            <p:ph/>
          </p:nvPr>
        </p:nvSpPr>
        <p:spPr>
          <a:xfrm>
            <a:off x="49525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3366"/>
              </a:solidFill>
              <a:latin typeface="Arial"/>
            </a:endParaRPr>
          </a:p>
        </p:txBody>
      </p:sp>
      <p:pic>
        <p:nvPicPr>
          <p:cNvPr id="109" name="" descr=""/>
          <p:cNvPicPr/>
          <p:nvPr/>
        </p:nvPicPr>
        <p:blipFill>
          <a:blip r:embed="rId1"/>
          <a:stretch/>
        </p:blipFill>
        <p:spPr>
          <a:xfrm>
            <a:off x="5029200" y="2057400"/>
            <a:ext cx="3124080" cy="4229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1000"/>
                                        <p:tgtEl>
                                          <p:spTgt spid="107">
                                            <p:txEl>
                                              <p:pRg st="0" end="0"/>
                                            </p:txEl>
                                          </p:spTgt>
                                        </p:tgtEl>
                                      </p:cBhvr>
                                    </p:animEffect>
                                    <p:anim calcmode="lin" valueType="num">
                                      <p:cBhvr additive="repl">
                                        <p:cTn id="4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1" dur="1000"/>
                                        <p:tgtEl>
                                          <p:spTgt spid="107">
                                            <p:txEl>
                                              <p:pRg st="1" end="1"/>
                                            </p:txEl>
                                          </p:spTgt>
                                        </p:tgtEl>
                                      </p:cBhvr>
                                    </p:animEffect>
                                    <p:anim calcmode="lin" valueType="num">
                                      <p:cBhvr additive="repl">
                                        <p:cTn id="5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8" dur="1000"/>
                                        <p:tgtEl>
                                          <p:spTgt spid="107">
                                            <p:txEl>
                                              <p:pRg st="2" end="2"/>
                                            </p:txEl>
                                          </p:spTgt>
                                        </p:tgtEl>
                                      </p:cBhvr>
                                    </p:animEffect>
                                    <p:anim calcmode="lin" valueType="num">
                                      <p:cBhvr additive="repl">
                                        <p:cTn id="59"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65" dur="1000"/>
                                        <p:tgtEl>
                                          <p:spTgt spid="107">
                                            <p:txEl>
                                              <p:pRg st="3" end="3"/>
                                            </p:txEl>
                                          </p:spTgt>
                                        </p:tgtEl>
                                      </p:cBhvr>
                                    </p:animEffect>
                                    <p:anim calcmode="lin" valueType="num">
                                      <p:cBhvr additive="repl">
                                        <p:cTn id="6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2" dur="1000"/>
                                        <p:tgtEl>
                                          <p:spTgt spid="107">
                                            <p:txEl>
                                              <p:pRg st="4" end="4"/>
                                            </p:txEl>
                                          </p:spTgt>
                                        </p:tgtEl>
                                      </p:cBhvr>
                                    </p:animEffect>
                                    <p:anim calcmode="lin" valueType="num">
                                      <p:cBhvr additive="repl">
                                        <p:cTn id="73"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ot het optisch en belichtingsgedeelte behor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iafragma, waarmee de lichthoeveelheid kan worden geregeld. Staat het diafragma geheel open, dan wordt het meeste licht doorgelaten. (1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culair(11) een verwisselbare lens die boven in de tubus is geplaats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bjectief(12) een verwisselbare lens die in de revolver is geplaatst. Meestal zijn er drie of vier objectieven in de revolver aanwezig zoals:</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van 1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4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100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71920" y="1405440"/>
            <a:ext cx="785736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3200"/>
            </a:br>
            <a:br>
              <a:rPr sz="1800"/>
            </a:br>
            <a:r>
              <a:rPr b="1" lang="en-US" sz="18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US" sz="3200" spc="-1" strike="noStrike">
                <a:solidFill>
                  <a:srgbClr val="006666"/>
                </a:solidFill>
                <a:latin typeface="Arial"/>
              </a:rPr>
              <a:t>belichtingsgedeelte</a:t>
            </a:r>
            <a:r>
              <a:rPr b="1" lang="en-US" sz="1800" spc="-1" strike="noStrike">
                <a:solidFill>
                  <a:srgbClr val="006666"/>
                </a:solidFill>
                <a:latin typeface="Arial"/>
              </a:rPr>
              <a:t>  vervolg</a:t>
            </a:r>
            <a:r>
              <a:rPr b="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ensor (13), een stelsel van lenzen dat het licht zodanig verzamelt dat de lichtstralen op de juiste wijze van onderen op het preparaat worden gericht. De condensor kan op en neer worden bewogen. In de hoogste stand wordt het meeste licht doorgelaten. De condensor blijft dan ook vaak in de hoogste stand sta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mp (spiegel), die tot taak heeft dat er zoveel mogelijk licht door de condensor gaat. (14)</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spiegel is ook vaak vervangen door een ingebouwde lamp, die het licht rechtstreeks door de condensor laat gaan. De lichtsterkte kan dan met behulp van een transformator worden geregel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merkinge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 totale vergroting van een voorwerp wordt verkregen door de vergroting van een oculair te vermenigvuldigen met de vergroting van een objectief In een huisartsenlaboratorium wordt een microscoop gebruikt voor bijvoorbeel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een huisartsenlaboratorium wordt een microscoop gebruikt voor bijvoorbeeld:</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urinesedimen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fluorpreparaa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tellen van het aantal leukocyten in het bloed;</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bloeduitstrijkje;</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methyleenblauwpreparaat om de vorm van de bacteriën vast te stell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0:45:55Z</dcterms:created>
  <dc:creator>Haverkort</dc:creator>
  <dc:description/>
  <dc:language>en-US</dc:language>
  <cp:lastModifiedBy>Haverkort</cp:lastModifiedBy>
  <dcterms:modified xsi:type="dcterms:W3CDTF">2010-09-12T11:41: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