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8DF31-B92B-4CAD-A1BA-F4DEDB37C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A8488-F58E-4476-A963-443346E2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7ECFC-6935-4FF9-9E58-D8D2B7C6E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E7912-0D9E-4BA9-B347-489D0BC0B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B11C-34BE-484A-90E2-473619E59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9038-76E2-4474-9958-0DCA9979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09C3-89A1-4663-9F43-DBBDB5B8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0641B-4D41-4E00-962E-1ACC578A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6611-015B-41EB-B45D-27349287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D931-DC48-439F-8537-C45764B8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2D5F-927A-40E0-A987-014CDD0C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21605-A5E9-427E-B581-D39AB3DD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C5F5E-9190-49FB-9101-82E1EFF7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0133-A35B-407D-9FBB-91CD062B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2FC3-00F9-4DEA-B146-E887B78F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BF829-0861-4DA0-A516-B1858C4E8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8F4A-EC60-488B-A756-E3A0324F9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27449-C751-48B4-B243-E3A6B9110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20CCF-61A6-47B1-B094-E3D91B7C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1DCFB-CF3E-4FFE-950C-84FF393F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033B2-ECA3-4197-B8A4-32293FD6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B8FE5-1C07-49C9-82B1-E3F625E1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83478-ECBF-4703-9955-F9818312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5C027-357D-4176-B1D1-B17FC179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866EE-79A9-487D-94EC-3C7F8F55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BA8CF-E9EC-4CC7-9338-AC9EC81F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47355-1296-47B0-8B07-55A265DC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B2303-5DE1-4C9B-8340-43222C33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44C96-8B7B-4A1D-A056-7B8BB3228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698D2-5EBC-4DAD-A66D-D029DC8CC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FD8D4-D5A9-4F21-9E2E-24753C993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95B8F-259A-4D25-971C-2067BB63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FA75C-3D8C-4C8E-9F94-4920EBEC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702F4-82C1-4C42-A66D-3D80EE33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3BC1E-F698-493F-8068-9AE90CAC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F7153-8B35-41B8-8A91-AF29AFEA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C1441-516F-4108-9EF0-7A353EF0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457FB-6840-46A4-8CA2-D071593B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7F829-2B25-4939-B8E2-F618C30B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7C891-86AD-4B5E-B43D-DDCD1F72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7E787-14C5-4763-8FAA-CC513C60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5642B-F64E-40AF-BA91-ED6D65FFB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F6134-4905-4201-A659-FED6FBE1A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91151-B0F3-480A-A24F-2DF16767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42F0B-9AC9-4ABC-982F-6AFC1ECD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F1A87-09F6-4521-BB09-508E556F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63E21-E901-4165-9FA1-18BE100C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418AD-315E-4DBC-807F-35B068AF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5BB6-6727-4261-8C7D-0C8A6191C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402A-DAFD-4D99-A40C-C7E2F0531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CCC3-B653-4391-96E3-811AF62934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AF4B-AD2E-4F09-8F85-AE30CD49CE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685800"/>
            <a:ext cx="7391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zwak 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laag: veel eiwit, koorts, jicht, C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hoog: urineweginfectie, hyperventi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verandert van kleur (mengindica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ebruik verse urine i.v.m. kans op foutief verhoogde 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ff"/>
                </a:solidFill>
                <a:latin typeface="Garamond"/>
              </a:rPr>
              <a:t>Semi-kwantitatief chemisch urineonderzoek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58760" y="250920"/>
            <a:ext cx="898524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l inzicht in kiemgetal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iemgetal: aantal bacteriën per ml u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diagnose cysitis (blaa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beide zijden voedingsbodem met suikers, eiwitten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één kant groeien allee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andere kant Gram-positieve é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Gram positieve en negatieve bacteri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57200" y="2814480"/>
            <a:ext cx="4038480" cy="2448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648320" y="2725560"/>
            <a:ext cx="403848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58760" y="250920"/>
            <a:ext cx="89852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</a:t>
            </a: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Gram-negatiev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onokokken (gonorro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.coli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yfus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Gram-positieve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afylokokken (MR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reptokokken (keel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neumokokken (long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uberkelbacteriën (tuberculo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oorzakers urineweginfectie meestal Gram-negat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8760" y="250920"/>
            <a:ext cx="89852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bruik gewassen mid-stream ochtendurine (max. 2 uur oud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us voor urineren blaasuitgang wa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rste deel van de plas niet opva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 16-24 uur bij 37°C incuberen resultaat aflez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negatieve bacteriën/ml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minder da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geen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uss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test herha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380880"/>
            <a:ext cx="769644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ierdrempel gluco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10 mmol/l, indien hoger: glucos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(redoxreactie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lucose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G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gluconzuur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indicator + P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kleuromsl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14400" y="457200"/>
            <a:ext cx="7696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iwit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eiwitvri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iwit in urine: proteïnurie of albumin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van belang voor diagnostiek van nierziek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of troebelingsrea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: aanwezig eiwit (zure urine)verkleurt de zuur-base indicator, geel -&gt; (licht) gro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roebelingsreactie: koken in zuur milieu geeft troebeling (kookproef  van Ba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14400" y="609480"/>
            <a:ext cx="7238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tri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urineweginfecties door E.coli, Klebsiella e.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 alleen vo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trietvormen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verige bacteriën aantonen d.m.v. dipslide en/of sedi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voorkeur verse ochtendurine gebrui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romatisch amine + nitrie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-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14400" y="914400"/>
            <a:ext cx="693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Leuk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ontstekingen va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ucocytenesterase splitst stof teststrookje, kleuromslag beige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-violett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 alleen gevoelig voor granul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914400"/>
            <a:ext cx="7924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rythrocyten e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bloedingen en ontstekingen i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2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2O + O2 o.i.v. pod activiteit h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+ 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e/groene 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vrij Hb hoger dan voor intacte ery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14400" y="533520"/>
            <a:ext cx="78487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eto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geen ketonen aanwezi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ketonen met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itroprusside-natrium + ketone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aars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een reactie met aceton en acetylazijn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acetylazijnzuur 10x hoger dan voor ace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533520"/>
            <a:ext cx="8229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iliru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niet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: afsluiting galtoevoer (stenen), leverziekten (hepatit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Urine donker bewaren i.v.m. afbraak bilirubine o.i.v. UV-l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schudproef: na schudden geel schu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lirubine + diazoniumzou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/paars in zuur mili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38080" y="914400"/>
            <a:ext cx="7086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robilinog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spoortje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erse urine gebruiken i.v.m. omzetting in urobiline o.i.v. O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ernstige hemolyse of leverfunctiestoorni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robilinogeen geeft in zuur milieu een 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9:31:38Z</dcterms:created>
  <dc:creator>Haverkort</dc:creator>
  <dc:description/>
  <dc:language>en-US</dc:language>
  <cp:lastModifiedBy>Haverkort</cp:lastModifiedBy>
  <dcterms:modified xsi:type="dcterms:W3CDTF">2010-06-07T14:04:1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