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BBFDD-7A47-49F7-8CC1-669D100FB16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280BD-A154-44C9-87BB-FEF29C3B31C9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E4232-88F7-4272-8CE9-A8FA98348B77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9FA7C-CE0E-4CC7-A186-0D8084112570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F6B04-57F7-47CB-B2D2-123F526F5664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3AD69-CD1C-4812-866C-07CA41220D51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03EEB-8270-4FE4-A5D4-B772FF33CAE7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E93A-AA65-48F7-85B8-B218D3587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FF1B-D2C3-4A7D-8949-663915720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CBDB-263C-430F-9AF3-71119CD08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888C-7040-48D4-8836-66AA2E6BC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CBB76-F38C-4ED6-A56E-09A217D37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20B94-D8AA-4BC5-97C9-74F7ED867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8532F-B9B5-4DFB-B937-85501A090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10C12-D96D-403B-9E1D-A6D5ADE61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D212B-AB5F-48A4-9E9F-3842CB72E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2DCBD-0DD3-489D-A1EC-A53FAC942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1C054-C4E9-4291-972F-B346CA8C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A7C3-6F5F-462E-A5EA-F650E337E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FA3B7-7EF0-47B8-BA76-0F312F6A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F7F30-045A-4EE4-AC86-627B04B5E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4519D-C324-4B0A-801B-0C13227CC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1547D-DEF0-4D04-98E5-0D6CC0222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8A6FA-8E41-4E6F-B7A6-0DCC2B9CF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44A1-91E8-40E6-9812-504A584C0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1F0B-ADBA-4532-8CC9-FD87DB1AF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4E26-B137-4E82-A202-2CF14E407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A6F0-C24C-4223-8ABD-494FD6416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C1E5-3681-4FC9-A12C-245D2FC17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054A-9CCC-4DF2-B07F-1BF004D1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360F-AE95-4072-BC94-2D8B5D3E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3BA65-F011-4F52-A544-1AF0F39DE9E4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0609B-EAD8-4D06-9F7D-F8AC28B2C572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dbbd71"/>
                </a:solidFill>
                <a:latin typeface="Arial"/>
              </a:rPr>
              <a:t>Urin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Geproduceerd in ni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Bevat onbruikbare stoffen, veelal eindproducten stofwissel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Voorbeelden: natrium, kalium, ureum, kreatinine, chloor, fosfa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Laboratoriumonderzoek geeft informatie ove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Eventuele stofwisselingsstoorniss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erking van organ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dbbd71"/>
                </a:solidFill>
                <a:latin typeface="Arial"/>
              </a:rPr>
              <a:t>urin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330800" cy="47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Diurese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uitscheiding van ur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Oligurie: uitscheiding ↓ (opname ↓, afgifte ↑, oedeem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Polyurie: uitscheiding ↑ (opname ↑, D.M., nieraandoeninge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Anurie: tijdelijk geen uitscheiding (prostaatvergroting, stene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AutoShape 10"/>
          <p:cNvSpPr/>
          <p:nvPr/>
        </p:nvSpPr>
        <p:spPr>
          <a:xfrm>
            <a:off x="16344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AutoShape 12"/>
          <p:cNvSpPr/>
          <p:nvPr/>
        </p:nvSpPr>
        <p:spPr>
          <a:xfrm>
            <a:off x="16344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13" descr="Pl_doorsnedenier"/>
          <p:cNvPicPr/>
          <p:nvPr/>
        </p:nvPicPr>
        <p:blipFill>
          <a:blip r:embed="rId1"/>
          <a:stretch/>
        </p:blipFill>
        <p:spPr>
          <a:xfrm>
            <a:off x="4932360" y="1989000"/>
            <a:ext cx="388944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222480" y="250920"/>
            <a:ext cx="842076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Urineonderzo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schillende soorten urineonderzoek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Fysisch (volume, kleur, helderheid, geu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Chemisch (stoffen aan te tonen met chemische reacti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walitatief: aanwezig of niet (neg, 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1+, 2+, 3+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emi-kwantitatief: indruk hoeveelheid (niet exac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wantitatief: exacte hoeveelheid (mmol/l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µ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mol/24uu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Microscopisch (urinesedimen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158760" y="351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dbbd71"/>
                </a:solidFill>
                <a:latin typeface="Arial"/>
              </a:rPr>
              <a:t>Urineonderzoek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eestal voorkeur verse ochtendurine, soms 24-uursurin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Verse urin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leur en pH niet verander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inder troebelingen door bacteriegroei en zoutneersla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Eventueel aanwezige aceton niet vervluchtig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Ochtendurin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Voordeel: vrij sterk geconcentreer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Nadeel: bij lichte diabetes kan glucose gemist word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185760" y="250920"/>
            <a:ext cx="729288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Urineonderzo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24-uursurin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zameld over precies 24 u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chtendurine eerste dag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niet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meenem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chtendurine tweede dag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wel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meenem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Alle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tussentijds geproduceerde urine verzam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158760" y="476280"/>
            <a:ext cx="897264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Fysisch urineonderzo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oeveelheid: 1-2 liter per da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SPEC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leur: helder geel, voornamelijk door urochro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elderheid: verse urine is helder. Na afkoeling soms troebe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ur: bouillonachtig. Soms afwijkend door voeding of medicati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158760" y="25092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Urine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Tahoma"/>
              </a:rPr>
              <a:t>Semi-kwantitatief chemisch urineonderzoek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ahoma"/>
              </a:rPr>
              <a:t>-&gt; volgt bij urinestickreac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1T13:23:04Z</dcterms:created>
  <dc:creator>Harry Kuipers</dc:creator>
  <dc:description/>
  <dc:language>en-US</dc:language>
  <cp:lastModifiedBy>Haverkort</cp:lastModifiedBy>
  <dcterms:modified xsi:type="dcterms:W3CDTF">2015-10-07T18:10:47Z</dcterms:modified>
  <cp:revision>29</cp:revision>
  <dc:subject/>
  <dc:title>Dia 1</dc:title>
</cp:coreProperties>
</file>